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6244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E97BA3-E44E-42F7-9312-259DD4001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777A75-332F-443D-BE89-E5B4C4595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7C2B0-FEBC-4D30-B1D3-0FFBE2A48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35608B-6ABD-4F5F-A4DB-3E9764D344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8AD0E9-41CC-4DF0-B04B-E3CCC694A5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2C0F75-3716-4E77-A36B-819D0E5722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834767-66B4-4177-AA23-8BA89A93FD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F1FFC0-306E-438D-87C3-C56837ECC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DA665D-D862-4F6B-83AA-7F6A2F86A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6076CF-688F-467C-9DA4-DC6850FC6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1662A4-3DF2-4E1F-A9C2-FCE675CB5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12E89C-2613-4160-9D1C-86E3787F2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1DE1AC-6F97-493B-BEB7-FB69BBE5B5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07B3FC-F53C-449B-8D12-EDDBD9400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76F7B9-D1E9-4533-8B62-CFC02E5AD4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D5C5E6-CEB4-49FE-BF60-3C3A9E1D4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C971A9-F5E1-47B4-B472-D962967792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5A8D19-55B9-4E04-AA43-700BD97C0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45D762-D664-4964-ACEA-1CFCDAE568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C41AD7-1D3F-4EAA-9076-35A0E2496D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116FF3-3430-481E-B7F8-F820A3B7DD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65B147-BAD2-4849-AA45-1D0BEED14C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A21AAC-272A-4973-95B2-ACF3F3CD7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1CA605-C043-44F6-9073-5DE98F3CE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CB8020-9F3A-4154-828B-EF1EF7893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58D04A-8BAD-4F65-AF27-040766B424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4DE242-3A86-45C6-8739-B1C900F6D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EFB4AB-CBF1-4121-B754-A12BCCAE3B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6A8285-E6ED-4F1F-94EB-216DFB934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D955EC-5EA2-4907-940A-9CB711A62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C81D1C-CB4F-485A-98B4-ACF1077E03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4C402D-0E05-432E-942A-C117E4A8E0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7B0A81-74BF-4AF7-A4EC-DCA383F0A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E35745-B2FE-46E8-9EA5-3E7EA5952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4835EF-193D-4999-A0AC-6A2F7EF6B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A1023C-2ADF-494A-9D94-FA4A041533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7EE32D-31A6-4520-8B4B-BFCA46350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AEAD84-DF62-43BC-9D5A-E25961ADFE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C48E8B-C835-43F3-ABE0-B98904F93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B97651-B9A2-4DD2-82AD-B1BAA3729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CF26B3-D607-423D-A9E3-B2AE13EAF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626A3C-28B1-431E-B553-4F9FE34D88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40AB25-7A02-4F7E-AEFC-4A772B87A2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B1C44F-D737-4699-87C7-A5DE7CB66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9E6CBC-1CC6-45B0-A29A-9616CB957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F8FA2E-3589-4421-90E5-6449C7F7C3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F85207-FBA0-4828-BA00-252AB1A77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A11265-B8EA-40FA-A041-421676071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575CE5-185A-4C89-8392-CCA56A75B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18D5C1-053D-4BC3-B626-A7250184A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66FE06-2D28-4F0F-BED6-272457568E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18D117-DF09-4E14-AF3A-EA49826AC3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745014-DD1F-4FDD-92A4-4B4E018BE6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16C45A-4709-430C-B817-7A11358B2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E2A241-1B71-4B24-B8F6-4A9AFDA420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9C7C35-A513-47FE-8962-589B635A84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C27C1B-DBBE-45B6-888A-6795B37AF0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F914FE-8A38-4A84-9E66-9AE9784639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302680" y="65530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-  </a:t>
            </a:r>
            <a:fld id="{CB660669-CAE1-40B9-9F1D-E1B9F1B3286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5889600" y="6453360"/>
            <a:ext cx="23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90612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560520" y="3645000"/>
            <a:ext cx="8659800" cy="0"/>
          </a:xfrm>
          <a:prstGeom prst="line">
            <a:avLst/>
          </a:prstGeom>
          <a:ln w="88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2160" y="106668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楷体_GB2312"/>
              </a:rPr>
              <a:t>新闻写作培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3800" y="4495320"/>
            <a:ext cx="69339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年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83808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990720"/>
            <a:ext cx="876312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定义。消息是用概括性的叙述方式，以简明扼要的文字，迅速及时地报道新近发生或发现的、有报道价值的、群众最关心的事实的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要素。一条完整的消息，一般要具备六个新闻要素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西方称为五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组成：消息一般由标题、导语、主体、背景材料和结尾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62120" y="1066680"/>
            <a:ext cx="82296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事实说话。通常一事一报，主要用事实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时效。在新闻体裁中，消息是最迅速、最及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。消息篇幅要短，文字要简，主要用概述方式将最主要、精彩的内容反映出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5916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动态消息：是对新近发生或正在发展的为群众关注的事件的报道。它强调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，既要反映动态的事实，又要动态地反映事实。这类消息数量最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综合消息：是围绕一个主题，综合反映不同地区或单位相同或类似情况的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经验消息：是以消息的形式集中报道某地区或某部门、单位在某项工作中取得的成功经验，以带动全局，指导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1066680"/>
            <a:ext cx="6095880" cy="4953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不重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477120" y="1143000"/>
            <a:ext cx="3124080" cy="4876920"/>
          </a:xfrm>
          <a:prstGeom prst="flowChartManualOperation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倒金字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8600" y="990720"/>
            <a:ext cx="9372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非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顺序结构：按照事件顺序开展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并蒂式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一主题下罗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以上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04920" y="9907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去年经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署今年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2895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市工作会议召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6320" y="4038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作工作报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526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97180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7652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18148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04920" y="2666880"/>
            <a:ext cx="495288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990720" y="1066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04920" y="1143000"/>
            <a:ext cx="495288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380880" y="4343400"/>
            <a:ext cx="487692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5257800" y="2666880"/>
            <a:ext cx="441972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题（主题），揭示消息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事实和主要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5334120" y="990720"/>
            <a:ext cx="426708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5334120" y="4191120"/>
            <a:ext cx="434340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辅题（副题、子题），补充正题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披露消息中某些具体的、重要的细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67057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5410080" y="1219320"/>
            <a:ext cx="4267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题（肩题、眉题）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交待背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条件、来源，阐明消息的实质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583200" y="17604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标题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685800" y="57913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标题是消息的眼睛，是消息的内容精萃所在，也是作者的倾向所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它是留给读者的第一印象，拟得好，可以传导全文的核心，起到吸引读者的作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60080" y="357120"/>
            <a:ext cx="12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导语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990720"/>
            <a:ext cx="9448920" cy="556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就是导读的语言，它是消息开头的第一句或第一段话。从消息的结构顺序讲，指的是概括消息中心内容的开端部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的分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叙事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议论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写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引语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比兴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40520" y="257040"/>
            <a:ext cx="12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体是消息的主干，即正文。它以充分的、有说服力的材料来展示新闻的具体内容。一是解释和深化导语，二是补充导语所没有涉及的新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990720"/>
            <a:ext cx="960120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要注意顺序。主体部分或用时间顺序安排层次，或用逻辑顺序安排层次，这要根据内容和要表达的主题而定，都要求清晰紧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顺序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，材料要充实，让事实说话。新闻中的思想性和指导性，主要应该通过那些既能体现社会本质规律和发展方向，又有鲜明个性的典型材料来体现。（多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多问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，语言简洁、精炼、准确、通俗。由于新闻以阐述事实为使命，所以，语言简洁、准确成为新闻语言的基本审美特征。同时，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泛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化的影响，新闻语言讲究精炼和通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四，转折自然，层次清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新闻像剥洋葱，从一个微笑的细节开始，一直到最核心、最隐秘的部分，这中间有一段漫长的路要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戴安娜事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914400"/>
            <a:ext cx="77724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搞好新闻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48600" y="333360"/>
            <a:ext cx="21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用好新闻背景材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066680"/>
            <a:ext cx="21337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背景材料指消息发生的背景条件以及与社会环境的联系。它可以烘托新闻人物与事件，深化主题，增加消息的知识性、可读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14600" y="990720"/>
            <a:ext cx="71629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比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日与昔日对比、正与反对比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货作为企业一项重要的资产，对企业的经营成果影响重大。针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均突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.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以上，已超过省公司下达最高存货限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现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截止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存货积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库存商品的报账滞后得到一定解决。财务报表数据显示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已控制在省公司存货限额内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14600" y="2666880"/>
            <a:ext cx="7162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、地理、文化及新闻产生的背景等；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溪村，一个曾经周发生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治安案件的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村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近一个月来，竟然没有发生一次案件。有细心的护村队员发现，曾经被他们重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控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几个劣迹斑斑的租房者已经退房离开了，是什么让迎溪村蜕变成功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金汁河畔城乡结合部的迎溪村，记者一眼就看到了村口一根高耸的电杆上的圆形电子监控设备，这就是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球眼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514600" y="4800600"/>
            <a:ext cx="7162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释性材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概念、术语及有关专业知识进行解释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066680"/>
            <a:ext cx="899172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的结尾非常重要。它可以指出事件的发展趋势，阐明新闻价值，发表作者的见解，启发引导读者积极思考等作用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刀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评论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发表评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结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启发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发读者对新闻事件进行更深入的思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展望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提示读者通过新闻事件对未来进行展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别人的语言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背景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新闻事件背景叙述来结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数字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数字展示新闻事件的结果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补充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相近的新闻事例加深对新闻主体的说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0880" y="990720"/>
            <a:ext cx="922032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评论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总结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展望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引用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数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1295280"/>
            <a:ext cx="784836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通讯写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04920"/>
            <a:ext cx="43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2597040"/>
            <a:ext cx="4991040" cy="122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通讯是以叙述、描写为主要表达方式，将具有新闻价值的人物或事件及时、具体、生动地予以报道的新闻体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867280" y="1066680"/>
            <a:ext cx="29718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5943600" y="1447920"/>
            <a:ext cx="35053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7848720" y="1905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7772400" y="2362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7848720" y="2286000"/>
            <a:ext cx="9144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8305920" y="22096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6400800" y="13716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动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5867280" y="2743200"/>
            <a:ext cx="2971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867280" y="4495680"/>
            <a:ext cx="32004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6477120" y="32004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完整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6553080" y="5029200"/>
            <a:ext cx="15242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评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3520" y="11430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物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520" y="3809880"/>
            <a:ext cx="19047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3520" y="25146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件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5105520"/>
            <a:ext cx="1904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貌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267080" y="16002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33412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791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48520" y="16002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954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2057400"/>
            <a:ext cx="2819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2485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624852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191120" y="1054080"/>
            <a:ext cx="5410080" cy="103608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人物的思想、言行、事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命运为报道内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5190480" y="2747880"/>
            <a:ext cx="339876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以具典型意义的事件为报道对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4191120" y="3809880"/>
            <a:ext cx="541008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某单位先进事迹，传播其典型经验和做法，以指导一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4191120" y="5181480"/>
            <a:ext cx="5495760" cy="9471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述某地区、部门、行业、工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面貌、新气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2438280" y="12193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2438280" y="26668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2438280" y="40384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2438280" y="53341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1523880" y="2286000"/>
            <a:ext cx="640080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工作通讯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挖掘新闻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44792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真正有传播价值的新闻人物和事件，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挖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出来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80880" y="3092400"/>
            <a:ext cx="5486400" cy="18003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有偶然性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人们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眼光评判文章优劣，因而忽视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采访就可发现新闻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错误观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746748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867280" y="1295280"/>
            <a:ext cx="381024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再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853452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629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7620120" y="24382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238880" y="2438280"/>
            <a:ext cx="990720" cy="198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6477120" y="3124080"/>
            <a:ext cx="7617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73915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7391520" y="2362320"/>
            <a:ext cx="3808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229600" y="2743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69343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7391520" y="1219320"/>
            <a:ext cx="228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762012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7391520" y="2362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7772400" y="251460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8077320" y="3200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8534520" y="3352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6"/>
          <p:cNvSpPr/>
          <p:nvPr/>
        </p:nvSpPr>
        <p:spPr>
          <a:xfrm>
            <a:off x="723888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0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7620120" y="2743200"/>
            <a:ext cx="759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3"/>
          <p:cNvSpPr/>
          <p:nvPr/>
        </p:nvSpPr>
        <p:spPr>
          <a:xfrm>
            <a:off x="73152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6"/>
          <p:cNvSpPr/>
          <p:nvPr/>
        </p:nvSpPr>
        <p:spPr>
          <a:xfrm>
            <a:off x="6248520" y="4191120"/>
            <a:ext cx="358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脑中有，脚下才有；脚下有，笔下才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挖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四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152280" y="9144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敏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152280" y="2362320"/>
            <a:ext cx="358164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预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28600" y="36576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80880" y="50292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确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29200" y="114948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我听到这个就特别兴奋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冲动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3733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029200" y="259092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的这个敏感符合形势和事态发展的自然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80988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029200" y="380988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这件事情最值得报道的东西是什么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化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9625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105520" y="518796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要告诉读者的就是这个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最后认定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提炼主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38080" y="1066680"/>
            <a:ext cx="80010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凤凰落在梧桐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树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穿珠红线在何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绿叶衬得红花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玩味再三意更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09480" y="2819520"/>
            <a:ext cx="8686800" cy="1922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主题先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凤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正确的主题有利于提高采访、报道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材料充足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梧桐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材料充足才能游刃有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组织有序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穿珠红线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找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线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剥茧抽丝，串起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轻重有度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绿叶红花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对材料的使用或轻描淡写、或浓墨重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-11430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探讨的主要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62120" y="1066680"/>
            <a:ext cx="79246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消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工作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性报道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做一个合格的通讯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使用背景材料的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09480" y="995400"/>
            <a:ext cx="8991720" cy="27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华文新魏"/>
              </a:rPr>
              <a:t>对新闻做解释的时代已经到来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表现新闻主题的需要出发：帮助主题、证明主题，为主题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量体裁衣、灵活得当：深度报道、解释性报道需要多用；动态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息、简讯之类少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宜少不宜多，宜简不宜繁：背景材料属于从属地位，切勿喧宾夺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考虑受众需求：对不宜理解或疑惑之处加背景，对受众易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明白无误的新闻事实则没必要画蛇添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根据表达内容的需要灵活处理：可以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化整为零，根据需要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7339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敏感四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152280" y="1143000"/>
            <a:ext cx="236232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针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52280" y="2209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新鲜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228600" y="3352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差异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28600" y="4495680"/>
            <a:ext cx="228600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5029200" y="136224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写这个不写那个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5029200" y="22860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重要的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5029200" y="3429000"/>
            <a:ext cx="44956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两头是新闻，中间是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5029200" y="449568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象最深的就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3276720" y="1447920"/>
            <a:ext cx="75960" cy="75960"/>
          </a:xfrm>
          <a:prstGeom prst="rightArrowCallout">
            <a:avLst>
              <a:gd name="adj1" fmla="val 25002"/>
              <a:gd name="adj2" fmla="val 12500"/>
              <a:gd name="adj3" fmla="val 16667"/>
              <a:gd name="adj4" fmla="val 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3048120" y="1219320"/>
            <a:ext cx="1143000" cy="1922760"/>
          </a:xfrm>
          <a:prstGeom prst="rect">
            <a:avLst/>
          </a:prstGeom>
          <a:solidFill>
            <a:srgbClr val="ff99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行业新闻各地雷同，运作时间、方式基本一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23880" y="2286000"/>
            <a:ext cx="7467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分析性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7200" y="1289160"/>
            <a:ext cx="8610480" cy="764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新魏"/>
              </a:rPr>
              <a:t>分析性报道就是合理运用背景材料，通过多角度、多侧面、全方位、立体化的分析，揭示新闻事件或新闻现象的实质或意义，以及预测其发展趋势的一种深度报道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释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04920" y="990720"/>
            <a:ext cx="9372600" cy="383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（分析性）报道是一种作解释或作分析的报道，也就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深度的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它是一种加背景给新闻揭示更深一层意义的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特律新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论作家杰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谓解释性（分析性）报道，就是在报道新闻事件中补充新的事实，即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历史性的、环境性的、简历性的、数据性的、反应性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事实，这样就能使正在发生的新闻事件更加明白易懂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新闻学教授卡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兹特诺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是把今天的事件置于昨天的背景之下，从而揭示出它对明天的含义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报人罗斯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拉蒙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括起来，似乎可以说，解释性（分析性）报道是一种背景性新闻，是通过大量使用背景材料，揭示新闻事件的来龙去脉和深层意义的分析性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人民大学新闻系教授刘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6400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为什么分析性报道越来越受重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28600" y="1066680"/>
            <a:ext cx="441972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纸报道文体的演变历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政论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客观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解说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分析性报道）时期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0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095880" y="419112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为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095880" y="525780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是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971800" y="434340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85800" y="42670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9"/>
          <p:cNvSpPr/>
          <p:nvPr/>
        </p:nvSpPr>
        <p:spPr>
          <a:xfrm>
            <a:off x="4952880" y="1066680"/>
            <a:ext cx="455796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代变迁导致的文体演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：媒体异质竞争与同质竞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：社会环境更加复杂，信息量大，新问题多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：读者的阅读口味变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80880" y="3433680"/>
            <a:ext cx="9220320" cy="39888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各种新闻事件接踵发生，而这些事件本身毫无疑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李普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范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0880" y="1847880"/>
            <a:ext cx="2438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解释性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述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背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124080" y="152892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前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本报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是消息的标志，在这里只是一种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124080" y="262584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以新闻特稿的方式发出，无法用传统方法区分其新闻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1905120" y="5257800"/>
            <a:ext cx="91440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809880" y="5029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1143000" y="4191120"/>
            <a:ext cx="7772400" cy="1752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191120" y="533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2133720" y="4114800"/>
            <a:ext cx="5943600" cy="1905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彩云"/>
              </a:rPr>
              <a:t>不好界定；不好操作；采写难度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68360" y="1066680"/>
            <a:ext cx="882792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素，追根究源，深挖新闻背后的新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闻六要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的新闻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（打破客观报道事实的方式，加入记者的分析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57200" y="1066680"/>
            <a:ext cx="88390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注重纵横联系，把新闻事件或现象放在一定的社会背景和时代背景下面来分析，或者把单一的、孤立的新闻事件与其它事件相比较、相联系，揭示其蕴含的意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纵的方面（历史、发展演变过程）挖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横的方面（周边环境、同类对比）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27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0880" y="1219320"/>
            <a:ext cx="8991720" cy="451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大量使用背景材料来解释、分析新闻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，也就是说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实说明事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报道中，为防止喧宾夺主，往往限制背景材料的运用；背景材料只是对新闻局部加以参照、注释和说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以运用背景材料见长，背景材料处于举足轻重的地位；通过背景材料的运用表达主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43000" y="1536840"/>
            <a:ext cx="7238880" cy="280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关于新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327320"/>
            <a:ext cx="8381880" cy="43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夹叙夹议是分析性报道在写作方式上的一个重要特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分析性报道的议论与评论中议论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主观色彩少，通过事实的报道来实现；记者避免直接发议论，借权威人士之口来说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中央电视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焦点访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名言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事实说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28600" y="23328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609480" y="1143000"/>
            <a:ext cx="8553600" cy="464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题决定分析性报道的成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什么都能成为分析性报道的题材，只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具有显著新闻价值、读者普遍关心、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影响较大的新闻，才能作为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选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的来说，抓分析性报道要站在全局的高度，密切关注产业的发展，捕捉那些整个行业关注的重点、热点、焦点、难点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838080"/>
            <a:ext cx="876312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点挖掘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对刚刚发生的重大新闻事件进行深入的、全面的分析，揭示出这个新闻事件背后的深层次原因和实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较强的新闻敏感，出手要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美国世界通信公司制造假账事出有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类归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题材是从一系列新闻事件中归纳出来的，是对人们所关心的一种社会现象的综合归纳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快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通信业恶性竞争加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业务增量不增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57200" y="1143000"/>
            <a:ext cx="87631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红线穿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散的、割裂的的新闻进行关联，用一根红线把他们穿起来，从而揭示其意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做有心人，善于思考和推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戴安娜去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09480" y="3733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" y="3355920"/>
            <a:ext cx="8763120" cy="2189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政策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针对国家或行业一段时期的重大方针政策或战略举措，适时开展深入的解释性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编辑部有强烈的政策敏感，能够配合行业发展形势策划、组织战役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关于和谐社会、和谐行业、和谐企业的系列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电信战略转型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28600" y="1114560"/>
            <a:ext cx="9296280" cy="37735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趋势展望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对行业发展动向、趋势的预测与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具有深刻的洞察力和判断力，善于见微知著，预测出事物的发展方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的三篇展望性报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竞争：从弯道追赶到直道较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技术：从全面突破到系统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需求：从初步适应到深入支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采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尽可能地搜集背景材料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拟定详细的采访提纲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提问和追问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观察和倾听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采访手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作持久采访的准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68360" y="1371600"/>
            <a:ext cx="8229600" cy="446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进行专业化的分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具备了足够的经济、行业方面的知识，准确把握住了行业发展的方向，并且善于运用现代经济学和产业经济学的观点和思维方式观察、分析、评价行业活动，才能够深刻揭示其背后的规律和趋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电信月租费的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0880" y="1066680"/>
            <a:ext cx="8229600" cy="80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通俗化的表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要有专业的分析水平，又要能够实现通俗化的表达，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主题，软表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浅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表达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避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行看不上，外行看不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学会科普式文章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科学地调遣背景材料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注意逻辑性，在充分研究、透彻理解材料的基础上，可以按照材料的时间先后或重要程度，安排新闻结构，揭示各部分材料与新闻事件之间的内在联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全球电信业为何深陷低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投资过度、扩张过度、竞争过度、炒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57200" y="1066680"/>
            <a:ext cx="861048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巧妙地表达记者的观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来说，分析性报道不允许作者直接站出来发表议论，表明自己的观点，而是要把自己的观点隐藏在对事实的叙述之中，通过对事实和背景性材料的综合分析，达到议论的目的，阐明记者的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即使要直接说明观点，也要借专家学者和权威人士之口说出来，这样可以增强文章的可信性和说服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：不能假借别人之口说自己的观点，这违背新闻职业道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闻的定义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7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多种，有代表性的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多数受众注意的最近事实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与舆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就是最多数人所注意而感到兴趣的最新事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天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最近变动的事实的传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经报道（或传播）的新近事实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宁树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对新近发生的事实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陆定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学会宏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者的视野要开阔，要有历史的纵深感和判断力，而不能就事论事，以作一点注释为满足。有时候，在纷繁复杂的事物面前，在浩如烟海的信息面前，记者要有综合的归纳提炼能力，要能去伪存真、去芜取菁，而不被表面的现象牵着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牌照拍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思而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印度电信管理局提出以拍卖方式分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初全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户数将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英国拍卖低能耗频谱鼓励开发低成本移动服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999360" y="22860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事分析性报道应具备的素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09480" y="1371600"/>
            <a:ext cx="86868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用更高的思维层次去驾驭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记者要有历史思维、系统思维、辩证思维能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强烈的政策敏感和一定的理论功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加强理论政策的学习，对形势有正确的判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丰富的知识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书到用时方恨少，要善于积累知识，不能临时抱佛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6320" y="16668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倡导的报道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676520"/>
            <a:ext cx="8253360" cy="40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关注需求，把握前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专业分析，通俗表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如何成为一个合格的通讯员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站在老总的角度思考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产业政策意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强烈的新闻敏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经常深入实际，到工作一线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培养自己的科学思维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发现收集积累信息，搞好新闻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把工作报告转化为新闻语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2362320" y="24066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华文新魏"/>
              </a:rPr>
              <a:t>关于杂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6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报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286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8600" y="129528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860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2670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电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3244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2860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26708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172200" y="1600200"/>
            <a:ext cx="19810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48520" y="175248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受时空限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、文、声、像多媒体传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4267080" y="1828800"/>
            <a:ext cx="16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听和一动态感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2362320" y="1676520"/>
            <a:ext cx="1523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业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集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印刷精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适合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14"/>
          <p:cNvCxnSpPr/>
          <p:nvPr/>
        </p:nvCxnSpPr>
        <p:spPr>
          <a:xfrm flipV="1">
            <a:off x="-360" y="990360"/>
            <a:ext cx="8839800" cy="5029920"/>
          </a:xfrm>
          <a:prstGeom prst="straightConnector1">
            <a:avLst/>
          </a:prstGeom>
          <a:ln w="0">
            <a:noFill/>
          </a:ln>
        </p:spPr>
      </p:cxnSp>
      <p:sp>
        <p:nvSpPr>
          <p:cNvPr id="345" name="Line 15"/>
          <p:cNvSpPr/>
          <p:nvPr/>
        </p:nvSpPr>
        <p:spPr>
          <a:xfrm>
            <a:off x="830592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0" y="411480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7"/>
          <p:cNvSpPr/>
          <p:nvPr/>
        </p:nvSpPr>
        <p:spPr>
          <a:xfrm>
            <a:off x="8458200" y="1066680"/>
            <a:ext cx="9144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8"/>
          <p:cNvSpPr/>
          <p:nvPr/>
        </p:nvSpPr>
        <p:spPr>
          <a:xfrm>
            <a:off x="937260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937260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0"/>
          <p:cNvSpPr/>
          <p:nvPr/>
        </p:nvSpPr>
        <p:spPr>
          <a:xfrm>
            <a:off x="93726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1"/>
          <p:cNvSpPr/>
          <p:nvPr/>
        </p:nvSpPr>
        <p:spPr>
          <a:xfrm>
            <a:off x="9220320" y="990720"/>
            <a:ext cx="759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2"/>
          <p:cNvSpPr/>
          <p:nvPr/>
        </p:nvSpPr>
        <p:spPr>
          <a:xfrm>
            <a:off x="8610480" y="1523880"/>
            <a:ext cx="5335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3"/>
          <p:cNvSpPr/>
          <p:nvPr/>
        </p:nvSpPr>
        <p:spPr>
          <a:xfrm>
            <a:off x="8915400" y="160020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8686800" y="1143000"/>
            <a:ext cx="1066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90676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96012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9601200" y="312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906768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86868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929628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975348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914400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90676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99061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9144000" y="236232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9906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534520" y="4267080"/>
            <a:ext cx="91440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8458200" y="1752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8610480" y="480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228600" y="426708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228600" y="44910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受阅率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228600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2209680" y="4267080"/>
            <a:ext cx="175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行量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4191120" y="4191120"/>
            <a:ext cx="1676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2448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248520" y="4191120"/>
            <a:ext cx="19047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技术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资源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反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良莠不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觉疲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4191120" y="42670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性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差异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极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媒体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杂志的特点及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1717560"/>
            <a:ext cx="3200400" cy="265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读者阶层和对象明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刷精美、阅读率高、保存期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版面安排灵活，颜色多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时效性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724280" y="1521000"/>
            <a:ext cx="4191120" cy="30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文章专业性、针对性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多用图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黄金分割、配图、配色、大块留白（美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调文章叙述性及深度，对可读性要求特别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26708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4197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181480" cy="4981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1219320" y="685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295280" y="914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-304920" y="1522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谢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新闻的三个基本要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首先是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事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新近发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事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对新近发生的事实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报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143000"/>
            <a:ext cx="19814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闻价值是衡量某一事件是否值得采写、刊登的尺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62520" y="990720"/>
            <a:ext cx="57150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效性和时新性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的基本属性，与新闻价值成正比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重要性：是新闻的价值核心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显著性：指被报道对象或事件与众不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近性：新闻内容与受众在利害上、地理上、心理上的关系越近，新闻价值就越高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公效性：指公众效益，是新闻价值的重要因素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趣味性：新闻事实是否有趣味；记者的描述是否有趣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133720" y="2286000"/>
            <a:ext cx="1828800" cy="15526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438280" y="2743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六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7632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248520" y="3048120"/>
            <a:ext cx="961920" cy="9144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71800" y="2362320"/>
            <a:ext cx="3429000" cy="198108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2680" y="30481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新闻体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8120" y="1143000"/>
            <a:ext cx="3276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叙述的方式、简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扼要的方式、迅速及时的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8600" y="2438280"/>
            <a:ext cx="26668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血肉、有描述，比消息更详细、更生动的新闻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400800" y="2438280"/>
            <a:ext cx="32767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事实中最富特征表现力，表现手法最多样化，表达效果最具立体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447920" y="43434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某一新闻事件发议论、说道理，是对新闻事件的抽象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4343400"/>
            <a:ext cx="2971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角度、全方位分析、揭示新闻事件的意义或实质，并预测其发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990720"/>
            <a:ext cx="906768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消息写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导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主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背景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3:02:18Z</dcterms:created>
  <dc:creator>market</dc:creator>
  <dc:description/>
  <dc:language>en-US</dc:language>
  <cp:lastModifiedBy>Juliana Zhu</cp:lastModifiedBy>
  <dcterms:modified xsi:type="dcterms:W3CDTF">2012-04-20T02:52:16Z</dcterms:modified>
  <cp:revision>4310</cp:revision>
  <dc:subject/>
  <dc:title>幻灯片 1</dc:title>
</cp:coreProperties>
</file>