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907588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6244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467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62440" y="94467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E9891D6-1CCF-4790-A708-8648A3D6EE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EF20D8E-4293-4B66-AE97-40203E0ED5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DD935D-3D0F-4B85-881C-A7028E89AE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F0BB5DC-8DC1-46AB-80CC-ACBFBA72D8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9E86298-4812-44E5-BE5F-003EC7E96D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F13C2B7-8FDE-4EA4-82B5-275ED2236F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77CEB1E-2E25-4BF1-BB2A-83EFB8865F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599DC5-C6CE-4AAE-BDB5-A03B987EBD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EED716F-1591-456B-BED6-74D7444A0C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73DC4B8-722C-4F80-B503-6B78328F70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34EBB6D-AAB9-45D5-B42B-8745725798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8C8EA43-8D1F-4641-9787-6557B357DA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DE3C3C4-2E8F-4010-8D8E-C5E71B67BC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ED152AD-3DB4-497E-BC4B-4599D76DA7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08952EA-8900-4E02-ACB2-A74BBB4371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72C8431-C566-4017-A587-47F06DF08D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144327B-D188-41EC-914A-A920CE8C44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F93164-4C88-4F69-9C12-0FBD63E518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4A6CCCD-C94F-49D2-BF82-4B85C10FBE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B9B3475-1798-4048-8E29-014BAF2992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72CCB5E-AE0F-4B52-BCAC-6428E32BC2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B6CBB71-7CE7-4B6E-81D7-D9A6E09121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C1EE436-9017-46F0-866D-7C26E519C2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88BDE51-950F-438A-A6BB-1276AC8F2D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91D7787-25D6-4B0A-A6CB-B74E17D3B7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5F5F317-B88E-4524-85BB-5062B05394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8644A88-A713-4BAB-B75C-3724B4283C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2F80127-A6A1-4F8F-9F8D-FDE5D5FA63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FD51DFA-1217-4AC7-A72C-0A43717E46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316981B-4957-47A7-9428-3CF1329856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DB08A30-9E2D-4A31-9FBF-191C20A63E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726EDF7-EAA8-4182-86F8-33C64817E8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AEEE488-B6E3-49CB-90B2-812EBD5870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FC0E77A-8D52-4197-B093-AB175316D6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932C5FC-C34B-4330-9628-CC8A98A432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4A0CAEC-9EEB-45AC-92DA-77C358E2BC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AC4C84-726A-4C69-9CEC-B9ADCF3AD9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DA55FB0-518B-4A49-AA6F-F91FB8D6EE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ED76931-78DE-421D-B17D-E8B81D885C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BC75699-8986-4D9E-8410-FF20FEEE86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F6B7A7E-8094-437B-A3D9-A5FEC6BD08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50BBFA3-56C6-4E42-8B68-19475CD979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402A4FE-910C-4F79-A63D-4CD4ACD503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65D0675-FFBB-40D8-B329-2231161C60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55D4C5F-C2E1-4D51-B5B3-B67B9663A7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C7F8B19-CC87-4B87-BED3-5489C1459E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E3539EB-441D-4935-8993-D7324D1768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DE50D9C-0CB4-4D54-BCA9-D3F63CE5BD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0DD951A-EE11-4CCF-A9E5-8219BB4083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9738F64-D65D-42CC-968B-CA8B7F4020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A8B05C-9DFD-44AA-8C7D-1FB465295F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EC4B17F-5FAB-407F-96CF-83155FBB40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0B61F77-24CE-4F9B-9224-D055704404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5397208-0CEC-4FFC-9AA5-D9DE3DBC8A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67DAB0B-0D6D-4F96-AF7D-F7E6336F4D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6CA58DD-6E1F-494C-BC2A-CE9885E4CE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AE8A2A-77D5-47DC-A032-4300F38938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62440" y="944712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2B088A4-F5E4-4971-9428-264734D2A7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6320" cy="37288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975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7368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000" y="189000"/>
            <a:ext cx="8915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34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000" y="37368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34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964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4280" y="11250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00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0964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4280" y="3736800"/>
            <a:ext cx="2870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189000"/>
            <a:ext cx="8915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7368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1501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736800"/>
            <a:ext cx="8915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189000"/>
            <a:ext cx="8915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12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30280" indent="11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8302680" y="6553080"/>
            <a:ext cx="16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-  </a:t>
            </a:r>
            <a:fld id="{6907F0B6-CFB1-4A26-8D86-D60FCE2BC223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0" y="838080"/>
            <a:ext cx="99061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5889600" y="6453360"/>
            <a:ext cx="237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0"/>
            <a:ext cx="9906120" cy="90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560520" y="3645000"/>
            <a:ext cx="8659800" cy="0"/>
          </a:xfrm>
          <a:prstGeom prst="line">
            <a:avLst/>
          </a:prstGeom>
          <a:ln w="88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189000"/>
            <a:ext cx="8915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12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30280" indent="11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3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52160" y="106668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楷体_GB2312"/>
              </a:rPr>
              <a:t>新闻写作培训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23800" y="4495320"/>
            <a:ext cx="69339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九年十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-838080" y="7632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定义、要素及组成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57200" y="990720"/>
            <a:ext cx="8763120" cy="5181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消息的定义。消息是用概括性的叙述方式，以简明扼要的文字，迅速及时地报道新近发生或发现的、有报道价值的、群众最关心的事实的报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消息的要素。一条完整的消息，一般要具备六个新闻要素，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何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he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何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her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何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何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ha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何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h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Ho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，西方称为五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H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消息的组成：消息一般由标题、导语、主体、背景材料和结尾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762120" y="1066680"/>
            <a:ext cx="8229600" cy="46483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事实说话。通常一事一报，主要用事实说话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时效。在新闻体裁中，消息是最迅速、最及时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明扼要。消息篇幅要短，文字要简，主要用概述方式将最主要、精彩的内容反映出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811800" y="228600"/>
            <a:ext cx="14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659160" y="228600"/>
            <a:ext cx="14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种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动态消息：是对新近发生或正在发展的为群众关注的事件的报道。它强调一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字，既要反映动态的事实，又要动态地反映事实。这类消息数量最多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综合消息：是围绕一个主题，综合反映不同地区或单位相同或类似情况的报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经验消息：是以消息的形式集中报道某地区或某部门、单位在某项工作中取得的成功经验，以带动全局，指导一般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7632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结构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" y="1066680"/>
            <a:ext cx="6095880" cy="4953240"/>
          </a:xfrm>
          <a:prstGeom prst="rect">
            <a:avLst/>
          </a:prstGeom>
          <a:solidFill>
            <a:srgbClr val="bbe0e3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倒金字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结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最重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次重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再次重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最不重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477120" y="1143000"/>
            <a:ext cx="3124080" cy="4876920"/>
          </a:xfrm>
          <a:prstGeom prst="flowChartManualOperation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倒金字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7200" y="7632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结构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28600" y="990720"/>
            <a:ext cx="9372600" cy="502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非倒金字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结构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时间顺序结构：按照事件顺序开展报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并蒂式结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同一主题下罗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以上实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304920" y="99072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结去年经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署今年计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57200" y="289548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市工作会议召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76320" y="403848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总经理作工作报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352680" y="2666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2971800" y="3048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676520" y="2666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5181480" y="274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304920" y="2666880"/>
            <a:ext cx="4952880" cy="10670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990720" y="106668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304920" y="1143000"/>
            <a:ext cx="4952880" cy="1066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8"/>
          <p:cNvSpPr/>
          <p:nvPr/>
        </p:nvSpPr>
        <p:spPr>
          <a:xfrm>
            <a:off x="380880" y="4343400"/>
            <a:ext cx="4876920" cy="838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9"/>
          <p:cNvSpPr/>
          <p:nvPr/>
        </p:nvSpPr>
        <p:spPr>
          <a:xfrm>
            <a:off x="5257800" y="2666880"/>
            <a:ext cx="4419720" cy="12193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题（主题），揭示消息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要事实和主要意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0"/>
          <p:cNvSpPr/>
          <p:nvPr/>
        </p:nvSpPr>
        <p:spPr>
          <a:xfrm>
            <a:off x="5334120" y="990720"/>
            <a:ext cx="4267080" cy="1295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1"/>
          <p:cNvSpPr/>
          <p:nvPr/>
        </p:nvSpPr>
        <p:spPr>
          <a:xfrm>
            <a:off x="5334120" y="4191120"/>
            <a:ext cx="4343400" cy="1295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辅题（副题、子题），补充正题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披露消息中某些具体的、重要的细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3"/>
          <p:cNvSpPr/>
          <p:nvPr/>
        </p:nvSpPr>
        <p:spPr>
          <a:xfrm>
            <a:off x="6705720" y="2819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4"/>
          <p:cNvSpPr/>
          <p:nvPr/>
        </p:nvSpPr>
        <p:spPr>
          <a:xfrm>
            <a:off x="5410080" y="1219320"/>
            <a:ext cx="4267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题（肩题、眉题），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交待背景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条件、来源，阐明消息的实质意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5"/>
          <p:cNvSpPr/>
          <p:nvPr/>
        </p:nvSpPr>
        <p:spPr>
          <a:xfrm>
            <a:off x="583200" y="176040"/>
            <a:ext cx="14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标题的写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6"/>
          <p:cNvSpPr/>
          <p:nvPr/>
        </p:nvSpPr>
        <p:spPr>
          <a:xfrm>
            <a:off x="685800" y="579132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标题是消息的眼睛，是消息的内容精萃所在，也是作者的倾向所在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它是留给读者的第一印象，拟得好，可以传导全文的核心，起到吸引读者的作用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460080" y="357120"/>
            <a:ext cx="12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导语的写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" y="990720"/>
            <a:ext cx="9448920" cy="556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语就是导读的语言，它是消息开头的第一句或第一段话。从消息的结构顺序讲，指的是概括消息中心内容的开端部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语的分类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叙事式导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议论式导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描写式导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引语式导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比兴式导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740520" y="257040"/>
            <a:ext cx="126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展开主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457200" y="990720"/>
            <a:ext cx="8229600" cy="502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主体是消息的主干，即正文。它以充分的、有说服力的材料来展示新闻的具体内容。一是解释和深化导语，二是补充导语所没有涉及的新事实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868320" y="152280"/>
            <a:ext cx="26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展开主体要注意的问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52280" y="990720"/>
            <a:ext cx="9601200" cy="5486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一要注意顺序。主体部分或用时间顺序安排层次，或用逻辑顺序安排层次，这要根据内容和要表达的主题而定，都要求清晰紧凑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时间顺序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逻辑顺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457200" y="990720"/>
            <a:ext cx="82296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二，材料要充实，让事实说话。新闻中的思想性和指导性，主要应该通过那些既能体现社会本质规律和发展方向，又有鲜明个性的典型材料来体现。（多了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a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多问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三，语言简洁、精炼、准确、通俗。由于新闻以阐述事实为使命，所以，语言简洁、准确成为新闻语言的基本审美特征。同时，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快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泛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文化的影响，新闻语言讲究精炼和通俗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四，转折自然，层次清晰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读新闻像剥洋葱，从一个微笑的细节开始，一直到最核心、最隐秘的部分，这中间有一段漫长的路要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戴安娜事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868320" y="152280"/>
            <a:ext cx="26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展开主体要注意的问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85800" y="914400"/>
            <a:ext cx="77724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怎样搞好新闻报道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948600" y="333360"/>
            <a:ext cx="21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用好新闻背景材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52280" y="1066680"/>
            <a:ext cx="2133720" cy="52578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背景材料指消息发生的背景条件以及与社会环境的联系。它可以烘托新闻人物与事件，深化主题，增加消息的知识性、可读性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14600" y="990720"/>
            <a:ext cx="71629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比性材料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今日与昔日对比、正与反对比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货作为企业一项重要的资产，对企业的经营成果影响重大。针对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5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存货余额均突破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.00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以上，已超过省公司下达最高存货限额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9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的现状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.....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截止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存货积压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库存商品的报账滞后得到一定解决。财务报表数据显示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存货余额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5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，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存货余额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6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，已控制在省公司存货限额内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514600" y="2666880"/>
            <a:ext cx="716292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明性材料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历史、地理、文化及新闻产生的背景等；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迎溪村，一个曾经周发生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治安案件的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村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近一个月来，竟然没有发生一次案件。有细心的护村队员发现，曾经被他们重点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监控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几个劣迹斑斑的租房者已经退房离开了，是什么让迎溪村蜕变成功的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进金汁河畔城乡结合部的迎溪村，记者一眼就看到了村口一根高耸的电杆上的圆形电子监控设备，这就是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球眼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2514600" y="4800600"/>
            <a:ext cx="716292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注释性材料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概念、术语及有关专业知识进行解释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811800" y="228600"/>
            <a:ext cx="14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结尾的写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066680"/>
            <a:ext cx="899172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消息的结尾非常重要。它可以指出事件的发展趋势，阐明新闻价值，发表作者的见解，启发引导读者积极思考等作用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两刀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观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评论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对新闻事件发表评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总结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对新闻事件进行总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启发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引发读者对新闻事件进行更深入的思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展望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提示读者通过新闻事件对未来进行展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引用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引用别人的语言对新闻事件进行总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背景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用新闻事件背景叙述来结尾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数字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用数字展示新闻事件的结果。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补充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用相近的新闻事例加深对新闻主体的说明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811800" y="228600"/>
            <a:ext cx="14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结尾的写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0880" y="990720"/>
            <a:ext cx="9220320" cy="265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评论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总结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展望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引用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数字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990720" y="1295280"/>
            <a:ext cx="784836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通讯写作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通讯的定义及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通讯的种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85800" y="304920"/>
            <a:ext cx="43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通讯的定义及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57200" y="2597040"/>
            <a:ext cx="4991040" cy="122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新魏"/>
              </a:rPr>
              <a:t>通讯是以叙述、描写为主要表达方式，将具有新闻价值的人物或事件及时、具体、生动地予以报道的新闻体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5867280" y="1066680"/>
            <a:ext cx="2971800" cy="1752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8"/>
          <p:cNvSpPr/>
          <p:nvPr/>
        </p:nvSpPr>
        <p:spPr>
          <a:xfrm>
            <a:off x="5943600" y="1447920"/>
            <a:ext cx="35053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9"/>
          <p:cNvSpPr/>
          <p:nvPr/>
        </p:nvSpPr>
        <p:spPr>
          <a:xfrm>
            <a:off x="8153280" y="2133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0"/>
          <p:cNvSpPr/>
          <p:nvPr/>
        </p:nvSpPr>
        <p:spPr>
          <a:xfrm>
            <a:off x="8153280" y="2133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1"/>
          <p:cNvSpPr/>
          <p:nvPr/>
        </p:nvSpPr>
        <p:spPr>
          <a:xfrm>
            <a:off x="7848720" y="19051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2"/>
          <p:cNvSpPr/>
          <p:nvPr/>
        </p:nvSpPr>
        <p:spPr>
          <a:xfrm>
            <a:off x="7772400" y="2362320"/>
            <a:ext cx="7632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3"/>
          <p:cNvSpPr/>
          <p:nvPr/>
        </p:nvSpPr>
        <p:spPr>
          <a:xfrm>
            <a:off x="7848720" y="2286000"/>
            <a:ext cx="91440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4"/>
          <p:cNvSpPr/>
          <p:nvPr/>
        </p:nvSpPr>
        <p:spPr>
          <a:xfrm>
            <a:off x="8305920" y="2209680"/>
            <a:ext cx="7596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5"/>
          <p:cNvSpPr/>
          <p:nvPr/>
        </p:nvSpPr>
        <p:spPr>
          <a:xfrm>
            <a:off x="6400800" y="1371600"/>
            <a:ext cx="15238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生动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6"/>
          <p:cNvSpPr/>
          <p:nvPr/>
        </p:nvSpPr>
        <p:spPr>
          <a:xfrm>
            <a:off x="5867280" y="2743200"/>
            <a:ext cx="2971800" cy="175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7"/>
          <p:cNvSpPr/>
          <p:nvPr/>
        </p:nvSpPr>
        <p:spPr>
          <a:xfrm>
            <a:off x="5867280" y="4495680"/>
            <a:ext cx="3200400" cy="1752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8"/>
          <p:cNvSpPr/>
          <p:nvPr/>
        </p:nvSpPr>
        <p:spPr>
          <a:xfrm>
            <a:off x="6477120" y="3200400"/>
            <a:ext cx="15238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完整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9"/>
          <p:cNvSpPr/>
          <p:nvPr/>
        </p:nvSpPr>
        <p:spPr>
          <a:xfrm>
            <a:off x="6553080" y="5029200"/>
            <a:ext cx="152424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评论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04920" y="166680"/>
            <a:ext cx="38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通讯的种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533520" y="11430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物通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33520" y="3809880"/>
            <a:ext cx="19047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工作通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3520" y="25146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事件通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533520" y="5105520"/>
            <a:ext cx="190476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貌通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4267080" y="160020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5334120" y="1676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5791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6248520" y="16002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248520" y="1523880"/>
            <a:ext cx="75960" cy="76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2895480" y="2057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990720" y="2057400"/>
            <a:ext cx="28191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62485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6248520" y="15238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5"/>
          <p:cNvSpPr/>
          <p:nvPr/>
        </p:nvSpPr>
        <p:spPr>
          <a:xfrm>
            <a:off x="6248520" y="1523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6"/>
          <p:cNvSpPr/>
          <p:nvPr/>
        </p:nvSpPr>
        <p:spPr>
          <a:xfrm>
            <a:off x="4191120" y="1054080"/>
            <a:ext cx="5410080" cy="103608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人物的思想、言行、事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命运为报道内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7"/>
          <p:cNvSpPr/>
          <p:nvPr/>
        </p:nvSpPr>
        <p:spPr>
          <a:xfrm>
            <a:off x="5190480" y="2747880"/>
            <a:ext cx="3398760" cy="52056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以具典型意义的事件为报道对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8"/>
          <p:cNvSpPr/>
          <p:nvPr/>
        </p:nvSpPr>
        <p:spPr>
          <a:xfrm>
            <a:off x="4191120" y="3809880"/>
            <a:ext cx="5410080" cy="52056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介绍某单位先进事迹，传播其典型经验和做法，以指导一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9"/>
          <p:cNvSpPr/>
          <p:nvPr/>
        </p:nvSpPr>
        <p:spPr>
          <a:xfrm>
            <a:off x="4191120" y="5181480"/>
            <a:ext cx="5495760" cy="94716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述某地区、部门、行业、工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新面貌、新气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1"/>
          <p:cNvSpPr/>
          <p:nvPr/>
        </p:nvSpPr>
        <p:spPr>
          <a:xfrm>
            <a:off x="2438280" y="1219320"/>
            <a:ext cx="1752840" cy="609480"/>
          </a:xfrm>
          <a:prstGeom prst="rightArrow">
            <a:avLst>
              <a:gd name="adj1" fmla="val 50000"/>
              <a:gd name="adj2" fmla="val 718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2"/>
          <p:cNvSpPr/>
          <p:nvPr/>
        </p:nvSpPr>
        <p:spPr>
          <a:xfrm>
            <a:off x="2438280" y="2666880"/>
            <a:ext cx="1752840" cy="609840"/>
          </a:xfrm>
          <a:prstGeom prst="rightArrow">
            <a:avLst>
              <a:gd name="adj1" fmla="val 50000"/>
              <a:gd name="adj2" fmla="val 718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3"/>
          <p:cNvSpPr/>
          <p:nvPr/>
        </p:nvSpPr>
        <p:spPr>
          <a:xfrm>
            <a:off x="2438280" y="4038480"/>
            <a:ext cx="1752840" cy="609840"/>
          </a:xfrm>
          <a:prstGeom prst="rightArrow">
            <a:avLst>
              <a:gd name="adj1" fmla="val 50000"/>
              <a:gd name="adj2" fmla="val 718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4"/>
          <p:cNvSpPr/>
          <p:nvPr/>
        </p:nvSpPr>
        <p:spPr>
          <a:xfrm>
            <a:off x="2438280" y="5334120"/>
            <a:ext cx="1752840" cy="609480"/>
          </a:xfrm>
          <a:prstGeom prst="rightArrow">
            <a:avLst>
              <a:gd name="adj1" fmla="val 50000"/>
              <a:gd name="adj2" fmla="val 718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1523880" y="2286000"/>
            <a:ext cx="640080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关于工作通讯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228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如何挖掘新闻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09480" y="1447920"/>
            <a:ext cx="518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真正有传播价值的新闻人物和事件，是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挖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出来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80880" y="3092400"/>
            <a:ext cx="5486400" cy="18003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发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新闻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有偶然性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人们爱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的眼光评判文章优劣，因而忽视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发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     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采访就可发现新闻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”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错误观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"/>
          <p:cNvSpPr/>
          <p:nvPr/>
        </p:nvSpPr>
        <p:spPr>
          <a:xfrm>
            <a:off x="7467480" y="1676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867280" y="1295280"/>
            <a:ext cx="3810240" cy="2362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用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用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再用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8534520" y="41148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74674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467480" y="22860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162920" y="25146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7620120" y="2438280"/>
            <a:ext cx="7596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238880" y="2438280"/>
            <a:ext cx="990720" cy="1981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6477120" y="3124080"/>
            <a:ext cx="76176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7315200" y="25146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739152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7391520" y="2362320"/>
            <a:ext cx="38088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8229600" y="27432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754380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762012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754380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762012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693432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7391520" y="1219320"/>
            <a:ext cx="22860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7620120" y="1676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6"/>
          <p:cNvSpPr/>
          <p:nvPr/>
        </p:nvSpPr>
        <p:spPr>
          <a:xfrm>
            <a:off x="74674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8"/>
          <p:cNvSpPr/>
          <p:nvPr/>
        </p:nvSpPr>
        <p:spPr>
          <a:xfrm>
            <a:off x="74674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9"/>
          <p:cNvSpPr/>
          <p:nvPr/>
        </p:nvSpPr>
        <p:spPr>
          <a:xfrm>
            <a:off x="74674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30"/>
          <p:cNvSpPr/>
          <p:nvPr/>
        </p:nvSpPr>
        <p:spPr>
          <a:xfrm>
            <a:off x="7391520" y="2362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1"/>
          <p:cNvSpPr/>
          <p:nvPr/>
        </p:nvSpPr>
        <p:spPr>
          <a:xfrm>
            <a:off x="7772400" y="2514600"/>
            <a:ext cx="7632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2"/>
          <p:cNvSpPr/>
          <p:nvPr/>
        </p:nvSpPr>
        <p:spPr>
          <a:xfrm>
            <a:off x="8077320" y="3200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34"/>
          <p:cNvSpPr/>
          <p:nvPr/>
        </p:nvSpPr>
        <p:spPr>
          <a:xfrm>
            <a:off x="8534520" y="33526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6"/>
          <p:cNvSpPr/>
          <p:nvPr/>
        </p:nvSpPr>
        <p:spPr>
          <a:xfrm>
            <a:off x="7238880" y="24382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8"/>
          <p:cNvSpPr/>
          <p:nvPr/>
        </p:nvSpPr>
        <p:spPr>
          <a:xfrm>
            <a:off x="74674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0"/>
          <p:cNvSpPr/>
          <p:nvPr/>
        </p:nvSpPr>
        <p:spPr>
          <a:xfrm>
            <a:off x="7467480" y="24382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41"/>
          <p:cNvSpPr/>
          <p:nvPr/>
        </p:nvSpPr>
        <p:spPr>
          <a:xfrm>
            <a:off x="7620120" y="2743200"/>
            <a:ext cx="7596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3"/>
          <p:cNvSpPr/>
          <p:nvPr/>
        </p:nvSpPr>
        <p:spPr>
          <a:xfrm>
            <a:off x="731520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4"/>
          <p:cNvSpPr/>
          <p:nvPr/>
        </p:nvSpPr>
        <p:spPr>
          <a:xfrm>
            <a:off x="7315200" y="25146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6"/>
          <p:cNvSpPr/>
          <p:nvPr/>
        </p:nvSpPr>
        <p:spPr>
          <a:xfrm>
            <a:off x="6248520" y="4191120"/>
            <a:ext cx="35812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脑中有，脚下才有；脚下有，笔下才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457200" y="157320"/>
            <a:ext cx="51814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挖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新闻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四步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"/>
          <p:cNvSpPr/>
          <p:nvPr/>
        </p:nvSpPr>
        <p:spPr>
          <a:xfrm>
            <a:off x="152280" y="914400"/>
            <a:ext cx="358164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敏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152280" y="2362320"/>
            <a:ext cx="358164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预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5"/>
          <p:cNvSpPr/>
          <p:nvPr/>
        </p:nvSpPr>
        <p:spPr>
          <a:xfrm>
            <a:off x="228600" y="3657600"/>
            <a:ext cx="3581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提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380880" y="5029200"/>
            <a:ext cx="358164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确认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3733920" y="1523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5029200" y="1149480"/>
            <a:ext cx="457200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为什么我听到这个就特别兴奋呢？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冲动的过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37339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5029200" y="2590920"/>
            <a:ext cx="4572000" cy="82548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我的这个敏感符合形势和事态发展的自然吗？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理智的过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3809880" y="4267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5029200" y="3809880"/>
            <a:ext cx="4572000" cy="82548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这件事情最值得报道的东西是什么呢？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强化理智的过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39625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5105520" y="5187960"/>
            <a:ext cx="457200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我要告诉读者的就是这个吗？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最后认定的过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157320"/>
            <a:ext cx="51814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如何提炼主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838080" y="1066680"/>
            <a:ext cx="800100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新魏"/>
              </a:rPr>
              <a:t>凤凰落在梧桐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树</a:t>
            </a: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穿珠红线在何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绿叶衬得红花美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玩味再三意更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09480" y="2819520"/>
            <a:ext cx="8686800" cy="192276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主题先行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凤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，正确的主题有利于提高采访、报道质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材料充足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梧桐树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，材料充足才能游刃有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组织有序：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穿珠红线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，找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线头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，剥茧抽丝，串起材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轻重有度：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绿叶红花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楷体_GB2312"/>
              </a:rPr>
              <a:t>，对材料的使用或轻描淡写、或浓墨重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-1143000" y="-152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探讨的主要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762120" y="1066680"/>
            <a:ext cx="792468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于新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消息写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通讯写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——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工作通讯写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——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析性报道写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何做一个合格的通讯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457200" y="157320"/>
            <a:ext cx="51814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使用背景材料的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609480" y="995400"/>
            <a:ext cx="8991720" cy="27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  <a:ea typeface="华文新魏"/>
              </a:rPr>
              <a:t>对新闻做解释的时代已经到来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从表现新闻主题的需要出发：帮助主题、证明主题，为主题服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量体裁衣、灵活得当：深度报道、解释性报道需要多用；动态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息、简讯之类少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宜少不宜多，宜简不宜繁：背景材料属于从属地位，切勿喧宾夺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要考虑受众需求：对不宜理解或疑惑之处加背景，对受众易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明白无误的新闻事实则没必要画蛇添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要根据表达内容的需要灵活处理：可以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材料化整为零，根据需要使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3733920" y="3276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8600" y="219240"/>
            <a:ext cx="457200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敏感四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"/>
          <p:cNvSpPr/>
          <p:nvPr/>
        </p:nvSpPr>
        <p:spPr>
          <a:xfrm>
            <a:off x="152280" y="1143000"/>
            <a:ext cx="236232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针对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"/>
          <p:cNvSpPr/>
          <p:nvPr/>
        </p:nvSpPr>
        <p:spPr>
          <a:xfrm>
            <a:off x="152280" y="2209680"/>
            <a:ext cx="22860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新鲜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228600" y="3352680"/>
            <a:ext cx="22860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差异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6"/>
          <p:cNvSpPr/>
          <p:nvPr/>
        </p:nvSpPr>
        <p:spPr>
          <a:xfrm>
            <a:off x="228600" y="4495680"/>
            <a:ext cx="2286000" cy="609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生动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5029200" y="1362240"/>
            <a:ext cx="4572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为什么写这个不写那个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5029200" y="2286000"/>
            <a:ext cx="4572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重要的是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快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5029200" y="3429000"/>
            <a:ext cx="449568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两头是新闻，中间是什么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5029200" y="4495680"/>
            <a:ext cx="4572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印象最深的就是新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5"/>
          <p:cNvSpPr/>
          <p:nvPr/>
        </p:nvSpPr>
        <p:spPr>
          <a:xfrm>
            <a:off x="3276720" y="1447920"/>
            <a:ext cx="75960" cy="75960"/>
          </a:xfrm>
          <a:prstGeom prst="rightArrowCallout">
            <a:avLst>
              <a:gd name="adj1" fmla="val 25002"/>
              <a:gd name="adj2" fmla="val 12500"/>
              <a:gd name="adj3" fmla="val 16667"/>
              <a:gd name="adj4" fmla="val 83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3048120" y="1219320"/>
            <a:ext cx="1143000" cy="1922760"/>
          </a:xfrm>
          <a:prstGeom prst="rect">
            <a:avLst/>
          </a:prstGeom>
          <a:solidFill>
            <a:srgbClr val="ff99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  <a:ea typeface="黑体"/>
              </a:rPr>
              <a:t>行业新闻各地雷同，运作时间、方式基本一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1523880" y="2286000"/>
            <a:ext cx="746784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关于分析性报道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228600" y="219240"/>
            <a:ext cx="457200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6094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57200" y="1289160"/>
            <a:ext cx="8610480" cy="7642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华文新魏"/>
              </a:rPr>
              <a:t>       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华文新魏"/>
              </a:rPr>
              <a:t>分析性报道就是合理运用背景材料，通过多角度、多侧面、全方位、立体化的分析，揭示新闻事件或新闻现象的实质或意义，以及预测其发展趋势的一种深度报道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228600" y="219240"/>
            <a:ext cx="457200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释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304920" y="990720"/>
            <a:ext cx="9372600" cy="383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性（分析性）报道是一种作解释或作分析的报道，也就是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‘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有深度的报道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’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它是一种加背景给新闻揭示更深一层意义的报道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特律新闻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社论作家杰克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所谓解释性（分析性）报道，就是在报道新闻事件中补充新的事实，即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‘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历史性的、环境性的、简历性的、数据性的、反应性的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’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事实，这样就能使正在发生的新闻事件更加明白易懂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新闻学教授卡尔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兹特诺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性报道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就是把今天的事件置于昨天的背景之下，从而揭示出它对明天的含义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报人罗斯科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德拉蒙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概括起来，似乎可以说，解释性（分析性）报道是一种背景性新闻，是通过大量使用背景材料，揭示新闻事件的来龙去脉和深层意义的分析性报道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——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人民大学新闻系教授刘明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457200" y="640080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为什么分析性报道越来越受重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228600" y="1066680"/>
            <a:ext cx="4419720" cy="2210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报纸报道文体的演变历程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一个阶段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政论报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时期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二个阶段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客观报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时期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三个阶段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解说报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分析性报道）时期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7620120" y="2819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6095880" y="4191120"/>
            <a:ext cx="2957760" cy="1066680"/>
          </a:xfrm>
          <a:prstGeom prst="rect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为什么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6095880" y="5257800"/>
            <a:ext cx="2957760" cy="1066680"/>
          </a:xfrm>
          <a:prstGeom prst="rect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是什么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971800" y="4343400"/>
          <a:ext cx="304812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343400"/>
                    <a:ext cx="30481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685800" y="4267080"/>
          <a:ext cx="205740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67080"/>
                    <a:ext cx="20574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9"/>
          <p:cNvSpPr/>
          <p:nvPr/>
        </p:nvSpPr>
        <p:spPr>
          <a:xfrm>
            <a:off x="4952880" y="1066680"/>
            <a:ext cx="455796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时代变迁导致的文体演变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一：媒体异质竞争与同质竞争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二：社会环境更加复杂，信息量大，新问题多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三：读者的阅读口味变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380880" y="3433680"/>
            <a:ext cx="9220320" cy="39888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华文中宋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华文中宋"/>
              </a:rPr>
              <a:t>各种新闻事件接踵发生，而这些事件本身毫无疑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华文中宋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楷体_GB2312"/>
              </a:rPr>
              <a:t>李普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范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80880" y="1847880"/>
            <a:ext cx="243864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新闻分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解释性新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新闻述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背景新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3124080" y="1528920"/>
            <a:ext cx="6248520" cy="52056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前头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本报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是消息的标志，在这里只是一种形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3124080" y="2625840"/>
            <a:ext cx="6248520" cy="520560"/>
          </a:xfrm>
          <a:prstGeom prst="rect">
            <a:avLst/>
          </a:prstGeom>
          <a:solidFill>
            <a:srgbClr val="ff99cc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仿宋"/>
              </a:rPr>
              <a:t>以新闻特稿的方式发出，无法用传统方法区分其新闻类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"/>
          <p:cNvSpPr/>
          <p:nvPr/>
        </p:nvSpPr>
        <p:spPr>
          <a:xfrm>
            <a:off x="1905120" y="5257800"/>
            <a:ext cx="914400" cy="609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3809880" y="50292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8"/>
          <p:cNvSpPr/>
          <p:nvPr/>
        </p:nvSpPr>
        <p:spPr>
          <a:xfrm>
            <a:off x="1143000" y="4191120"/>
            <a:ext cx="7772400" cy="1752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191120" y="53341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2133720" y="4114800"/>
            <a:ext cx="5943600" cy="19051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彩云"/>
              </a:rPr>
              <a:t>不好界定；不好操作；采写难度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228600" y="219240"/>
            <a:ext cx="76960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特性：表达观点和深度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468360" y="1066680"/>
            <a:ext cx="8827920" cy="5105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突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要素，追根究源，深挖新闻背后的新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新闻六要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W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H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er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a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how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的新闻报道，突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er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a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析性报道，突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how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素（打破客观报道事实的方式，加入记者的分析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26"/>
          <p:cNvSpPr/>
          <p:nvPr/>
        </p:nvSpPr>
        <p:spPr>
          <a:xfrm>
            <a:off x="457200" y="1066680"/>
            <a:ext cx="883908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注重纵横联系，把新闻事件或现象放在一定的社会背景和时代背景下面来分析，或者把单一的、孤立的新闻事件与其它事件相比较、相联系，揭示其蕴含的意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纵的方面（历史、发展演变过程）挖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横的方面（周边环境、同类对比）拓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027"/>
          <p:cNvSpPr/>
          <p:nvPr/>
        </p:nvSpPr>
        <p:spPr>
          <a:xfrm>
            <a:off x="228600" y="219240"/>
            <a:ext cx="76960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特性：表达观点和深度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228600" y="219240"/>
            <a:ext cx="769608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特性：表达观点和深度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380880" y="1219320"/>
            <a:ext cx="8991720" cy="4511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大量使用背景材料来解释、分析新闻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，也就是说，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实说明事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消息报道中，为防止喧宾夺主，往往限制背景材料的运用；背景材料只是对新闻局部加以参照、注释和说明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析性报道以运用背景材料见长，背景材料处于举足轻重的地位；通过背景材料的运用表达主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143000" y="1536840"/>
            <a:ext cx="7238880" cy="2805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关于新闻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什么是新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判断新闻价值的标准是什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关于新闻体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特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304920" y="1327320"/>
            <a:ext cx="8381880" cy="431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夹叙夹议是分析性报道在写作方式上的一个重要特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分析性报道的议论与评论中议论的区别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主观色彩少，通过事实的报道来实现；记者避免直接发议论，借权威人士之口来说明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中央电视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焦点访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的名言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事实说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228600" y="23328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选题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609480" y="1143000"/>
            <a:ext cx="8553600" cy="464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题决定分析性报道的成败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什么都能成为分析性报道的题材，只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些具有显著新闻价值、读者普遍关心、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社会影响较大的新闻，才能作为分析性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选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的来说，抓分析性报道要站在全局的高度，密切关注产业的发展，捕捉那些整个行业关注的重点、热点、焦点、难点问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选题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457200" y="838080"/>
            <a:ext cx="8763120" cy="5486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点挖掘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楷体_GB2312"/>
              </a:rPr>
              <a:t>对刚刚发生的重大新闻事件进行深入的、全面的分析，揭示出这个新闻事件背后的深层次原因和实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要求记者具有较强的新闻敏感，出手要快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案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美国世界通信公司制造假账事出有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类归纳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题材是从一系列新闻事件中归纳出来的，是对人们所关心的一种社会现象的综合归纳分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要求记者具有快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联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能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案例：通信业恶性竞争加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业务增量不增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选题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457200" y="1143000"/>
            <a:ext cx="8763120" cy="2209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红线穿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分散的、割裂的的新闻进行关联，用一根红线把他们穿起来，从而揭示其意义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求记者做有心人，善于思考和推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案例：戴安娜去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609480" y="37339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457200" y="3355920"/>
            <a:ext cx="8763120" cy="2189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政策配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针对国家或行业一段时期的重大方针政策或战略举措，适时开展深入的解释性报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要求编辑部有强烈的政策敏感，能够配合行业发展形势策划、组织战役报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案例：关于和谐社会、和谐行业、和谐企业的系列报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于电信战略转型的报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选题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228600" y="1114560"/>
            <a:ext cx="9296280" cy="3773520"/>
          </a:xfrm>
          <a:prstGeom prst="rect">
            <a:avLst/>
          </a:prstGeom>
          <a:solidFill>
            <a:srgbClr val="bbe0e3"/>
          </a:solidFill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趋势展望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对行业发展动向、趋势的预测与分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求记者具有深刻的洞察力和判断力，善于见微知著，预测出事物的发展方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案例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初的三篇展望性报道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际竞争：从弯道追赶到直道较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信技术：从全面突破到系统进入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社会需求：从初步适应到深入支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采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457200" y="1143000"/>
            <a:ext cx="822960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尽可能地搜集背景材料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拟定详细的采访提纲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善于提问和追问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善于观察和倾听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运用多种采访手段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要作持久采访的准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写作技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468360" y="1371600"/>
            <a:ext cx="8229600" cy="4467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要进行专业化的分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只有具备了足够的经济、行业方面的知识，准确把握住了行业发展的方向，并且善于运用现代经济学和产业经济学的观点和思维方式观察、分析、评价行业活动，才能够深刻揭示其背后的规律和趋势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案例：电信月租费的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3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写作技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380880" y="1066680"/>
            <a:ext cx="8229600" cy="806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会通俗化的表达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380880" y="1828800"/>
            <a:ext cx="822960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既要有专业的分析水平，又要能够实现通俗化的表达，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硬主题，软表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深入浅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析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表达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避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行看不上，外行看不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学会科普式文章的写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写作技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457200" y="1143000"/>
            <a:ext cx="82296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科学地调遣背景材料</a:t>
            </a:r>
            <a:r>
              <a:rPr b="0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应注意逻辑性，在充分研究、透彻理解材料的基础上，可以按照材料的时间先后或重要程度，安排新闻结构，揭示各部分材料与新闻事件之间的内在联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案例：全球电信业为何深陷低迷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投资过度、扩张过度、竞争过度、炒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写作技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457200" y="1066680"/>
            <a:ext cx="8610480" cy="502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巧妙地表达记者的观点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来说，分析性报道不允许作者直接站出来发表议论，表明自己的观点，而是要把自己的观点隐藏在对事实的叙述之中，通过对事实和背景性材料的综合分析，达到议论的目的，阐明记者的观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即使要直接说明观点，也要借专家学者和权威人士之口说出来，这样可以增强文章的可信性和说服力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注意：不能假借别人之口说自己的观点，这违背新闻职业道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57200" y="-2286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什么是新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1219320"/>
            <a:ext cx="8229600" cy="480060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新闻的定义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7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多种，有代表性的如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闻是多数受众注意的最近事实的信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新闻与舆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胡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闻就是最多数人所注意而感到兴趣的最新事实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黄天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闻是最近变动的事实的传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――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闻是经报道（或传播）的新近事实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――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宁树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闻是对新近发生的事实的报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――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陆定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228600" y="219240"/>
            <a:ext cx="6248520" cy="520560"/>
          </a:xfrm>
          <a:prstGeom prst="rect">
            <a:avLst/>
          </a:prstGeom>
          <a:noFill/>
          <a:ln w="9360">
            <a:solidFill>
              <a:srgbClr val="71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分析性报道的写作技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57200" y="1066680"/>
            <a:ext cx="8229600" cy="502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要学会宏观分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记者的视野要开阔，要有历史的纵深感和判断力，而不能就事论事，以作一点注释为满足。有时候，在纷繁复杂的事物面前，在浩如烟海的信息面前，记者要有综合的归纳提炼能力，要能去伪存真、去芜取菁，而不被表面的现象牵着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案例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牌照拍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三思而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印度电信管理局提出以拍卖方式分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频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/200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年初全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户数将超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英国拍卖低能耗频谱鼓励开发低成本移动服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999360" y="228600"/>
            <a:ext cx="31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事分析性报道应具备的素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609480" y="1371600"/>
            <a:ext cx="868680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要用更高的思维层次去驾驭事实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记者要有历史思维、系统思维、辩证思维能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要有强烈的政策敏感和一定的理论功底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加强理论政策的学习，对形势有正确的判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要有丰富的知识储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书到用时方恨少，要善于积累知识，不能临时抱佛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76320" y="166680"/>
            <a:ext cx="55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们倡导的报道口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609480" y="1676520"/>
            <a:ext cx="8253360" cy="409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关注需求，把握前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专业分析，通俗表达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如何成为一个合格的通讯员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57200" y="1295280"/>
            <a:ext cx="822960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善于站在老总的角度思考问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有产业政策意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有强烈的新闻敏感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经常深入实际，到工作一线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善于培养自己的科学思维能力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善于发现收集积累信息，搞好新闻储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善于把工作报告转化为新闻语言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2362320" y="2406600"/>
            <a:ext cx="487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华文新魏"/>
              </a:rPr>
              <a:t>关于杂志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228600" y="106668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报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228600" y="1676520"/>
            <a:ext cx="16765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228600" y="1295280"/>
            <a:ext cx="17524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权威性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效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存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传阅率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众面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2286000" y="106668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4267080" y="106668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电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6324480" y="106668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网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2286000" y="1676520"/>
            <a:ext cx="16765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4267080" y="1676520"/>
            <a:ext cx="16765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6172200" y="1600200"/>
            <a:ext cx="19810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6248520" y="1752480"/>
            <a:ext cx="1828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实效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参与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受时空限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、文、声、像多媒体传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4267080" y="1828800"/>
            <a:ext cx="1600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实效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众面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权威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听和一动态感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2362320" y="1676520"/>
            <a:ext cx="1523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行业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存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传阅率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众集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印刷精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适合分析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AutoShape 14"/>
          <p:cNvCxnSpPr/>
          <p:nvPr/>
        </p:nvCxnSpPr>
        <p:spPr>
          <a:xfrm flipV="1">
            <a:off x="-360" y="990360"/>
            <a:ext cx="8839800" cy="5029920"/>
          </a:xfrm>
          <a:prstGeom prst="straightConnector1">
            <a:avLst/>
          </a:prstGeom>
          <a:ln w="0">
            <a:noFill/>
          </a:ln>
        </p:spPr>
      </p:cxnSp>
      <p:sp>
        <p:nvSpPr>
          <p:cNvPr id="345" name="Line 15"/>
          <p:cNvSpPr/>
          <p:nvPr/>
        </p:nvSpPr>
        <p:spPr>
          <a:xfrm>
            <a:off x="830592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0" y="411480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7"/>
          <p:cNvSpPr/>
          <p:nvPr/>
        </p:nvSpPr>
        <p:spPr>
          <a:xfrm>
            <a:off x="8458200" y="1066680"/>
            <a:ext cx="9144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8"/>
          <p:cNvSpPr/>
          <p:nvPr/>
        </p:nvSpPr>
        <p:spPr>
          <a:xfrm>
            <a:off x="9372600" y="19810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9"/>
          <p:cNvSpPr/>
          <p:nvPr/>
        </p:nvSpPr>
        <p:spPr>
          <a:xfrm>
            <a:off x="9372600" y="24382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0"/>
          <p:cNvSpPr/>
          <p:nvPr/>
        </p:nvSpPr>
        <p:spPr>
          <a:xfrm>
            <a:off x="9372600" y="2895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21"/>
          <p:cNvSpPr/>
          <p:nvPr/>
        </p:nvSpPr>
        <p:spPr>
          <a:xfrm>
            <a:off x="9220320" y="990720"/>
            <a:ext cx="7596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2"/>
          <p:cNvSpPr/>
          <p:nvPr/>
        </p:nvSpPr>
        <p:spPr>
          <a:xfrm>
            <a:off x="8610480" y="1523880"/>
            <a:ext cx="5335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23"/>
          <p:cNvSpPr/>
          <p:nvPr/>
        </p:nvSpPr>
        <p:spPr>
          <a:xfrm>
            <a:off x="8915400" y="1600200"/>
            <a:ext cx="5335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4"/>
          <p:cNvSpPr/>
          <p:nvPr/>
        </p:nvSpPr>
        <p:spPr>
          <a:xfrm>
            <a:off x="9296280" y="2057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5"/>
          <p:cNvSpPr/>
          <p:nvPr/>
        </p:nvSpPr>
        <p:spPr>
          <a:xfrm>
            <a:off x="8686800" y="1143000"/>
            <a:ext cx="106668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6"/>
          <p:cNvSpPr/>
          <p:nvPr/>
        </p:nvSpPr>
        <p:spPr>
          <a:xfrm>
            <a:off x="9067680" y="2362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7"/>
          <p:cNvSpPr/>
          <p:nvPr/>
        </p:nvSpPr>
        <p:spPr>
          <a:xfrm>
            <a:off x="9601200" y="22096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8"/>
          <p:cNvSpPr/>
          <p:nvPr/>
        </p:nvSpPr>
        <p:spPr>
          <a:xfrm>
            <a:off x="9601200" y="31240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9"/>
          <p:cNvSpPr/>
          <p:nvPr/>
        </p:nvSpPr>
        <p:spPr>
          <a:xfrm>
            <a:off x="9067680" y="22096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0"/>
          <p:cNvSpPr/>
          <p:nvPr/>
        </p:nvSpPr>
        <p:spPr>
          <a:xfrm>
            <a:off x="8686800" y="22096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1"/>
          <p:cNvSpPr/>
          <p:nvPr/>
        </p:nvSpPr>
        <p:spPr>
          <a:xfrm>
            <a:off x="9296280" y="2057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2"/>
          <p:cNvSpPr/>
          <p:nvPr/>
        </p:nvSpPr>
        <p:spPr>
          <a:xfrm>
            <a:off x="9296280" y="19810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3"/>
          <p:cNvSpPr/>
          <p:nvPr/>
        </p:nvSpPr>
        <p:spPr>
          <a:xfrm>
            <a:off x="975348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4"/>
          <p:cNvSpPr/>
          <p:nvPr/>
        </p:nvSpPr>
        <p:spPr>
          <a:xfrm>
            <a:off x="9144000" y="2133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5"/>
          <p:cNvSpPr/>
          <p:nvPr/>
        </p:nvSpPr>
        <p:spPr>
          <a:xfrm>
            <a:off x="9067680" y="2057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6"/>
          <p:cNvSpPr/>
          <p:nvPr/>
        </p:nvSpPr>
        <p:spPr>
          <a:xfrm>
            <a:off x="9906120" y="25146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7"/>
          <p:cNvSpPr/>
          <p:nvPr/>
        </p:nvSpPr>
        <p:spPr>
          <a:xfrm>
            <a:off x="9144000" y="2362320"/>
            <a:ext cx="7632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8"/>
          <p:cNvSpPr/>
          <p:nvPr/>
        </p:nvSpPr>
        <p:spPr>
          <a:xfrm>
            <a:off x="9906120" y="2590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9"/>
          <p:cNvSpPr/>
          <p:nvPr/>
        </p:nvSpPr>
        <p:spPr>
          <a:xfrm>
            <a:off x="8534520" y="4267080"/>
            <a:ext cx="914400" cy="213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0"/>
          <p:cNvSpPr/>
          <p:nvPr/>
        </p:nvSpPr>
        <p:spPr>
          <a:xfrm>
            <a:off x="8458200" y="17524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1"/>
          <p:cNvSpPr/>
          <p:nvPr/>
        </p:nvSpPr>
        <p:spPr>
          <a:xfrm>
            <a:off x="8610480" y="4800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劣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2"/>
          <p:cNvSpPr/>
          <p:nvPr/>
        </p:nvSpPr>
        <p:spPr>
          <a:xfrm>
            <a:off x="228600" y="4267080"/>
            <a:ext cx="16765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3"/>
          <p:cNvSpPr/>
          <p:nvPr/>
        </p:nvSpPr>
        <p:spPr>
          <a:xfrm>
            <a:off x="228600" y="4491000"/>
            <a:ext cx="1752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阅读选择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价格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告受阅率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4"/>
          <p:cNvSpPr/>
          <p:nvPr/>
        </p:nvSpPr>
        <p:spPr>
          <a:xfrm>
            <a:off x="2286000" y="4191120"/>
            <a:ext cx="16765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5"/>
          <p:cNvSpPr/>
          <p:nvPr/>
        </p:nvSpPr>
        <p:spPr>
          <a:xfrm>
            <a:off x="2209680" y="4267080"/>
            <a:ext cx="17528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阅读选择性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价格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行量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效性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众面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6"/>
          <p:cNvSpPr/>
          <p:nvPr/>
        </p:nvSpPr>
        <p:spPr>
          <a:xfrm>
            <a:off x="4191120" y="4191120"/>
            <a:ext cx="16761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7"/>
          <p:cNvSpPr/>
          <p:nvPr/>
        </p:nvSpPr>
        <p:spPr>
          <a:xfrm>
            <a:off x="6324480" y="4191120"/>
            <a:ext cx="16765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8"/>
          <p:cNvSpPr/>
          <p:nvPr/>
        </p:nvSpPr>
        <p:spPr>
          <a:xfrm>
            <a:off x="6248520" y="4191120"/>
            <a:ext cx="19047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技术制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资源制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反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内容良莠不齐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觉疲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9"/>
          <p:cNvSpPr/>
          <p:nvPr/>
        </p:nvSpPr>
        <p:spPr>
          <a:xfrm>
            <a:off x="4191120" y="4267080"/>
            <a:ext cx="2057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存性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针对性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众差异大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告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价格极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0"/>
          <p:cNvSpPr/>
          <p:nvPr/>
        </p:nvSpPr>
        <p:spPr>
          <a:xfrm>
            <a:off x="304920" y="166680"/>
            <a:ext cx="38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媒体对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304920" y="166680"/>
            <a:ext cx="38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杂志的特点及要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457200" y="1717560"/>
            <a:ext cx="3200400" cy="2654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读者阶层和对象明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印刷精美、阅读率高、保存期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版面安排灵活，颜色多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时效性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4724280" y="1521000"/>
            <a:ext cx="4191120" cy="302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文章专业性、针对性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多用图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黄金分割、配图、配色、大块留白（美编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强调文章叙述性及深度，对可读性要求特别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4267080" y="3048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44197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4419720" y="3352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4419720" y="3352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5181480" cy="498168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8"/>
          <p:cNvSpPr/>
          <p:nvPr/>
        </p:nvSpPr>
        <p:spPr>
          <a:xfrm>
            <a:off x="1066680" y="380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1066680" y="380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1219320" y="685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1295280" y="914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1295280" y="914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3"/>
          <p:cNvSpPr/>
          <p:nvPr/>
        </p:nvSpPr>
        <p:spPr>
          <a:xfrm>
            <a:off x="1295280" y="914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4"/>
          <p:cNvSpPr/>
          <p:nvPr/>
        </p:nvSpPr>
        <p:spPr>
          <a:xfrm>
            <a:off x="-304920" y="15228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谢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57200" y="-2286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什么是新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新闻的三个基本要素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新闻首先是一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事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新闻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新近发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事实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新闻是对新近发生的事实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报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457200" y="-152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判断新闻价值的标准是什么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52280" y="1143000"/>
            <a:ext cx="198144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闻价值是衡量某一事件是否值得采写、刊登的尺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962520" y="990720"/>
            <a:ext cx="571500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时效性和时新性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新闻的基本属性，与新闻价值成正比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重要性：是新闻的价值核心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显著性：指被报道对象或事件与众不同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接近性：新闻内容与受众在利害上、地理上、心理上的关系越近，新闻价值就越高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公效性：指公众效益，是新闻价值的重要因素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趣味性：新闻事实是否有趣味；记者的描述是否有趣味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2133720" y="2286000"/>
            <a:ext cx="1828800" cy="1552680"/>
          </a:xfrm>
          <a:custGeom>
            <a:avLst/>
            <a:gdLst>
              <a:gd name="textAreaLeft" fmla="*/ 228600 w 1828800"/>
              <a:gd name="textAreaRight" fmla="*/ 1600200 w 1828800"/>
              <a:gd name="textAreaTop" fmla="*/ 388080 h 1552680"/>
              <a:gd name="textAreaBottom" fmla="*/ 1164600 h 1552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438280" y="274320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六要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76320" y="-152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新闻体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6248520" y="3048120"/>
            <a:ext cx="961920" cy="91440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971800" y="2362320"/>
            <a:ext cx="3429000" cy="1981080"/>
          </a:xfrm>
          <a:prstGeom prst="pentag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9a5db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352680" y="3048120"/>
            <a:ext cx="2590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0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新闻体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3048120" y="1143000"/>
            <a:ext cx="32763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叙述的方式、简明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扼要的方式、迅速及时的报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28600" y="2438280"/>
            <a:ext cx="266688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血肉、有描述，比消息更详细、更生动的新闻报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6400800" y="2438280"/>
            <a:ext cx="32767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特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新闻事实中最富特征表现力，表现手法最多样化，表达效果最具立体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1447920" y="4343400"/>
            <a:ext cx="26668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针对某一新闻事件发议论、说道理，是对新闻事件的抽象思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486400" y="4343400"/>
            <a:ext cx="297180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析性报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角度、全方位分析、揭示新闻事件的意义或实质，并预测其发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57200" y="990720"/>
            <a:ext cx="9067680" cy="5486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消息写作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定义、要素及组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特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种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结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消息的写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导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主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背景材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结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03:02:18Z</dcterms:created>
  <dc:creator>market</dc:creator>
  <dc:description/>
  <dc:language>en-US</dc:language>
  <cp:lastModifiedBy>Juliana Zhu</cp:lastModifiedBy>
  <dcterms:modified xsi:type="dcterms:W3CDTF">2012-04-20T02:52:16Z</dcterms:modified>
  <cp:revision>4310</cp:revision>
  <dc:subject/>
  <dc:title>幻灯片 1</dc:title>
</cp:coreProperties>
</file>