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2.jpeg" ContentType="image/jpe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24.gif" ContentType="image/gif"/>
  <Override PartName="/ppt/media/image12.jpeg" ContentType="image/jpeg"/>
  <Override PartName="/ppt/media/image4.png" ContentType="image/png"/>
  <Override PartName="/ppt/media/image16.jpeg" ContentType="image/jpeg"/>
  <Override PartName="/ppt/media/image19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59E-6D74-476B-A18B-CB4C5351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0C3-66F0-42BE-8123-C5B1234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E9554-3673-4E5A-B8F0-B7FCE0E6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63B0-3DED-49EC-AB9C-9EAA1B1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21820-6441-4CFF-8732-28FD965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1D558-6641-4296-B262-44024AF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93E4A-DC11-4D63-B884-E046E13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2D16-7102-466D-AA36-C869AE3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D2B05-CD4E-4ED2-9DFA-53C6B56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35E5-278C-4F47-A087-D2640D2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495AC-CB25-43A4-85CD-B50DB215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E356C-B3E0-4CE0-BB21-D6EBF172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862-C04B-4EE3-8DC8-55F68AE5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9243-1662-4142-A791-5CF86A1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8DF4B-06AA-42F7-A471-AC4F0E1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54972-CE96-42FA-B296-3129D5CA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9ECB-05C9-4B87-886C-EF835DB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9ECF8-B67E-4396-9BF4-43774C7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61AD0-9B5C-4860-A0FE-89E680C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4458D-FF55-450B-B8B2-4B7D93D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60054-05F6-4C80-BCA7-78ADF4A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645EF-DF57-485D-A940-01DFF779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6949C-DB11-4D99-A33F-FCCC960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586-828A-4269-9A19-42F946A0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92D6F-23D0-467B-BD39-A78AF4FD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3074-16AA-4BE4-AC13-572C0808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94381-DD59-4DE7-B45E-3261BB0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83A93-89C8-4DBC-95A5-267E8A3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14EFF-BAAF-419C-AA8B-D392DCD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492EE-CAC0-433E-9F5A-EEBE2E7A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B4BD-95D6-4239-A625-92FBB65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49467-0ADD-4D04-BDF6-DBE90A34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306B6-377C-42E7-A78B-9F18236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516A3-6BB4-42E6-A201-D4369E5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14D-3B01-4B10-B21F-8FB0BB88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7723-FCF6-4284-B5B7-5384A4E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841C3-C56D-442D-83E6-AC8224F3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A4127-484A-4543-980F-00CDA126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43B7D-40E4-4091-B368-9A85EDC0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90698-8F09-473D-836A-434E0DC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E4430-BA95-451C-A541-E4966FE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2E27A-89FB-4F56-B63E-DE5B992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F400C-1955-49DB-96F4-83CA2E9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A376-B11C-4BA8-AEE0-A91F179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15B2F-A8B9-4E76-A372-BEDDF94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E11-53FA-4907-8C69-940B274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8743F-3C3A-406C-9D0A-124B40D2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E906-4CD6-4D83-9E0C-A1F3B6A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B8355-8412-4383-A67F-63BE7624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5193B-A2A1-4948-9853-D50F267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7BD0D-9D92-4F67-89D1-FF94BEB4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6AEB0-3F74-475C-B782-832A5195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75BF0-6CCF-46FA-B79F-BA3D0994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EA10B-DD52-4710-B756-AED08FE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FA976-E676-4524-80B1-C8BD34B5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EDE4E-2D1F-4BED-9FE7-09525DE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02EC-1E51-408E-A24B-59DC86C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02794-0B44-4EA2-8D8A-7031BD4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6F3BA-B759-4530-90FD-98DD7BF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DFAAF-B259-4FA9-9358-41A94C9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44386-AEC1-4A4B-82AC-1A2DD8D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1307A-09DF-4878-92CB-2F04A198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6574B-45EE-4566-9BAB-7B773B9F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5A273-0BA2-4C2D-8B48-6DCFB40C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9E11-CDA8-4850-8B3E-E9CAA54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1783-7748-4A9F-A733-C785033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968C-1A63-4C06-A86B-D85E0A99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934-6A01-42A6-A8AB-049CCFB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B07-A645-46B5-9404-ABC25D3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FA10-3497-4365-8911-A9FCDF1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69A-66B3-4800-B68F-926C911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31A-8453-4A3D-90B1-55CEC692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AFF7-25C4-4D7F-8135-06153299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690C-24B1-44CF-B239-743483D0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628E-5FC4-452A-9EBA-0CD0C9A3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F248-C831-4347-B69D-BD5F14C6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A4F6-C329-41AF-BA24-263E436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ADDC-4AC8-41D4-9067-18225E0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5F65-60D0-4D76-8133-532D9F31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D96-2C52-46D4-BE2C-EAB50B99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9008-A4D9-4477-838A-4BD4E647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3268-D7BB-4BFF-B29D-447ED7A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BC13-B7B7-4666-83E5-C2A5AD4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A381-1E6D-48CA-9E94-FC46E0B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8B07-71F6-4E8B-877A-940C5AC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9060-44DD-4102-85AA-F193E713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582D-6554-4B15-BAE1-2397EB37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7A78-D861-4F91-B921-D6B6F4D4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1641-31B5-47AA-99EF-E202130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FC9B-738A-4570-80BA-80BEEC1D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B59-5825-49A3-83BB-1AB3B6D1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7DC5-5F32-4612-A2BA-427E3A18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EBC8-E464-4C58-9C8A-FF62042D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B69F-63BD-43D5-8516-E0E7647D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365D-4322-4A99-B95C-0481015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1BDD-7A60-4875-B324-A7F4804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1F37-33B2-4184-A78E-C8163A6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55EE-2190-49ED-848D-F06F146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D4A8-CAA0-4EBC-B383-9E46E585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0CBD-E3A2-459C-89BA-6569584D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07F1-934D-4B96-B51B-8A6AEDB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59B-C069-4355-8001-57364E8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76F8-6A11-4E1B-BE2A-C7731A22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03E3-9CB9-4A8D-9D4D-A13D143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C02A-FFAA-4476-858B-50F5CC3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692D-EDCA-4561-B8C0-FE13C4AA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A386-8371-4ED4-AF06-924F431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C33E-9CD9-4CAC-9B9B-BFD1E98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F6A8-74F4-46D9-8E71-815C766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EA0D-FACD-492E-94F2-BF6B126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E149-9FA6-462D-9B80-6B332B4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7209-D164-4F7D-AF27-9EAE8451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605-3A23-489F-B720-96B2486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3129-886D-45A6-92D4-B66E242C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F5A9-BDB4-46CB-BC5F-4397F510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78C3-62D4-4018-8E74-DF31563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EC8A-31C5-493C-A58C-C729F0D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782A-5A22-4625-8A56-EB58E377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6B19-A3E2-4E1B-B3DC-2D0A2A4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8014-9160-4135-A432-840C9B3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D1987-8065-416B-8DE1-B6C7666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CCA66-1AB3-4D9B-8FAD-F802070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C251-2AC0-4BBA-B5CF-556E7A3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B0F-1DD9-4426-963D-9DFB264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BCC0-3462-4DA1-9E49-E3962A6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C521-14BA-48FC-818A-6558D567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0645-72A4-47C2-B24C-41D5DD3B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377C7-748C-4063-BF66-80781654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29AC-4A1A-4A31-8751-2386FE6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C8FD-3697-46F2-B54B-57C0BE1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3B61-D17F-49B7-90B7-DC93523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9C04-ED27-4735-A3AB-9D77792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F546-624D-49E1-BAC5-BA1E95A5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C00B-6FAC-4C2B-9161-20B85B3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92F-B81C-4F97-8443-FC6AD59F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8AE3-34AA-4265-9C1E-573ED8E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284E1-69B4-46B7-A2A3-C4F476D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A7CB-14EC-4D1C-A6C6-7F5B96D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4BBF-B081-42A0-8EED-68AD605E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131F-B713-4362-8AB7-C0AB941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25CFE0-50DF-4880-99F6-38413A77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A4420-14A9-45A5-A154-A76629A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28016-C05D-4BA7-9E7E-D40218EF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04A53-4DEF-4261-B3C3-5830347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82276-A01B-40FD-9125-0E01065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FBE-D97D-4237-B59C-D9FF2FB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B2158C-3ED6-4B65-827A-294434D7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D27C8-3C1A-4D2F-90C3-018689B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EDA94-3250-4929-929E-FF08AAA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EC6F7-1EB7-4906-9A00-F6A4CD1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7A464-2C1E-4D98-ADC6-95572B4F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9C52A-602B-476A-A62A-6E22152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AFC7B5-809B-4013-AFD6-3B916D69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43A2E-8106-4E77-B9CB-40122939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BACFA-9A49-41B5-A88E-129FDFF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7B4F7-A1AF-469A-9829-AC225A3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C57D-380D-45AC-8DA7-C0A24FE575E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840-B074-48C8-A68B-6C8E95553F4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F04-86F0-42B8-8757-76B47E163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6A3-50E7-4B8D-911E-69390605E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8BC-85FF-40BB-A6D5-385DF3EC1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261-8BC1-43B9-8C28-B1640FA33E7B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928-5C43-4CF7-91F3-4A16AEFF7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EBA-3364-452B-B1D8-442940D606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201-B566-49A6-8041-09DE0192967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2678-7CEE-4C37-A4D6-FBF2E545387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0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1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0E57-3A33-48CE-8FF7-45B624E8B4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B99-E2DA-4440-A12E-253562973A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EA59-A961-427A-A4FD-B6A2D8DFAC8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CN" sz="8800" spc="-1" strike="noStrike">
                <a:solidFill>
                  <a:srgbClr val="cc3300"/>
                </a:solidFill>
                <a:latin typeface="Arial"/>
              </a:rPr>
              <a:t>春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63640" y="3716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楷体_GB2312"/>
              </a:rPr>
              <a:t>作者：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916360" y="189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33"/>
                </a:solidFill>
                <a:latin typeface="Arial"/>
              </a:rPr>
              <a:t>盼春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97240" y="2317680"/>
            <a:ext cx="39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作者的心情怎样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34000" y="37162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急切、喜悦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48000" y="549360"/>
            <a:ext cx="338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盼 春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496040" cy="2408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0" y="2637000"/>
            <a:ext cx="464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朗润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4084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07672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水涨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8763120" cy="30826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63640" y="6156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太阳的脸红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700" spc="-1" strike="noStrike">
                <a:solidFill>
                  <a:srgbClr val="ff9933"/>
                </a:solidFill>
                <a:latin typeface="Arial"/>
                <a:ea typeface="黑体"/>
              </a:rPr>
              <a:t>绘春</a:t>
            </a:r>
            <a:endParaRPr b="0" lang="en-US" sz="127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684360" y="2781360"/>
          <a:ext cx="7638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81360"/>
                    <a:ext cx="7638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文章抓住了春草的什么特点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436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916360" y="4581360"/>
            <a:ext cx="3743280" cy="1722240"/>
            <a:chOff x="2916360" y="4581360"/>
            <a:chExt cx="3743280" cy="1722240"/>
          </a:xfrm>
        </p:grpSpPr>
        <p:sp>
          <p:nvSpPr>
            <p:cNvPr id="813" name=""/>
            <p:cNvSpPr/>
            <p:nvPr/>
          </p:nvSpPr>
          <p:spPr>
            <a:xfrm>
              <a:off x="4500720" y="458136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16360" y="566100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10800"/>
                </a:moveTo>
                <a:lnTo>
                  <a:pt x="22640" y="3794"/>
                </a:lnTo>
                <a:lnTo>
                  <a:pt x="226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132000" y="26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春 花 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的情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6180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12520" y="595008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4292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68360" y="54864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和煦、芳香、悦耳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612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4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4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065" y="1400"/>
                </a:lnTo>
                <a:lnTo>
                  <a:pt x="1400" y="140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065" y="20200"/>
                </a:lnTo>
                <a:lnTo>
                  <a:pt x="31065" y="140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5" y="2020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5" h="21600">
                <a:moveTo>
                  <a:pt x="9226" y="10800"/>
                </a:moveTo>
                <a:lnTo>
                  <a:pt x="23239" y="3794"/>
                </a:lnTo>
                <a:lnTo>
                  <a:pt x="232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217600" y="69228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    “ </a:t>
            </a: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一年之计在于春”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828720" y="2637000"/>
            <a:ext cx="1137780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激励人们把握时机，奋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向上，辛勤劳作，也抒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了作者热爱生活，进而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创造美好生活，积极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的感情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1447920"/>
            <a:ext cx="6019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小姑娘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672880" y="12952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新          美          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94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赞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400" spc="-1" strike="noStrike">
                <a:solidFill>
                  <a:srgbClr val="ff9933"/>
                </a:solidFill>
                <a:latin typeface="Arial"/>
                <a:ea typeface="华文彩云"/>
              </a:rPr>
              <a:t>赞  春</a:t>
            </a:r>
            <a:endParaRPr b="0" lang="en-US" sz="10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693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f7d47d"/>
                </a:solidFill>
                <a:latin typeface="Arial"/>
                <a:ea typeface="华文行楷"/>
              </a:rPr>
              <a:t>新</a:t>
            </a: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华文行楷"/>
              </a:rPr>
              <a:t>：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华文行楷"/>
              </a:rPr>
              <a:t>新生命的开始，给人无限希望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378936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042920" y="37162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美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令人喜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2f131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11120" y="444168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16000" y="463248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充满活力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给人以信心和力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eec94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听觉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Arial"/>
              </a:rPr>
              <a:t>思考：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你还知道古人笔下描写春天的诗句吗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咏   柳</a:t>
            </a:r>
            <a:br>
              <a:rPr sz="4800"/>
            </a:b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贺知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碧玉妆成一树高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万条垂下绿丝绦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不知细叶谁裁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二月春风似剪刀</a:t>
            </a:r>
            <a:r>
              <a:rPr b="0" lang="zh-CN" sz="4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江南春绝句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杜　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千里莺啼绿映红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水村山郭酒旗风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南朝四百八十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多少楼台烟雨中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987640" y="907920"/>
            <a:ext cx="36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18080" y="191628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278080" cy="32767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700360" y="2205000"/>
            <a:ext cx="554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赋得古草原离别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白居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离离原上草，一岁一枯荣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野火烧不尽，春风吹又生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远芳侵古道，晴翠接荒城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又送王孙去，萋萋满别情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826920" y="148428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读一读下面的词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捉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在草丛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预习检测（再快速看课文能正确读准字音）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47640" y="263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56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6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7636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403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zhu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5600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62064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掌握重点的字词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有感情的朗读课文，理清思路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763640" y="765000"/>
            <a:ext cx="3048120" cy="8384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5640" y="2133720"/>
            <a:ext cx="603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3429000"/>
            <a:ext cx="7086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把握好感情的变化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4437000"/>
            <a:ext cx="761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89588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1" action="ppaction://hlinksldjump"/>
          </p:cNvPr>
          <p:cNvSpPr/>
          <p:nvPr/>
        </p:nvSpPr>
        <p:spPr>
          <a:xfrm>
            <a:off x="3276720" y="17002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2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）总绘春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234936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3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）春草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2924280"/>
            <a:ext cx="27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4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）春花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429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5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）春风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48000" y="400536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6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）春雨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48000" y="45086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16760" y="5013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88400" y="55166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02360" y="6093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三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547640" y="1341360"/>
            <a:ext cx="640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1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赏析五幅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User</cp:lastModifiedBy>
  <dcterms:modified xsi:type="dcterms:W3CDTF">2011-12-08T14:04:17Z</dcterms:modified>
  <cp:revision>58</cp:revision>
  <dc:subject/>
  <dc:title>幻灯片 1</dc:title>
</cp:coreProperties>
</file>