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2.jpeg" ContentType="image/jpe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24.gif" ContentType="image/gif"/>
  <Override PartName="/ppt/media/image12.jpeg" ContentType="image/jpeg"/>
  <Override PartName="/ppt/media/image4.png" ContentType="image/png"/>
  <Override PartName="/ppt/media/image16.jpeg" ContentType="image/jpeg"/>
  <Override PartName="/ppt/media/image19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B2B-4D9D-42F4-B39C-9E3210E3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060-D280-49B8-94A6-CC9CE00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ABBD-D5F5-42B1-9075-7F891DC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BDB5A-0F85-459F-917D-ED38F93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1B5A-DFBD-4EDD-9ACE-CBC6BC6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771B-F6B8-4AF0-98E7-648FBB1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D1208-ADE9-40C1-893D-C90623D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DA326-5232-4136-B978-EFFD45D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C8F76-2731-476E-BA98-83B4BD94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A2A93-1363-47BE-B6BF-001113F3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89B63-7306-442B-9A6A-E337A2DD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74D7D-5D30-4206-A027-0BBF3024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325-5F5F-4C42-83FB-C386C067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0AD95-6C25-4331-977F-F26EA81A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3000C-5757-4AF1-A9AD-0DE9FFB7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380C5-B34E-463E-A5BF-37FD6550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D9C5B-C7B1-4ADE-AF82-19061CD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C38C6-7747-424A-8376-08BC6CD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17846-D24F-4C16-A4C8-594CCB2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E9E23-A1DF-4C25-A25E-673B784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A3D4C-E4BA-4190-ADD0-46B8496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3FE30-951B-45E3-B5AE-E95CE03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C9CE-500A-484D-BF8B-D560059C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8F9-8E82-4201-B91E-B661DD0B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09248-3A0B-451F-A2DC-1BBF6092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73A44-6B6F-4F47-97E9-D077B741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9270-460F-45AC-BB7F-FA6C90DF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8FA83-97B3-4956-9B1D-2BBACDB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F388-4B30-48CB-B3E1-F5AB11C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C64C8-A9E3-4871-A38D-56577DA7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211BC-D76D-461D-AF7F-3425F49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C5EF9-F626-4800-99FE-0C60DBA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6FCDE-BEC9-4F35-8214-0CDC909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D619F-C38F-4B4A-AEDC-E705F6F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4B5C-F4C1-475C-BF2C-0D16C90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F9156-39ED-486F-AE2D-57ED948D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53BA0-BBFD-4598-8144-C84607D8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41115-81EA-4F77-90D6-11ACF672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E211A-FCCF-4300-AABD-47F4021D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871AB-6219-477B-9870-474FD12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D0741-95A2-461B-B67F-FD89BE0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AB2FF-410A-48A1-8F7D-16A9BB13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ABDC7-B311-4A31-AB6E-E8291034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58835-957B-48CA-B258-F8BE708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B6297-369A-491D-8013-EADCE54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0D8-EDB1-4896-9DD9-38CF44C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22B80-4AD8-4B10-BD27-8B9B34A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75D88-D46F-4616-BC1B-A4E11E6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0256-B9CB-406F-8220-9481BA3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A2856-768E-4B9E-9085-B8395042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0919F-2171-4F52-83FB-B0BFF101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C7DE1-67F5-4F7A-A8C7-FEAD02B6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DA66-5A04-40AA-9F74-A73FDE06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A6AF9-2DD2-4E52-BFA5-272FCB78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18DE1-E7EC-47B2-A3E0-F868D1C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EE798-6FF6-4170-961C-CD1A0A93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3A16-9DEB-4E6C-826E-28EA5E0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50625-6F66-4F76-B517-9E3F8E3B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E332F-0F53-4CCD-94A5-1E81343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D781A-D783-4EA7-A3D8-C280A6B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F7E86-22EB-47E2-B70E-191DEF9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4FA70-AB2E-4629-9BF4-61639B00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86D76-ACE8-47E2-BA91-FC9B112A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7A97E-3B23-4599-AB2B-25C9A60C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F442-B57D-436E-895D-0BFD7DC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E270-3C7F-4480-A707-9D10F70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0585-0418-4FDC-A06C-75CAE6ED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3FB5-C340-4C4D-9349-F486730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766-3DF1-4541-90E5-7D8AB48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D6FC-2679-4B37-8A36-2238B8D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CAF-38A3-4E6E-AD29-6C8DDEB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2E75-A665-4878-B67C-73F2F98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351-942C-483E-9029-94B34FC3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50A4-A974-4DAB-8EEA-7268E072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2655-EE17-4F01-992B-46EBDEC7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273B-AFDB-4B23-87DD-6E00353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609B-4035-4C32-8C20-49EE0734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771B-3219-41AA-9268-746385ED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E06C-3071-4E60-9425-FD40694E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76B-B618-4A31-9222-29466ED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662A-68C8-4FF5-965A-238280C6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6FD5-9CC7-4A93-BA0E-E45FE14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2F6B-D47E-4273-8079-1BBD435C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6687-703D-4120-9828-7EEFAE6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5DE9-6219-46CC-9D3A-891F1731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3405-4EB7-4E0E-9944-C152CBA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9FB9-60B6-4A0C-A9E0-E82B7C52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E3FD-80CA-4BB2-8928-914A41DF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B4AB-17A9-4C49-9204-D814903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51C3-758A-4702-89D6-F28E6B2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64F-5D04-43E6-A805-DCFBB80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8D53-F62A-4B89-8FE1-69348D4C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0DFA-2409-47EB-A9B9-F73CF28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70F9-F336-49B6-B830-7F6BEA5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7477-9CC3-45CD-93C1-E2378EF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FB68-EB06-4730-B5ED-9BF0D63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2D47-8759-468F-AABC-D8A022E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4219-E20B-4482-84C9-2E4D6D9A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7F1D-4861-4BA5-99A3-9E8EF4B1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F2F7-2B17-4AA6-8451-9665766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82B3-29EC-4F2C-B283-5F212664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5FB-E6FA-4A64-A42D-66203C9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BF68A-6376-452B-AE65-37EBA22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1221-054C-4EE1-BFBE-21465A7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7A1C-A228-448B-AFC9-8F0DE28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2291-37CD-4AD8-92DC-5FCA0650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5D4B-AE01-4E51-A80E-07B8A09A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1910-32D7-477B-B0DB-9A1F973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430E-9C82-480D-A38D-09B0EBF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A30E-7491-4965-93E2-366FFFD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28D9-784D-4DD2-8D5C-5BACDA7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A998-1CE0-4743-A0C6-86491AF3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4A2-7017-46DF-A6D4-87EFBA6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44E3-C098-461C-843C-5136C60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7F33-D372-4752-B334-2DF5053D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A77B-8ECA-4527-96DA-290FCF35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6EA8-429E-4479-944B-06A0B0E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40B9-EF3A-4A75-87CC-E5C53C2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4B32-12E3-43C9-A7CC-B44751A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C57D8-49D2-400B-8112-EFD661C4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466F-F8B7-44B0-BD41-3AA1029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C092-A403-416D-89F1-05B3793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A514-5524-48B3-93CD-E7F07FC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F46-6D55-47B4-ABFD-AE4B5DA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9341-3B12-469E-A652-26F6F9DB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DF8AC-5F4F-4A49-85C6-8B73D60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DB8C-1BC7-4129-8D08-550BB3E6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15A8-5A9E-4628-9840-76BBC6FE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CE21-E173-4510-BFB1-0CCE8F6D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3A616-D47C-4625-A5D2-A0299CD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0982-9A3B-4C1E-AC4C-95BA6D39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12373-DBC9-4CD6-B153-70A58C2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FFC92-4157-452B-8675-5047874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3E00-396C-40EC-80AA-F968A7E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F98-79A0-41C1-B77F-DD816B59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68B16-EAF1-4DEB-A5A4-E9DFA07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68E7-467B-4193-8231-F8D3E3A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1E18-5953-41FC-9651-04E78245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9E988-2ACE-4AFF-B380-967BEFA3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EF1D-D662-40CD-994C-1113BA91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22088B-08D0-4F12-BF08-762A23B2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3726E-0121-4933-B8B1-AE8266F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675B2-A5F7-436D-A5D7-08EF880A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D71AB0-FFB2-4F4F-A6C1-04C852C4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43036-2262-4962-AE81-ECCE4BE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069-2580-4C8E-8CFE-86F5B59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EAA73-7734-47EE-8A72-7ED5F99F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B7B09-8DBF-4DF7-BDBD-0375809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76A11-895F-4E37-968B-A947680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FA296-A4AB-4EAE-94B1-4301A84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0DEFF-E787-41C2-8D9E-62E281E9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AB350-53A6-49E8-BFF7-37082AE6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4F5E5-70C9-4DB9-8283-96C8DC1F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0D25F-1D7D-45C2-ADA4-7E199E9F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DEF24-2A3A-46E9-9693-292AA5CA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74FCA-C16F-413C-BDA1-E3B334A2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B807-32B1-42E1-AB6D-A52100CA805D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DE1C-86A6-4237-AFD4-05884B6F5F7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775-8A59-426D-93B3-2CA8A833F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EE8-A303-4137-9635-4C21E98A7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A63-B5C9-4CA7-8BF2-184CA30A04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2EC-9157-4205-9538-0BA108555BDC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A78-1806-4B51-B0F5-7F5D14F8C6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8C4-FDF6-4F77-87D7-BC4A4C992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4113-A1EF-499D-A560-45B9D39F690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50C-8AE6-4809-9183-3501DB8A29B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0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1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DB9F-C663-4FA6-A4FA-27CAEE462B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D9F-00A8-4E48-9975-4C57516394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AC3-FD19-4259-8E8B-F8C1358BFDE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CN" sz="8800" spc="-1" strike="noStrike">
                <a:solidFill>
                  <a:srgbClr val="cc3300"/>
                </a:solidFill>
                <a:latin typeface="Arial"/>
              </a:rPr>
              <a:t>春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63640" y="3716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楷体_GB2312"/>
              </a:rPr>
              <a:t>作者：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916360" y="189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33"/>
                </a:solidFill>
                <a:latin typeface="Arial"/>
              </a:rPr>
              <a:t>盼春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97240" y="2317680"/>
            <a:ext cx="39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作者的心情怎样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34000" y="37162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急切、喜悦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48000" y="549360"/>
            <a:ext cx="338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盼 春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496040" cy="2408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0" y="2637000"/>
            <a:ext cx="464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朗润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4084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07672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水涨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8763120" cy="30826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63640" y="6156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太阳的脸红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700" spc="-1" strike="noStrike">
                <a:solidFill>
                  <a:srgbClr val="ff9933"/>
                </a:solidFill>
                <a:latin typeface="Arial"/>
                <a:ea typeface="黑体"/>
              </a:rPr>
              <a:t>绘春</a:t>
            </a:r>
            <a:endParaRPr b="0" lang="en-US" sz="127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684360" y="2781360"/>
          <a:ext cx="7638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81360"/>
                    <a:ext cx="7638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文章抓住了春草的什么特点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436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916360" y="4581360"/>
            <a:ext cx="3743280" cy="1722240"/>
            <a:chOff x="2916360" y="4581360"/>
            <a:chExt cx="3743280" cy="1722240"/>
          </a:xfrm>
        </p:grpSpPr>
        <p:sp>
          <p:nvSpPr>
            <p:cNvPr id="813" name=""/>
            <p:cNvSpPr/>
            <p:nvPr/>
          </p:nvSpPr>
          <p:spPr>
            <a:xfrm>
              <a:off x="4500720" y="458136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16360" y="566100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10800"/>
                </a:moveTo>
                <a:lnTo>
                  <a:pt x="22640" y="3794"/>
                </a:lnTo>
                <a:lnTo>
                  <a:pt x="226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132000" y="26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春 花 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的情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6180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12520" y="595008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4292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68360" y="54864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和煦、芳香、悦耳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612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4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4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065" y="1400"/>
                </a:lnTo>
                <a:lnTo>
                  <a:pt x="1400" y="140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065" y="20200"/>
                </a:lnTo>
                <a:lnTo>
                  <a:pt x="31065" y="140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5" y="2020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5" h="21600">
                <a:moveTo>
                  <a:pt x="9226" y="10800"/>
                </a:moveTo>
                <a:lnTo>
                  <a:pt x="23239" y="3794"/>
                </a:lnTo>
                <a:lnTo>
                  <a:pt x="232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217600" y="69228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    “ </a:t>
            </a: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一年之计在于春”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828720" y="2637000"/>
            <a:ext cx="1137780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激励人们把握时机，奋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向上，辛勤劳作，也抒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了作者热爱生活，进而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创造美好生活，积极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的感情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1447920"/>
            <a:ext cx="6019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小姑娘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672880" y="12952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新          美          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94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赞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400" spc="-1" strike="noStrike">
                <a:solidFill>
                  <a:srgbClr val="ff9933"/>
                </a:solidFill>
                <a:latin typeface="Arial"/>
                <a:ea typeface="华文彩云"/>
              </a:rPr>
              <a:t>赞  春</a:t>
            </a:r>
            <a:endParaRPr b="0" lang="en-US" sz="10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693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f7d47d"/>
                </a:solidFill>
                <a:latin typeface="Arial"/>
                <a:ea typeface="华文行楷"/>
              </a:rPr>
              <a:t>新</a:t>
            </a: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华文行楷"/>
              </a:rPr>
              <a:t>：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华文行楷"/>
              </a:rPr>
              <a:t>新生命的开始，给人无限希望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378936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042920" y="37162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美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令人喜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2f131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11120" y="444168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16000" y="463248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充满活力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给人以信心和力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eec94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听觉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Arial"/>
              </a:rPr>
              <a:t>思考：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你还知道古人笔下描写春天的诗句吗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咏   柳</a:t>
            </a:r>
            <a:br>
              <a:rPr sz="4800"/>
            </a:b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贺知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碧玉妆成一树高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万条垂下绿丝绦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不知细叶谁裁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二月春风似剪刀</a:t>
            </a:r>
            <a:r>
              <a:rPr b="0" lang="zh-CN" sz="4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江南春绝句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杜　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千里莺啼绿映红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水村山郭酒旗风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南朝四百八十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多少楼台烟雨中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987640" y="907920"/>
            <a:ext cx="36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18080" y="191628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278080" cy="32767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700360" y="2205000"/>
            <a:ext cx="554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赋得古草原离别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白居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离离原上草，一岁一枯荣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野火烧不尽，春风吹又生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远芳侵古道，晴翠接荒城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又送王孙去，萋萋满别情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826920" y="148428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读一读下面的词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捉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在草丛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预习检测（再快速看课文能正确读准字音）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47640" y="263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56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6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7636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403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zhu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5600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62064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掌握重点的字词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有感情的朗读课文，理清思路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763640" y="765000"/>
            <a:ext cx="3048120" cy="8384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5640" y="2133720"/>
            <a:ext cx="603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3429000"/>
            <a:ext cx="7086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把握好感情的变化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4437000"/>
            <a:ext cx="761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89588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1" action="ppaction://hlinksldjump"/>
          </p:cNvPr>
          <p:cNvSpPr/>
          <p:nvPr/>
        </p:nvSpPr>
        <p:spPr>
          <a:xfrm>
            <a:off x="3276720" y="17002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2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）总绘春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234936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3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）春草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2924280"/>
            <a:ext cx="27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4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）春花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429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5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）春风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48000" y="400536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6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）春雨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48000" y="45086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16760" y="5013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88400" y="55166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02360" y="6093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三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547640" y="1341360"/>
            <a:ext cx="640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1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赏析五幅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User</cp:lastModifiedBy>
  <dcterms:modified xsi:type="dcterms:W3CDTF">2011-12-08T14:04:17Z</dcterms:modified>
  <cp:revision>58</cp:revision>
  <dc:subject/>
  <dc:title>幻灯片 1</dc:title>
</cp:coreProperties>
</file>