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gif" ContentType="image/gif"/>
  <Override PartName="/ppt/media/image22.jpeg" ContentType="image/jpeg"/>
  <Override PartName="/ppt/media/image17.jpeg" ContentType="image/jpeg"/>
  <Override PartName="/ppt/media/image3.png" ContentType="image/png"/>
  <Override PartName="/ppt/media/image27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5.png" ContentType="image/png"/>
  <Override PartName="/ppt/media/image24.gif" ContentType="image/gif"/>
  <Override PartName="/ppt/media/image12.jpeg" ContentType="image/jpeg"/>
  <Override PartName="/ppt/media/image4.png" ContentType="image/png"/>
  <Override PartName="/ppt/media/image16.jpeg" ContentType="image/jpeg"/>
  <Override PartName="/ppt/media/image19.jpeg" ContentType="image/jpe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7.jpeg" ContentType="image/jpeg"/>
  <Override PartName="/ppt/media/image1.wmf" ContentType="image/x-wmf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8.wmf" ContentType="image/x-wmf"/>
  <Override PartName="/ppt/media/image26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4F0-6D21-4281-AFB4-04A2E967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079-C427-4D7F-8913-738FC58C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A4386-1ABF-4919-8E09-6BE448C3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3DFAD-3434-4022-9C8E-4D449F49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25C89-8797-48A4-8998-B05EB5C0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3A9E2-E976-447F-9DE6-0DF702F0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CF614-CCC0-471B-AB68-42217D0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2B6DC-65A9-4904-8C5A-B44789FA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234CD-378C-4929-AF71-4C17814C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32F79-0797-40C9-B099-60D7AC35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E645E-800F-488F-B005-EB61607D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5CDB6-E63E-4F0B-A865-EA22948F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927-14A6-43BC-B61C-7C860E22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85248-9F46-43A7-9790-BEFCFA3A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AE8EE-818F-4DC0-B829-6CFB149F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CC61C-050A-43EF-8134-EF17329C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280F2-8C2C-4C82-B52E-BB026C93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4AF2F-504F-4FFD-90C3-C05FADF7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BCB7E-0FB0-4C80-A6FC-ED18DFE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AF159-255B-4FC8-BF3A-988E606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D3C19-2A64-422D-AA84-5E96C395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586B6-22DF-4120-82C1-01CEC8E1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7E8AA-24ED-4752-9E09-CC958EE4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6CF-4677-4EAC-99B6-1D50DF89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F0BD7-AFBB-48EE-82D7-9B2C14C8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81508-FB3A-4F38-8D25-24B15910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DA588-B051-4A1C-AA32-4AD68A21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EEBA4-938D-4458-9439-C7514CFF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959A1-C6D2-49FD-B160-296C97D9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F4F06-B011-4FF9-A3EF-2187E4F3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5535C-E98F-4337-8AC4-8F81C1FD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A328A-94D0-408A-8920-0F64C55C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7377A-7AC3-4A49-BD16-11C06561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64C37-18A5-4DF1-9C1A-F303FD7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550D-1933-4737-9B92-A7B19D2F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7BF36-3C97-46C3-8930-7A3DBBE0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FD02E-E36A-432A-A4C2-C53DD503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6A25B-A1FB-475A-8501-2C09A62C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0A206-0550-451B-B095-3F1381D2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24A8A-9366-4C7C-9B82-49CA720C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44BAB-54F7-4728-8772-C55EBE7A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6609A-3325-416E-8AE6-91ABF032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3F4E2-F35F-4958-BB82-EBB62CA1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963CB-6353-42C8-834C-38BB3658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42FA9-A4A5-4BF2-9BCB-FCA5946E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2C57-1827-4027-8C1B-E710012B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84F7A-306D-4D45-84D3-3DEE892E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C4FF9-5037-4420-96BC-CB496D5D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73BDF-3CF1-4E7B-8CA1-5B502181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C239F-B191-45E5-AC7C-AF3BCEE8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7CE31-1581-41F2-A914-FA0DDF1B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B7CEB-7EDF-4B11-BE57-19603408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59CA1-8B38-4DC6-8A4E-C08BC5ED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87DF0-F2A5-4E2E-A6DE-0451715D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0176D-0FC2-4CE1-A219-F640304B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4253C-CF9B-4A8B-AED4-4015676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2988-8158-489E-8D0C-C6B8E3C0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CB385-9F4F-49D1-95F1-0E666A49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420F3-A2D6-4015-8AA2-F0879B24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5B27A-55EC-4126-B474-ECE0373F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D7677-99BB-44AE-9DF7-99CE1D3E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51AA3-0242-4065-96EA-F373F920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2EE91-CE4C-4772-B739-EF05D1DB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1DADF-89CE-436C-BD42-28B7453D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ED5B-958F-4638-82A6-CC6A43AD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D3D6-A1DB-426B-B3A2-211FD585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1E92-E169-4006-81C5-5A655BBF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03D4-183E-40F1-BEBC-F2A9C582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1C0-8385-4CE8-826F-3E6FFD51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D915-AD6C-46C0-80D9-6E69B9A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34AB-F874-4AB2-AEDB-D08415E9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CB36-678D-4F0C-BAF7-DC7B61B2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4FD6-ED88-44CB-BFA7-8C47E225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CD2D-AEF6-42B6-8CA5-C7292359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7A42-0F8B-400C-8AFB-3108D6AF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DF9E-F091-48D5-800E-C16A19B2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7448-1056-4C15-89F8-6DB6947F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297B-48C1-4B0A-BDC5-F9034B42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4C9C9-A067-4508-86C0-2F865A67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37D-8BA7-4F02-B1E9-04C78303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02D9-0762-43BD-968E-008EF581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50411-0417-4DB7-AEC9-22DDF2E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9095E-6717-40F8-8B32-0349167F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813C1-D019-463A-A0C7-4BFF647D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D7A61-8E61-4622-998A-14D630F6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DEC2-F11A-4257-AF08-6AE1C54A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8397-4BA8-46BD-BDA2-C827A2FF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8388-944C-46B4-A36B-E10F9E3A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A125-0F4C-4112-AF0E-01E1EC42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B2895-B20B-4706-A042-73B8830A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12A-C4D6-4D41-8D0E-B4D444E0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C05BF-7DD9-43F9-B145-6908E2F5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03334-E721-4B1A-BD76-3261B5FE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3BC9-4DDA-44C6-B044-A8717B1D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16A6-1B92-4079-A7D6-EDE0F5C6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0F491-4279-49D5-84B8-989437C9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1E1AB-5367-427B-A506-FED91A9D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12497-8FAE-4121-B6F8-77A14CD3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6ADD5-18E5-4B27-9591-DAD3C243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9C0D-E0E4-4843-8A94-038DC098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8D87-EEA9-4119-8215-C623E1F4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E66-6D66-40E8-BBE3-2C3AE6AF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C1612-CA3D-4449-9E78-B2193FBB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426C5-8313-4A54-958A-F0846C43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9D482-6973-48C1-8BC6-F609D491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C03C1-7BDA-497A-9199-BDE630B0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CDD3B-23F6-4B04-BE61-F930E70E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9D76F-E2B9-4B21-ABCD-C1A8F5CE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43E1C-6C66-4854-958C-B0A7967C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77DAD-2292-4939-9A28-49668A66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5DF60-66C8-4658-8807-C0212C56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6F362-BADA-442D-A3F2-0AF0581E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82C-19E1-49C2-A456-1BF87F4B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CBF92-4CA3-443A-9A7B-4BD94658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33390-63A3-44F6-9749-D268CC52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3DEFD-F970-4D72-90F0-A5C54E38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C4195-9BFA-43DC-96A5-C347F6DF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ABAB8-23DB-4419-B2A8-65C8F9C8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A391F-79F4-4AEB-A76A-7F420772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BC8C1-FC62-462D-A225-7E100CC0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8526-8720-4749-A731-EB9F3FB2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F2AF6-A1AB-4025-8286-C4579274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4A644-B050-44BB-8AC7-B3C5998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A60-85A0-4466-9942-18ED392E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C17CB-0A8D-4FC3-B347-AC342E1E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2BF6D-E9EC-4B94-B66E-20A47699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32F3C-3B1A-47DE-8F0E-85F2E323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2DD8B-164B-4546-B562-DDCEE6C6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667CB-FBD3-43BE-892A-6C32C7B9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700DA-B91D-4323-B808-48E11B36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D4D78-5844-4354-9E26-84B74B20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7E256-9957-49CB-9CEF-ADB347FA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EF914-007B-4BAB-9D86-A43C701A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ED4A9-F667-4114-A876-28B388EF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1B1-2D45-4B26-8D4B-F9885413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5080C-39C5-409E-A76E-1DC45041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2EEEB-DC19-4D4C-BD8D-0FB61283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8007E-EF2B-473E-B75C-E8D4787C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97FEC-CAA4-4A76-8DB1-A95368B3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E21E7-DFC0-4B95-A234-621D2273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3CF10-6A4A-46DC-83DB-821CB6B8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EC90D-487E-4BA7-9273-B48CEB49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EA11AD-DA47-401C-9EFD-A52F1D97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EB7ADC-24CA-4EA0-AA62-319AD6F0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3B3751-9057-4499-9A7D-D6CE7134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574-9584-4BCA-9A38-0CABF912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CE799D-4604-4204-A958-85468878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6DBA16-1029-4B1D-A0F2-433690CA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03EC9E-3180-4C90-84EA-F415E81C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6B457E-8A11-48A9-9AEB-B4AE285E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041F4-D92D-47B5-B9BA-E17EBD6B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97E9D6-4650-42B3-AB3A-F443D42A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5D498-CD2A-4C56-B748-41736F7B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511DE-D0E9-4C88-9F30-3FB2A36B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3105F-11E6-4493-9D31-A436A947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3F48A-7CD0-4B6D-8074-C349ED53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1754-6215-49B3-BD76-FA06D516012F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73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10EE-2F76-4DFF-A5B0-11260B9D561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BD42-50FC-4ABB-A4C2-00A4DBEF55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2484-031A-4BBA-9922-5957BC1264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1C0-2F0B-4FBB-824D-D53B0EF855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B146-DEA5-4A6D-9266-76FFE252C3D8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DB58-CF08-4AB7-A1D4-0FE0368436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2B81-E15B-493F-9BF9-93D201200E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2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3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6CDE-A3EF-4E4A-99B1-317E80A1AA6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1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8126-1F15-4FA7-A1CD-82DF622FC71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0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1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1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8982-739F-4CEB-B0E5-D385ADFF5A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6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7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7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7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3B1A-4F61-4985-B84C-10CA6A15CB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6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D68-61E6-45B5-AE0B-5B03F6BEF41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CN" sz="8800" spc="-1" strike="noStrike">
                <a:solidFill>
                  <a:srgbClr val="cc3300"/>
                </a:solidFill>
                <a:latin typeface="Arial"/>
              </a:rPr>
              <a:t>春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763640" y="371628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  <a:ea typeface="楷体_GB2312"/>
              </a:rPr>
              <a:t>作者：朱自清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2916360" y="1890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933"/>
                </a:solidFill>
                <a:latin typeface="Arial"/>
              </a:rPr>
              <a:t>盼春</a:t>
            </a:r>
            <a:endParaRPr b="0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497240" y="2317680"/>
            <a:ext cx="39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作者的心情怎样？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934000" y="37162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急切、喜悦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140328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盼望着，盼望着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48000" y="549360"/>
            <a:ext cx="338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盼 春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55640" y="24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反复，表达了作者盼春心切的强烈感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116000" y="3573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东风来了，春天的脚步近了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042920" y="458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拟人，宣告春天到来，表达喜春之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496040" cy="24084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0" y="2637000"/>
            <a:ext cx="464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山朗润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24084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5076720" y="2708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水涨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8763120" cy="30826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63640" y="615636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太阳的脸红起来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57480" y="284040"/>
            <a:ext cx="84290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700" spc="-1" strike="noStrike">
                <a:solidFill>
                  <a:srgbClr val="ff9933"/>
                </a:solidFill>
                <a:latin typeface="Arial"/>
                <a:ea typeface="黑体"/>
              </a:rPr>
              <a:t>绘春</a:t>
            </a:r>
            <a:endParaRPr b="0" lang="en-US" sz="127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684360" y="2781360"/>
          <a:ext cx="763884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781360"/>
                    <a:ext cx="76388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-324000" y="-228600"/>
            <a:ext cx="9792000" cy="731520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文章抓住了春草的什么特点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0"/>
            <a:ext cx="247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春草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55640" y="357336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坐、躺、滚、踢、跑、捉——人（喜悦、高兴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84360" y="19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嫩、绿、满、软——草（生机勃勃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916360" y="4581360"/>
            <a:ext cx="3743280" cy="1722240"/>
            <a:chOff x="2916360" y="4581360"/>
            <a:chExt cx="3743280" cy="1722240"/>
          </a:xfrm>
        </p:grpSpPr>
        <p:sp>
          <p:nvSpPr>
            <p:cNvPr id="813" name=""/>
            <p:cNvSpPr/>
            <p:nvPr/>
          </p:nvSpPr>
          <p:spPr>
            <a:xfrm>
              <a:off x="4500720" y="4581360"/>
              <a:ext cx="790560" cy="1079640"/>
            </a:xfrm>
            <a:prstGeom prst="downArrow">
              <a:avLst>
                <a:gd name="adj1" fmla="val 50000"/>
                <a:gd name="adj2" fmla="val 34142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16360" y="5661000"/>
              <a:ext cx="37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人与自然的和谐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8101080" y="6535800"/>
            <a:ext cx="466560" cy="322200"/>
          </a:xfrm>
          <a:custGeom>
            <a:avLst/>
            <a:gdLst>
              <a:gd name="textAreaLeft" fmla="*/ 20880 w 466560"/>
              <a:gd name="textAreaRight" fmla="*/ 445680 w 4665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1267" h="21600">
                <a:moveTo>
                  <a:pt x="0" y="0"/>
                </a:moveTo>
                <a:lnTo>
                  <a:pt x="31267" y="0"/>
                </a:lnTo>
                <a:lnTo>
                  <a:pt x="31267" y="21600"/>
                </a:lnTo>
                <a:lnTo>
                  <a:pt x="0" y="21600"/>
                </a:lnTo>
                <a:close/>
              </a:path>
              <a:path fill="lightenLess" w="31267" h="21600">
                <a:moveTo>
                  <a:pt x="0" y="0"/>
                </a:moveTo>
                <a:lnTo>
                  <a:pt x="31267" y="0"/>
                </a:lnTo>
                <a:lnTo>
                  <a:pt x="29867" y="1400"/>
                </a:lnTo>
                <a:lnTo>
                  <a:pt x="1400" y="1400"/>
                </a:lnTo>
                <a:close/>
              </a:path>
              <a:path fill="darken" w="31267" h="21600">
                <a:moveTo>
                  <a:pt x="31267" y="0"/>
                </a:moveTo>
                <a:lnTo>
                  <a:pt x="31267" y="21600"/>
                </a:lnTo>
                <a:lnTo>
                  <a:pt x="29867" y="20200"/>
                </a:lnTo>
                <a:lnTo>
                  <a:pt x="29867" y="1400"/>
                </a:lnTo>
                <a:close/>
              </a:path>
              <a:path fill="darkenLess" w="31267" h="21600">
                <a:moveTo>
                  <a:pt x="31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7" y="20200"/>
                </a:lnTo>
                <a:close/>
              </a:path>
              <a:path fill="lighten" w="31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7" h="21600">
                <a:moveTo>
                  <a:pt x="8627" y="10800"/>
                </a:moveTo>
                <a:lnTo>
                  <a:pt x="22640" y="3794"/>
                </a:lnTo>
                <a:lnTo>
                  <a:pt x="2264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132000" y="26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春 花 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403280" cy="338436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26989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461880" cy="50616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5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6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7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8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9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10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8317080" y="6165720"/>
            <a:ext cx="425160" cy="358920"/>
          </a:xfrm>
          <a:custGeom>
            <a:avLst/>
            <a:gdLst>
              <a:gd name="textAreaLeft" fmla="*/ 23040 w 425160"/>
              <a:gd name="textAreaRight" fmla="*/ 402120 w 4251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582" h="21600">
                <a:moveTo>
                  <a:pt x="0" y="0"/>
                </a:moveTo>
                <a:lnTo>
                  <a:pt x="25582" y="0"/>
                </a:lnTo>
                <a:lnTo>
                  <a:pt x="25582" y="21600"/>
                </a:lnTo>
                <a:lnTo>
                  <a:pt x="0" y="21600"/>
                </a:lnTo>
                <a:close/>
              </a:path>
              <a:path fill="lightenLess" w="25582" h="21600">
                <a:moveTo>
                  <a:pt x="0" y="0"/>
                </a:moveTo>
                <a:lnTo>
                  <a:pt x="25582" y="0"/>
                </a:lnTo>
                <a:lnTo>
                  <a:pt x="24182" y="1400"/>
                </a:lnTo>
                <a:lnTo>
                  <a:pt x="1400" y="1400"/>
                </a:lnTo>
                <a:close/>
              </a:path>
              <a:path fill="darken" w="25582" h="21600">
                <a:moveTo>
                  <a:pt x="25582" y="0"/>
                </a:moveTo>
                <a:lnTo>
                  <a:pt x="25582" y="21600"/>
                </a:lnTo>
                <a:lnTo>
                  <a:pt x="24182" y="20200"/>
                </a:lnTo>
                <a:lnTo>
                  <a:pt x="24182" y="1400"/>
                </a:lnTo>
                <a:close/>
              </a:path>
              <a:path fill="darkenLess" w="25582" h="21600">
                <a:moveTo>
                  <a:pt x="2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2" y="20200"/>
                </a:lnTo>
                <a:close/>
              </a:path>
              <a:path fill="lighten" w="2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2" h="21600">
                <a:moveTo>
                  <a:pt x="5785" y="10800"/>
                </a:moveTo>
                <a:lnTo>
                  <a:pt x="19798" y="3794"/>
                </a:lnTo>
                <a:lnTo>
                  <a:pt x="19798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565200" cy="50184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 txBox="1"/>
          <p:nvPr/>
        </p:nvSpPr>
        <p:spPr>
          <a:xfrm rot="5400000">
            <a:off x="354600" y="589320"/>
            <a:ext cx="1179360" cy="66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花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1" name=""/>
          <p:cNvSpPr/>
          <p:nvPr/>
        </p:nvSpPr>
        <p:spPr>
          <a:xfrm>
            <a:off x="1258920" y="476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黑体"/>
              </a:rPr>
              <a:t>作者如何全方位的描写春花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1773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上繁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7964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中昆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995640" y="1916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下野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508720" y="1916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自上而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270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眼前花儿争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56400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想象结果实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由实到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3429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色彩（“红”、“粉”“白”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564000" y="3716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味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508720" y="3716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色味结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58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星星眨呀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348000" y="4581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暗写风与太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80000" y="4581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明暗结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095880" y="6019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800600" y="544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全方位描绘春花的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476360" y="20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492360" y="20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87640" y="3068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556000" y="38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484360" y="479736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012000" y="515772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3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3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748520" y="4762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你不让我，我不让你，都开满了花赶趟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5280" y="907920"/>
            <a:ext cx="80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拟人，从视觉上写出了春花竟相开放的情景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501560" y="1341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红的像火，粉的像霞，白的像雪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317840" y="17524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排比，从视觉上写出了春花争艳，万紫千红的景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22480" y="2205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花里带着甜味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82720" y="32767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闭了眼，树上仿佛已经满是桃儿、杏儿、梨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261800" y="37162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，由眼前的春花想到秋实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765600" y="465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面衬托春花的竟相开放，万紫千红，香味浓郁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84360" y="5157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野花遍地是：……散在草丛里像眼睛，像星星，还眨呀眨的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412520" y="5950080"/>
            <a:ext cx="64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拟人，从视觉上 写出了野花闪闪发光、轻轻摆动的明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色彩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9280" y="2637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甜”从味觉上写出了花的香味儿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0880" y="4572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5640" y="4221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花下成千成百的蜜蜂嗡嗡地闹着，大小的蝴蝶飞来飞去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042920" y="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品味语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1619280" y="33336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Arial"/>
              </a:rPr>
              <a:t>春风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7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615240" y="-284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春风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03280" y="69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作者从哪些感觉来写春风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28600" y="2209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母亲的手抚摸着你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04920" y="33526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泥土的气息、草味、花香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28600" y="44197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鸟鸣、流水、短笛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486400" y="2209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触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486400" y="3352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嗅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486400" y="4419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268360" y="54864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运用各种感觉描绘春风和煦、芳香、悦耳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791320" y="5105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7196040" y="0"/>
            <a:ext cx="194796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7524720" y="609300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6120" cy="68580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46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44000" cy="84232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 rot="5400000">
            <a:off x="620280" y="97164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雨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4" name=""/>
          <p:cNvSpPr/>
          <p:nvPr/>
        </p:nvSpPr>
        <p:spPr>
          <a:xfrm>
            <a:off x="2340000" y="40464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作者抓住了春雨什么特点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0880" y="34290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3429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细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68360" y="508464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4419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轻盈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0880" y="23623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629400" y="2346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绵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715000" y="5638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162920" y="5257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10800"/>
                </a:moveTo>
                <a:lnTo>
                  <a:pt x="23317" y="3794"/>
                </a:lnTo>
                <a:lnTo>
                  <a:pt x="2331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8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8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8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04360" y="6165720"/>
            <a:ext cx="539640" cy="35892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2465" h="21600">
                <a:moveTo>
                  <a:pt x="0" y="0"/>
                </a:moveTo>
                <a:lnTo>
                  <a:pt x="32465" y="0"/>
                </a:lnTo>
                <a:lnTo>
                  <a:pt x="32465" y="21600"/>
                </a:lnTo>
                <a:lnTo>
                  <a:pt x="0" y="21600"/>
                </a:lnTo>
                <a:close/>
              </a:path>
              <a:path fill="lightenLess" w="32465" h="21600">
                <a:moveTo>
                  <a:pt x="0" y="0"/>
                </a:moveTo>
                <a:lnTo>
                  <a:pt x="32465" y="0"/>
                </a:lnTo>
                <a:lnTo>
                  <a:pt x="31065" y="1400"/>
                </a:lnTo>
                <a:lnTo>
                  <a:pt x="1400" y="1400"/>
                </a:lnTo>
                <a:close/>
              </a:path>
              <a:path fill="darken" w="32465" h="21600">
                <a:moveTo>
                  <a:pt x="32465" y="0"/>
                </a:moveTo>
                <a:lnTo>
                  <a:pt x="32465" y="21600"/>
                </a:lnTo>
                <a:lnTo>
                  <a:pt x="31065" y="20200"/>
                </a:lnTo>
                <a:lnTo>
                  <a:pt x="31065" y="1400"/>
                </a:lnTo>
                <a:close/>
              </a:path>
              <a:path fill="darkenLess" w="32465" h="21600">
                <a:moveTo>
                  <a:pt x="32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5" y="20200"/>
                </a:lnTo>
                <a:close/>
              </a:path>
              <a:path fill="lighten" w="32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5" h="21600">
                <a:moveTo>
                  <a:pt x="9226" y="10800"/>
                </a:moveTo>
                <a:lnTo>
                  <a:pt x="23239" y="3794"/>
                </a:lnTo>
                <a:lnTo>
                  <a:pt x="232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2217600" y="69228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Arial"/>
              </a:rPr>
              <a:t>    “ </a:t>
            </a:r>
            <a:r>
              <a:rPr b="0" lang="zh-CN" sz="5400" spc="-1" strike="noStrike">
                <a:solidFill>
                  <a:srgbClr val="cc3300"/>
                </a:solidFill>
                <a:latin typeface="Arial"/>
              </a:rPr>
              <a:t>一年之计在于春”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-828720" y="2637000"/>
            <a:ext cx="1137780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激励人们把握时机，奋发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向上，辛勤劳作，也抒发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了作者热爱生活，进而要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创造美好生活，积极向上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的感情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838080" y="1447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1447920"/>
            <a:ext cx="6019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刚落地的娃娃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小姑娘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春天像健壮的青年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672880" y="1295280"/>
            <a:ext cx="13993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新          美          力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048120" y="6094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赞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400" spc="-1" strike="noStrike">
                <a:solidFill>
                  <a:srgbClr val="ff9933"/>
                </a:solidFill>
                <a:latin typeface="Arial"/>
                <a:ea typeface="华文彩云"/>
              </a:rPr>
              <a:t>赞  春</a:t>
            </a:r>
            <a:endParaRPr b="0" lang="en-US" sz="10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693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华文行楷"/>
              </a:rPr>
              <a:t>  </a:t>
            </a:r>
            <a:r>
              <a:rPr b="0" lang="zh-CN" sz="4400" spc="-1" strike="noStrike">
                <a:solidFill>
                  <a:srgbClr val="f7d47d"/>
                </a:solidFill>
                <a:latin typeface="Arial"/>
                <a:ea typeface="华文行楷"/>
              </a:rPr>
              <a:t>新</a:t>
            </a:r>
            <a:r>
              <a:rPr b="0" lang="zh-CN" sz="4400" spc="-1" strike="noStrike">
                <a:solidFill>
                  <a:srgbClr val="2f1311"/>
                </a:solidFill>
                <a:latin typeface="Arial"/>
                <a:ea typeface="华文行楷"/>
              </a:rPr>
              <a:t>：</a:t>
            </a:r>
            <a:r>
              <a:rPr b="0" lang="zh-CN" sz="4400" spc="-1" strike="noStrike">
                <a:solidFill>
                  <a:srgbClr val="3333cc"/>
                </a:solidFill>
                <a:latin typeface="Arial"/>
                <a:ea typeface="华文行楷"/>
              </a:rPr>
              <a:t>新生命的开始，给人无限希望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378936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042920" y="371628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美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令人喜爱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2f131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311120" y="4441680"/>
            <a:ext cx="47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116000" y="463248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充满活力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给人以信心和力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20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332000" y="7650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      </a:t>
            </a:r>
            <a:r>
              <a:rPr b="1" i="1" lang="zh-CN" sz="4400" spc="-1" strike="noStrike">
                <a:solidFill>
                  <a:srgbClr val="feec94"/>
                </a:solidFill>
                <a:latin typeface="黑体"/>
                <a:ea typeface="黑体"/>
              </a:rPr>
              <a:t>如何写景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50920" y="1844640"/>
            <a:ext cx="80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一、运用各种修辞手法，如比喻、拟人、排比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42920" y="292428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二、从不同的感官角度来描写，如视觉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听觉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触觉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547640" y="42210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三、按照一定的顺序来描写，如从高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到低、从近到远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40000" y="55897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四、虚实结合，动静结合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68360" y="4437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</a:rPr>
              <a:t>小结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这篇优美的写景抒情散文抓住春景的特点，描绘了大地春回、生机勃发的动人景象，赞美春的活力带给人以希望和力量，激励人们抓紧春光努力工作，奋发向上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66"/>
                </a:solidFill>
                <a:latin typeface="Arial"/>
              </a:rPr>
              <a:t>思考：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</a:rPr>
              <a:t>你还知道古人笔下描写春天的诗句吗？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咏   柳</a:t>
            </a:r>
            <a:br>
              <a:rPr sz="4800"/>
            </a:br>
            <a:r>
              <a:rPr b="0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贺知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碧玉妆成一树高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万条垂下绿丝绦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不知细叶谁裁出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二月春风似剪刀</a:t>
            </a:r>
            <a:r>
              <a:rPr b="0" lang="zh-CN" sz="4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江南春绝句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杜　牧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千里莺啼绿映红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水村山郭酒旗风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南朝四百八十寺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多少楼台烟雨中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2987640" y="907920"/>
            <a:ext cx="3672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朱自清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618080" y="191628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278080" cy="327672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2700360" y="2205000"/>
            <a:ext cx="5543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朱自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189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948)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佩弦，江苏省扬州市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散文家、诗人、学者、民主战士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诗文集《踪迹》、散文集《欧游杂记》、《背影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及一些文艺论著，收在《朱自清文集》里 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散文代表作有：《绿》、《春》、《荷塘月色》、《背影》等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</a:t>
            </a:r>
            <a:r>
              <a:rPr b="0" lang="zh-CN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赋得古草原离别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白居易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离离原上草，一岁一枯荣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野火烧不尽，春风吹又生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远芳侵古道，晴翠接荒城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又送王孙去，萋萋满别情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826920" y="1484280"/>
            <a:ext cx="561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读一读下面的词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水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涨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应和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薄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晕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捉迷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散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在草丛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黑体"/>
              </a:rPr>
              <a:t>预习检测（再快速看课文能正确读准字音）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0" y="621036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12135"/>
                </a:moveTo>
                <a:lnTo>
                  <a:pt x="17806" y="5128"/>
                </a:lnTo>
                <a:lnTo>
                  <a:pt x="17806" y="191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47640" y="263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h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03640" y="2565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51280" y="26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76360" y="35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7672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á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40328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zhu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56000" y="465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6659640" y="4797360"/>
            <a:ext cx="1368360" cy="165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62064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教学目标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掌握重点的字词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ff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有感情的朗读课文，理清思路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1763640" y="765000"/>
            <a:ext cx="3048120" cy="8384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指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55640" y="2133720"/>
            <a:ext cx="60339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读音正确 ，声音洪亮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14400" y="3429000"/>
            <a:ext cx="70866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把握好感情的变化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71640" y="4437000"/>
            <a:ext cx="76136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读出抑扬顿挫、轻重缓急的美感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7236000" y="522936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289588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80880" y="33660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理清文章思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0920" y="119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盼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035240" y="1117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（总领全文，开启下文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">
            <a:hlinkClick r:id="rId1" action="ppaction://hlinksldjump"/>
          </p:cNvPr>
          <p:cNvSpPr/>
          <p:nvPr/>
        </p:nvSpPr>
        <p:spPr>
          <a:xfrm>
            <a:off x="3276720" y="17002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2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）总绘春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276720" y="2349360"/>
            <a:ext cx="279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3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）春草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348000" y="2924280"/>
            <a:ext cx="272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9" action="ppaction://hlinksldjump"/>
              </a:rPr>
              <a:t>4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0" action="ppaction://hlinksldjump"/>
              </a:rPr>
              <a:t>）春花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348000" y="34290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1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2" action="ppaction://hlinksldjump"/>
              </a:rPr>
              <a:t>5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3" action="ppaction://hlinksldjump"/>
              </a:rPr>
              <a:t>）春风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348000" y="4005360"/>
            <a:ext cx="265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4" action="ppaction://hlinksldjump"/>
              </a:rPr>
              <a:t>（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5" action="ppaction://hlinksldjump"/>
              </a:rPr>
              <a:t>6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楷体_GB2312"/>
                <a:ea typeface="楷体_GB2312"/>
                <a:hlinkClick r:id="rId16" action="ppaction://hlinksldjump"/>
              </a:rPr>
              <a:t>）春雨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348000" y="450864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迎春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16760" y="50133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新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488400" y="551664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美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402360" y="60930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力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306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（二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绘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18456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796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9528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（三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颂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048120" y="190512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048120" y="52578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547640" y="1341360"/>
            <a:ext cx="6409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00ff"/>
                </a:solidFill>
                <a:latin typeface="Arial"/>
              </a:rPr>
              <a:t>第二课时</a:t>
            </a:r>
            <a:endParaRPr b="0" lang="en-US" sz="1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赏析五幅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品味语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2:35:44Z</dcterms:created>
  <dc:creator>Liiang</dc:creator>
  <dc:description/>
  <dc:language>en-US</dc:language>
  <cp:lastModifiedBy>User</cp:lastModifiedBy>
  <dcterms:modified xsi:type="dcterms:W3CDTF">2011-12-08T14:04:17Z</dcterms:modified>
  <cp:revision>58</cp:revision>
  <dc:subject/>
  <dc:title>幻灯片 1</dc:title>
</cp:coreProperties>
</file>