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gif" ContentType="image/gif"/>
  <Override PartName="/ppt/media/image22.jpeg" ContentType="image/jpeg"/>
  <Override PartName="/ppt/media/image17.jpeg" ContentType="image/jpeg"/>
  <Override PartName="/ppt/media/image3.png" ContentType="image/png"/>
  <Override PartName="/ppt/media/image27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5.png" ContentType="image/png"/>
  <Override PartName="/ppt/media/image24.gif" ContentType="image/gif"/>
  <Override PartName="/ppt/media/image12.jpeg" ContentType="image/jpeg"/>
  <Override PartName="/ppt/media/image4.png" ContentType="image/png"/>
  <Override PartName="/ppt/media/image16.jpeg" ContentType="image/jpeg"/>
  <Override PartName="/ppt/media/image19.jpeg" ContentType="image/jpe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7.jpeg" ContentType="image/jpeg"/>
  <Override PartName="/ppt/media/image1.wmf" ContentType="image/x-wmf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8.wmf" ContentType="image/x-wmf"/>
  <Override PartName="/ppt/media/image26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E3A-182D-4E83-8BDA-C2676511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0A6-F664-4686-BE46-17328086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16EF6-82B0-4F56-B0A2-780481B5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1D49D-01F7-4E02-8634-1964009D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CC2FA-73CF-481A-93BA-CE973142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98036-3BA2-4DDB-87CD-3391A5B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4CC3F-C27B-4F82-8AE6-D7B96DFC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43F3E-2127-4CF5-A1A3-75958986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A9322-4978-4BD5-A12B-6E206A15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62535-C2D9-4E3B-8A11-16558312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D154B-D9AC-42EE-A840-301FA073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371A4-1839-42B5-8BCA-F6CA9941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613-1749-4D15-BDE1-901DCAC8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1E972-C87E-4974-AE3D-4BEB060C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D0CCD-955E-4DDB-B12C-3519EA94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93BCB-E60C-4F67-B058-B3276E3A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4F024-3D61-46C5-832A-D168BDDD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3B438-F03D-4E2B-9803-425D2308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95163-9824-43F6-8661-AD6FC959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2EA58-6DED-47A6-9B0C-9212BE49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4529D-CD2A-4FB6-97A4-BB4EE0D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F3DCA-2B54-4576-8C51-AB33D2B8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9696E-FE6A-4DD3-B487-DCA07810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49A-D254-43D3-B57D-94BECF8E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ED1C8-31AC-49EF-8B53-9E2DBEE2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2B027-AA22-4434-ADB7-530CEBC3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9E480-37A2-4C81-BC8A-AEFAAA9D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8426F-8185-48A7-A7A1-4DC7E93E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29B64-77FB-4DF8-97DF-E5DCCAC3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0177E-BB81-4485-8A6A-BF34491A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E77B4-7480-4CD5-B24E-68C6690D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333FF-A97F-400E-A89E-913527AC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AE2E0-B2CC-4478-BD98-1C3274C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02E66-6D17-45F0-8247-58B39171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ED9E-E98C-4C92-BB5E-14A42920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E5B0F-485A-4633-BBC1-9A7FB021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3DC4B-605C-498B-96F2-33A804EB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34C2A-AC37-4318-8BFC-A1CEEA1A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8CA03-D75F-4F95-850B-C7802EF5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D23C6-A2BA-4369-B719-18B0A81E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0AA4C-421F-4E57-B923-BF4AE597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1D88A-85AA-4048-B5D6-4536D436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A2305-7BCB-41E4-A46C-CDCB246F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E4948-F0F2-4C3E-B90E-CEF1183D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06CFC-68A5-4D75-9975-57513D7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78A1-8BCD-49C5-AC96-F90A5150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558F8-2A13-4AB6-8AE2-5AB41134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A73EE-659C-46BE-A0DC-8187A9B8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BDC3B-F4C8-4F39-9F5C-8CE1AEAE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2D8A9-B246-4874-AA89-D8B155EB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2DE0E-0136-458F-AA9C-220E2D4F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7215B-D2B1-4062-9AD3-E48EFD64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E13BA-293C-417B-94F8-43D5AD0D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EEA37-4FBC-49F9-A21E-40F5E631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F4D1E-1036-4332-AE04-FDEF73CD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2C91C-F79E-41A1-A7F3-1E0A3CB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ED25-BF91-4C29-BD19-21B000A0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68DA4-D504-49BE-8A16-3B085A57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81F2C-3DC7-4977-9889-A6EBFB46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EC3DC-A0EB-42C4-9F89-FD8B0F91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1F58C-8E0C-482E-8594-E257F6CC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E7EA8-C2C3-46F5-A2A2-B589DA71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57E1A-2466-4211-864F-ADDA3C71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2488C-734F-4A27-8804-BB407D8B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0974-DAC5-4E38-B39B-8DAAD5CC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17D4-0DBB-48B7-AC54-4DA9EC6C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7403-7475-430A-9064-0CE639BE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C12A-C8B5-45AC-A5CE-27E52E6B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F85-AC66-4C01-973F-73C4395E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F6C1-24BE-4D10-8A80-33D3093A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71B1-8073-4733-884A-08969717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05C7-F753-4E9A-9D29-6A9B5DF8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A72E-4700-4773-A43B-14BA3760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9E94-5A25-4929-AD61-9F43BC29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E15D-72EB-45A2-B83C-AC889091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EB3A-2721-4E75-AA15-BE5F3BA1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4321-D5AB-4B2F-B947-1BC064F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25A32-1CDB-41AB-A674-4BA4D1E0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E75F-3597-4009-8FAC-711738D3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B51-525C-4412-B224-2310C698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7F96-DFEB-4F2E-832A-E4B74950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7B0B-6CFA-4C36-A952-1EAB4C0F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07F9-6B02-43CE-8D16-D93397C0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3033-E8ED-4F17-A35E-D6E64217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103F9-F015-4C11-A711-28617CB7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1562-D407-410E-A7E2-EAB49E96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79C8-87C7-4C2A-9619-D76A7626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2BBBE-C78C-4FD0-A09C-8D88E9B5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5231-718F-49C2-9806-BAB287ED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597A-BD86-4C03-89CA-E33DE117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04B-6C44-41DD-B574-58125320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DAD0-65CB-4454-8FE5-CF200C21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CAAE-7967-474A-9673-3ACDD8CC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446F0-0089-4ADA-9A82-1D922D8D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62E6-CFCA-4A69-8115-20AE2E0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A4BC-7ECF-4863-B4FB-6557E3A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D8AA7-4DA3-4BCC-8BA8-B36AF0A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D4AD-AB69-4998-9896-54AE6EB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9E83-0D20-4C06-A5B7-51E0B19F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0B71D-3FE4-4644-856A-ABED3C31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87632-DA01-471C-8DFD-798CEB8C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6CF-AACB-43AB-AA2C-4BD354A3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9E45-991B-4F99-B7B0-91E7D470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425A2-E624-416B-9D91-C6D13FC2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DBBED-C3BE-4037-BFB6-7923090D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5F588-A3BD-44E5-AE15-00CB8557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9AC5C-08F0-4B19-B501-59A9B687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8A28-FCB7-4DD5-ABD2-217B5797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81DEB-784B-400A-BD78-CCBC27D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B797-3212-4E73-AE99-3EC15AB3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3DB0-09D2-4D00-A1C9-5009F41E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9A18C-8A5A-477F-A47B-51F0C431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25C-987D-408A-A63C-E0D2FD96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934FC-6BE3-4B7A-BDA6-49469AA7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76FCA-62F3-4299-9A7D-3AFAD0E4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4345C-D292-4905-8572-3E8829D5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66939-3E8C-4E56-8B4B-860FD1C9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E1A73-981D-4F5B-BA92-578705C8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E3B4C-F762-40A3-AEA4-102766DA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7AF83-9353-4C4D-B8A4-AD489178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D6E44-E75C-4C49-A1DF-E27C1960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58F62-2049-4549-B250-25D0D354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AC5DB-B0A1-46CF-AC23-9B302FE2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8BC-DAFA-4978-BD97-3796FD9E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F9CD9-AE61-497C-8949-BFED958C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E8AE8-3B76-463A-85D4-68815276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8E7D0-A751-4E77-843A-22578866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57546-5348-490B-BBCB-B2496BEB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38C8A-C05A-4271-817A-B33F0B24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B4D73-4575-4893-A661-29D0DEB7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986DA-2A03-4752-B068-8C38A63C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B87B1-7B00-4BF6-82C8-0ED35D52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0373E-D819-4D97-BF7B-B5DDF9C9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517F9-0CEE-42E2-8C19-AAC968DD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BFF-7562-48DC-AB25-832328AE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F3A2E-BA5E-4D70-BE95-99150646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6FAB2-4158-443F-A1C9-3D9CB7F9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37292-9C54-4B56-A596-F46E341D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43CA3-9A96-43F5-BEBA-D4733340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3E848-C792-482B-9D0C-00D23C90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261CB7-A1C7-40F0-B73B-09EBE6BD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631776-0860-4F44-BCD3-F7698857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EDF3C0-AF33-4091-A3C8-0C6A5383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B9DBE2-3882-4223-A2A7-7404778E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DD61DD-18DC-401E-B192-693F1386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658-937B-4579-8A20-F29EE0CA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93735-3F19-4D82-89D9-3E28BC21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D3A662-7E75-4459-B962-019A4193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6C318F-4500-409B-B1EB-99BE3BD1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63D3EA-C608-4C4B-9116-27D0654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9AF4B-4E94-4FB7-BA72-C87DA7C6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459DA0-7A29-46A6-AC57-84AA3105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F93EB5-A44E-45EB-ADD1-876F7E5A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AAA71-FD2D-4252-A032-525B70FE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25457-A757-4C42-AA93-9316DBC5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B747A-E672-414A-A4D2-2C9A204A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93AC-4116-426F-9871-21318268F497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73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76DB-D738-4407-8439-BEBE54C3E1D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BFE3-2247-467F-BCFA-BBDBF468D8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0B17-EE8C-4DB2-AE9F-A186310D7E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E790-1DAD-4C4D-9A55-DF46AEE5A6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2C0D-DEAB-46EE-9B7C-997B01037376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710E-172D-4BFC-AA43-30434281F0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9665-BD01-4448-B41C-3212F0EF0E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2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3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0E26-EEC2-4DF3-8682-256C8CA41C3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1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EB99-1380-4E31-8834-E0CB513D4C1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0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1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1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1B89-A8E2-4851-A8D4-CAAE9233E6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6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7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7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7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B2A8-A3EF-40F3-84A9-0492458357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6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4CED-D95F-4E24-A569-22B6BA935EF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CN" sz="8800" spc="-1" strike="noStrike">
                <a:solidFill>
                  <a:srgbClr val="cc3300"/>
                </a:solidFill>
                <a:latin typeface="Arial"/>
              </a:rPr>
              <a:t>春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763640" y="371628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  <a:ea typeface="楷体_GB2312"/>
              </a:rPr>
              <a:t>作者：朱自清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2916360" y="1890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933"/>
                </a:solidFill>
                <a:latin typeface="Arial"/>
              </a:rPr>
              <a:t>盼春</a:t>
            </a:r>
            <a:endParaRPr b="0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497240" y="2317680"/>
            <a:ext cx="39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作者的心情怎样？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934000" y="37162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急切、喜悦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140328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盼望着，盼望着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48000" y="549360"/>
            <a:ext cx="338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盼 春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55640" y="24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反复，表达了作者盼春心切的强烈感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116000" y="3573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东风来了，春天的脚步近了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042920" y="458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拟人，宣告春天到来，表达喜春之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496040" cy="24084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0" y="2637000"/>
            <a:ext cx="464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山朗润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24084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5076720" y="2708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水涨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8763120" cy="30826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63640" y="615636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太阳的脸红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700" spc="-1" strike="noStrike">
                <a:solidFill>
                  <a:srgbClr val="ff9933"/>
                </a:solidFill>
                <a:latin typeface="Arial"/>
                <a:ea typeface="黑体"/>
              </a:rPr>
              <a:t>绘春</a:t>
            </a:r>
            <a:endParaRPr b="0" lang="en-US" sz="127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684360" y="2781360"/>
          <a:ext cx="763884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781360"/>
                    <a:ext cx="76388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-324000" y="-228600"/>
            <a:ext cx="9792000" cy="731520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文章抓住了春草的什么特点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0"/>
            <a:ext cx="247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春草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55640" y="357336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坐、躺、滚、踢、跑、捉——人（喜悦、高兴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84360" y="19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嫩、绿、满、软——草（生机勃勃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916360" y="4581360"/>
            <a:ext cx="3743280" cy="1722240"/>
            <a:chOff x="2916360" y="4581360"/>
            <a:chExt cx="3743280" cy="1722240"/>
          </a:xfrm>
        </p:grpSpPr>
        <p:sp>
          <p:nvSpPr>
            <p:cNvPr id="813" name=""/>
            <p:cNvSpPr/>
            <p:nvPr/>
          </p:nvSpPr>
          <p:spPr>
            <a:xfrm>
              <a:off x="4500720" y="4581360"/>
              <a:ext cx="790560" cy="1079640"/>
            </a:xfrm>
            <a:prstGeom prst="downArrow">
              <a:avLst>
                <a:gd name="adj1" fmla="val 50000"/>
                <a:gd name="adj2" fmla="val 34142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16360" y="5661000"/>
              <a:ext cx="37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人与自然的和谐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8101080" y="6535800"/>
            <a:ext cx="466560" cy="322200"/>
          </a:xfrm>
          <a:custGeom>
            <a:avLst/>
            <a:gdLst>
              <a:gd name="textAreaLeft" fmla="*/ 20880 w 466560"/>
              <a:gd name="textAreaRight" fmla="*/ 445680 w 4665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1267" h="21600">
                <a:moveTo>
                  <a:pt x="0" y="0"/>
                </a:moveTo>
                <a:lnTo>
                  <a:pt x="31267" y="0"/>
                </a:lnTo>
                <a:lnTo>
                  <a:pt x="31267" y="21600"/>
                </a:lnTo>
                <a:lnTo>
                  <a:pt x="0" y="21600"/>
                </a:lnTo>
                <a:close/>
              </a:path>
              <a:path fill="lightenLess" w="31267" h="21600">
                <a:moveTo>
                  <a:pt x="0" y="0"/>
                </a:moveTo>
                <a:lnTo>
                  <a:pt x="31267" y="0"/>
                </a:lnTo>
                <a:lnTo>
                  <a:pt x="29867" y="1400"/>
                </a:lnTo>
                <a:lnTo>
                  <a:pt x="1400" y="1400"/>
                </a:lnTo>
                <a:close/>
              </a:path>
              <a:path fill="darken" w="31267" h="21600">
                <a:moveTo>
                  <a:pt x="31267" y="0"/>
                </a:moveTo>
                <a:lnTo>
                  <a:pt x="31267" y="21600"/>
                </a:lnTo>
                <a:lnTo>
                  <a:pt x="29867" y="20200"/>
                </a:lnTo>
                <a:lnTo>
                  <a:pt x="29867" y="1400"/>
                </a:lnTo>
                <a:close/>
              </a:path>
              <a:path fill="darkenLess" w="31267" h="21600">
                <a:moveTo>
                  <a:pt x="31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7" y="20200"/>
                </a:lnTo>
                <a:close/>
              </a:path>
              <a:path fill="lighten" w="31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7" h="21600">
                <a:moveTo>
                  <a:pt x="8627" y="10800"/>
                </a:moveTo>
                <a:lnTo>
                  <a:pt x="22640" y="3794"/>
                </a:lnTo>
                <a:lnTo>
                  <a:pt x="2264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132000" y="26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春 花 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8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403280" cy="338436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26989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461880" cy="50616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5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6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7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8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9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10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8317080" y="6165720"/>
            <a:ext cx="425160" cy="358920"/>
          </a:xfrm>
          <a:custGeom>
            <a:avLst/>
            <a:gdLst>
              <a:gd name="textAreaLeft" fmla="*/ 23040 w 425160"/>
              <a:gd name="textAreaRight" fmla="*/ 402120 w 4251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582" h="21600">
                <a:moveTo>
                  <a:pt x="0" y="0"/>
                </a:moveTo>
                <a:lnTo>
                  <a:pt x="25582" y="0"/>
                </a:lnTo>
                <a:lnTo>
                  <a:pt x="25582" y="21600"/>
                </a:lnTo>
                <a:lnTo>
                  <a:pt x="0" y="21600"/>
                </a:lnTo>
                <a:close/>
              </a:path>
              <a:path fill="lightenLess" w="25582" h="21600">
                <a:moveTo>
                  <a:pt x="0" y="0"/>
                </a:moveTo>
                <a:lnTo>
                  <a:pt x="25582" y="0"/>
                </a:lnTo>
                <a:lnTo>
                  <a:pt x="24182" y="1400"/>
                </a:lnTo>
                <a:lnTo>
                  <a:pt x="1400" y="1400"/>
                </a:lnTo>
                <a:close/>
              </a:path>
              <a:path fill="darken" w="25582" h="21600">
                <a:moveTo>
                  <a:pt x="25582" y="0"/>
                </a:moveTo>
                <a:lnTo>
                  <a:pt x="25582" y="21600"/>
                </a:lnTo>
                <a:lnTo>
                  <a:pt x="24182" y="20200"/>
                </a:lnTo>
                <a:lnTo>
                  <a:pt x="24182" y="1400"/>
                </a:lnTo>
                <a:close/>
              </a:path>
              <a:path fill="darkenLess" w="25582" h="21600">
                <a:moveTo>
                  <a:pt x="2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2" y="20200"/>
                </a:lnTo>
                <a:close/>
              </a:path>
              <a:path fill="lighten" w="2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2" h="21600">
                <a:moveTo>
                  <a:pt x="5785" y="10800"/>
                </a:moveTo>
                <a:lnTo>
                  <a:pt x="19798" y="3794"/>
                </a:lnTo>
                <a:lnTo>
                  <a:pt x="19798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565200" cy="50184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 txBox="1"/>
          <p:nvPr/>
        </p:nvSpPr>
        <p:spPr>
          <a:xfrm rot="5400000">
            <a:off x="354600" y="589320"/>
            <a:ext cx="1179360" cy="66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花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1" name=""/>
          <p:cNvSpPr/>
          <p:nvPr/>
        </p:nvSpPr>
        <p:spPr>
          <a:xfrm>
            <a:off x="1258920" y="476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黑体"/>
              </a:rPr>
              <a:t>作者如何全方位的描写春花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1773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上繁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7964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中昆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995640" y="1916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下野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508720" y="1916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自上而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270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眼前花儿争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56400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想象结果实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由实到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3429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色彩（“红”、“粉”“白”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564000" y="3716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味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508720" y="3716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色味结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58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星星眨呀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348000" y="4581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暗写风与太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80000" y="4581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明暗结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095880" y="6019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800600" y="544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全方位描绘春花的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476360" y="20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492360" y="20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87640" y="3068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556000" y="38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484360" y="479736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012000" y="515772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748520" y="4762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你不让我，我不让你，都开满了花赶趟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5280" y="907920"/>
            <a:ext cx="80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拟人，从视觉上写出了春花竟相开放的情景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501560" y="1341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红的像火，粉的像霞，白的像雪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317840" y="17524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排比，从视觉上写出了春花争艳，万紫千红的景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22480" y="2205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花里带着甜味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82720" y="32767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闭了眼，树上仿佛已经满是桃儿、杏儿、梨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261800" y="37162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，由眼前的春花想到秋实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765600" y="465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面衬托春花的竟相开放，万紫千红，香味浓郁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84360" y="5157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野花遍地是：……散在草丛里像眼睛，像星星，还眨呀眨的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412520" y="5950080"/>
            <a:ext cx="64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拟人，从视觉上 写出了野花闪闪发光、轻轻摆动的明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色彩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9280" y="2637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甜”从味觉上写出了花的香味儿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0880" y="4572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5640" y="4221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花下成千成百的蜜蜂嗡嗡地闹着，大小的蝴蝶飞来飞去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042920" y="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品味语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1619280" y="33336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Arial"/>
              </a:rPr>
              <a:t>春风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6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615240" y="-284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春风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03280" y="69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作者从哪些感觉来写春风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28600" y="2209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母亲的手抚摸着你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04920" y="33526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泥土的气息、草味、花香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28600" y="44197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鸟鸣、流水、短笛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486400" y="2209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触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486400" y="3352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嗅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486400" y="4419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268360" y="54864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运用各种感觉描绘春风和煦、芳香、悦耳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791320" y="5105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7196040" y="0"/>
            <a:ext cx="194796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7524720" y="609300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6120" cy="68580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46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44000" cy="84232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 rot="5400000">
            <a:off x="620280" y="97164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雨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4" name=""/>
          <p:cNvSpPr/>
          <p:nvPr/>
        </p:nvSpPr>
        <p:spPr>
          <a:xfrm>
            <a:off x="2340000" y="40464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作者抓住了春雨什么特点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0880" y="34290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3429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细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68360" y="508464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4419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轻盈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0880" y="23623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629400" y="2346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绵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715000" y="5638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162920" y="5257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10800"/>
                </a:moveTo>
                <a:lnTo>
                  <a:pt x="23317" y="3794"/>
                </a:lnTo>
                <a:lnTo>
                  <a:pt x="2331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7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7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04360" y="6165720"/>
            <a:ext cx="539640" cy="35892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2465" h="21600">
                <a:moveTo>
                  <a:pt x="0" y="0"/>
                </a:moveTo>
                <a:lnTo>
                  <a:pt x="32465" y="0"/>
                </a:lnTo>
                <a:lnTo>
                  <a:pt x="32465" y="21600"/>
                </a:lnTo>
                <a:lnTo>
                  <a:pt x="0" y="21600"/>
                </a:lnTo>
                <a:close/>
              </a:path>
              <a:path fill="lightenLess" w="32465" h="21600">
                <a:moveTo>
                  <a:pt x="0" y="0"/>
                </a:moveTo>
                <a:lnTo>
                  <a:pt x="32465" y="0"/>
                </a:lnTo>
                <a:lnTo>
                  <a:pt x="31065" y="1400"/>
                </a:lnTo>
                <a:lnTo>
                  <a:pt x="1400" y="1400"/>
                </a:lnTo>
                <a:close/>
              </a:path>
              <a:path fill="darken" w="32465" h="21600">
                <a:moveTo>
                  <a:pt x="32465" y="0"/>
                </a:moveTo>
                <a:lnTo>
                  <a:pt x="32465" y="21600"/>
                </a:lnTo>
                <a:lnTo>
                  <a:pt x="31065" y="20200"/>
                </a:lnTo>
                <a:lnTo>
                  <a:pt x="31065" y="1400"/>
                </a:lnTo>
                <a:close/>
              </a:path>
              <a:path fill="darkenLess" w="32465" h="21600">
                <a:moveTo>
                  <a:pt x="32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5" y="20200"/>
                </a:lnTo>
                <a:close/>
              </a:path>
              <a:path fill="lighten" w="32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5" h="21600">
                <a:moveTo>
                  <a:pt x="9226" y="10800"/>
                </a:moveTo>
                <a:lnTo>
                  <a:pt x="23239" y="3794"/>
                </a:lnTo>
                <a:lnTo>
                  <a:pt x="232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2217600" y="69228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Arial"/>
              </a:rPr>
              <a:t>    “ </a:t>
            </a:r>
            <a:r>
              <a:rPr b="0" lang="zh-CN" sz="5400" spc="-1" strike="noStrike">
                <a:solidFill>
                  <a:srgbClr val="cc3300"/>
                </a:solidFill>
                <a:latin typeface="Arial"/>
              </a:rPr>
              <a:t>一年之计在于春”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-828720" y="2637000"/>
            <a:ext cx="1137780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激励人们把握时机，奋发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向上，辛勤劳作，也抒发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了作者热爱生活，进而要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创造美好生活，积极向上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的感情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838080" y="1447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1447920"/>
            <a:ext cx="6019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刚落地的娃娃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小姑娘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健壮的青年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672880" y="1295280"/>
            <a:ext cx="13993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新          美          力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048120" y="6094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赞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400" spc="-1" strike="noStrike">
                <a:solidFill>
                  <a:srgbClr val="ff9933"/>
                </a:solidFill>
                <a:latin typeface="Arial"/>
                <a:ea typeface="华文彩云"/>
              </a:rPr>
              <a:t>赞  春</a:t>
            </a:r>
            <a:endParaRPr b="0" lang="en-US" sz="10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693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华文行楷"/>
              </a:rPr>
              <a:t>  </a:t>
            </a:r>
            <a:r>
              <a:rPr b="0" lang="zh-CN" sz="4400" spc="-1" strike="noStrike">
                <a:solidFill>
                  <a:srgbClr val="f7d47d"/>
                </a:solidFill>
                <a:latin typeface="Arial"/>
                <a:ea typeface="华文行楷"/>
              </a:rPr>
              <a:t>新</a:t>
            </a:r>
            <a:r>
              <a:rPr b="0" lang="zh-CN" sz="4400" spc="-1" strike="noStrike">
                <a:solidFill>
                  <a:srgbClr val="2f1311"/>
                </a:solidFill>
                <a:latin typeface="Arial"/>
                <a:ea typeface="华文行楷"/>
              </a:rPr>
              <a:t>：</a:t>
            </a:r>
            <a:r>
              <a:rPr b="0" lang="zh-CN" sz="4400" spc="-1" strike="noStrike">
                <a:solidFill>
                  <a:srgbClr val="3333cc"/>
                </a:solidFill>
                <a:latin typeface="Arial"/>
                <a:ea typeface="华文行楷"/>
              </a:rPr>
              <a:t>新生命的开始，给人无限希望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378936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042920" y="371628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美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令人喜爱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2f131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311120" y="4441680"/>
            <a:ext cx="47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116000" y="463248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充满活力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给人以信心和力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20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332000" y="7650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      </a:t>
            </a:r>
            <a:r>
              <a:rPr b="1" i="1" lang="zh-CN" sz="4400" spc="-1" strike="noStrike">
                <a:solidFill>
                  <a:srgbClr val="feec94"/>
                </a:solidFill>
                <a:latin typeface="黑体"/>
                <a:ea typeface="黑体"/>
              </a:rPr>
              <a:t>如何写景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50920" y="1844640"/>
            <a:ext cx="80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一、运用各种修辞手法，如比喻、拟人、排比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42920" y="292428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二、从不同的感官角度来描写，如视觉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听觉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触觉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547640" y="42210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三、按照一定的顺序来描写，如从高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到低、从近到远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40000" y="55897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四、虚实结合，动静结合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68360" y="4437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</a:rPr>
              <a:t>小结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这篇优美的写景抒情散文抓住春景的特点，描绘了大地春回、生机勃发的动人景象，赞美春的活力带给人以希望和力量，激励人们抓紧春光努力工作，奋发向上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66"/>
                </a:solidFill>
                <a:latin typeface="Arial"/>
              </a:rPr>
              <a:t>思考：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</a:rPr>
              <a:t>你还知道古人笔下描写春天的诗句吗？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咏   柳</a:t>
            </a:r>
            <a:br>
              <a:rPr sz="4800"/>
            </a:br>
            <a:r>
              <a:rPr b="0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贺知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碧玉妆成一树高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万条垂下绿丝绦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不知细叶谁裁出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二月春风似剪刀</a:t>
            </a:r>
            <a:r>
              <a:rPr b="0" lang="zh-CN" sz="4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江南春绝句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杜　牧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千里莺啼绿映红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水村山郭酒旗风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南朝四百八十寺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多少楼台烟雨中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2987640" y="907920"/>
            <a:ext cx="3672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朱自清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618080" y="191628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278080" cy="327672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2700360" y="2205000"/>
            <a:ext cx="5543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朱自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189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948)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佩弦，江苏省扬州市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散文家、诗人、学者、民主战士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诗文集《踪迹》、散文集《欧游杂记》、《背影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及一些文艺论著，收在《朱自清文集》里 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散文代表作有：《绿》、《春》、《荷塘月色》、《背影》等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赋得古草原离别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白居易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离离原上草，一岁一枯荣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野火烧不尽，春风吹又生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远芳侵古道，晴翠接荒城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又送王孙去，萋萋满别情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826920" y="1484280"/>
            <a:ext cx="561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读一读下面的词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水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涨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应和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薄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晕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捉迷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散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在草丛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预习检测（再快速看课文能正确读准字音）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0" y="621036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12135"/>
                </a:moveTo>
                <a:lnTo>
                  <a:pt x="17806" y="5128"/>
                </a:lnTo>
                <a:lnTo>
                  <a:pt x="17806" y="191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47640" y="263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h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03640" y="2565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51280" y="26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76360" y="35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7672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á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40328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zhu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56000" y="465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6659640" y="4797360"/>
            <a:ext cx="1368360" cy="165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62064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教学目标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掌握重点的字词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ff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有感情的朗读课文，理清思路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1763640" y="765000"/>
            <a:ext cx="3048120" cy="8384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指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55640" y="2133720"/>
            <a:ext cx="60339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读音正确 ，声音洪亮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14400" y="3429000"/>
            <a:ext cx="70866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把握好感情的变化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71640" y="4437000"/>
            <a:ext cx="76136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读出抑扬顿挫、轻重缓急的美感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289588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80880" y="33660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理清文章思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0920" y="119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盼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035240" y="1117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（总领全文，开启下文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">
            <a:hlinkClick r:id="rId1" action="ppaction://hlinksldjump"/>
          </p:cNvPr>
          <p:cNvSpPr/>
          <p:nvPr/>
        </p:nvSpPr>
        <p:spPr>
          <a:xfrm>
            <a:off x="3276720" y="17002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2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）总绘春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276720" y="2349360"/>
            <a:ext cx="279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3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）春草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348000" y="2924280"/>
            <a:ext cx="272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9" action="ppaction://hlinksldjump"/>
              </a:rPr>
              <a:t>4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0" action="ppaction://hlinksldjump"/>
              </a:rPr>
              <a:t>）春花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348000" y="34290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1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2" action="ppaction://hlinksldjump"/>
              </a:rPr>
              <a:t>5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3" action="ppaction://hlinksldjump"/>
              </a:rPr>
              <a:t>）春风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348000" y="4005360"/>
            <a:ext cx="265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4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5" action="ppaction://hlinksldjump"/>
              </a:rPr>
              <a:t>6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6" action="ppaction://hlinksldjump"/>
              </a:rPr>
              <a:t>）春雨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348000" y="450864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迎春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16760" y="50133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新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488400" y="551664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美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402360" y="60930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力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306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（二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绘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18456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796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9528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（三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颂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048120" y="190512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048120" y="52578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547640" y="1341360"/>
            <a:ext cx="6409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00ff"/>
                </a:solidFill>
                <a:latin typeface="Arial"/>
              </a:rPr>
              <a:t>第二课时</a:t>
            </a:r>
            <a:endParaRPr b="0" lang="en-US" sz="1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赏析五幅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品味语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2:35:44Z</dcterms:created>
  <dc:creator>Liiang</dc:creator>
  <dc:description/>
  <dc:language>en-US</dc:language>
  <cp:lastModifiedBy>User</cp:lastModifiedBy>
  <dcterms:modified xsi:type="dcterms:W3CDTF">2011-12-08T14:04:17Z</dcterms:modified>
  <cp:revision>58</cp:revision>
  <dc:subject/>
  <dc:title>幻灯片 1</dc:title>
</cp:coreProperties>
</file>