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CD3-F8A0-4D58-B853-DD44CCEE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744-2F6C-4B95-8B5D-ADED3A22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3C8-1642-4849-AB62-14FA54E9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3EC-FB9C-46ED-9F19-BAC3460C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16EC-A02A-4D05-99E6-FB177E95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587B-39BA-4022-8E89-10D13E83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54AD-888A-41B4-A8ED-1641578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B207-F9D1-4664-AA4A-7EE013DD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4CE1-1E42-48EB-AE31-3CF98148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18C7-FA1F-4317-9303-B7C6C45F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7EDC-4B19-4533-A347-83AD6D40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E1C-678B-4E1E-87E6-A34F4D56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599E-19C4-4800-9C86-8B6878DA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A09B-E1AE-4F82-B08D-00214E8D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DCEE-6879-4E77-A574-1AAD9774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E574-2C04-4F94-900B-26DE03AE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A817-9555-4646-807F-D51C805D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B12-5BED-4932-93AB-C4311550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F3A-A47A-45AF-80A2-7538976E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42D-89FC-4934-8EA8-73C4BBC0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A85-E25A-4AA6-B8D8-C3183E1D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5A2-D9FD-41D2-BDCD-515FBD45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9C9-D0C6-4B42-BF12-4184A5BE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412-3790-4214-9C5E-C059E73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AutoShap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>
                <a:gd name="textAreaLeft" fmla="*/ 0 w 8391600"/>
                <a:gd name="textAreaRight" fmla="*/ 8391960 w 8391600"/>
                <a:gd name="textAreaTop" fmla="*/ 0 h 2222640"/>
                <a:gd name="textAreaBottom" fmla="*/ 2223000 h 2222640"/>
              </a:gdLst>
              <a:ahLst/>
              <a:rect l="textAreaLeft" t="textAreaTop" r="textAreaRight" b="textAreaBottom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>
                <a:gd name="textAreaLeft" fmla="*/ 0 w 8391600"/>
                <a:gd name="textAreaRight" fmla="*/ 8391960 w 839160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>
                <a:gd name="textAreaLeft" fmla="*/ 0 w 3949560"/>
                <a:gd name="textAreaRight" fmla="*/ 3949920 w 394956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>
                <a:gd name="textAreaLeft" fmla="*/ 0 w 3949560"/>
                <a:gd name="textAreaRight" fmla="*/ 3949920 w 394956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76B6-9DD2-4DAC-80A0-760725171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48" name="AutoShape 3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>
                <a:gd name="textAreaLeft" fmla="*/ 0 w 9126720"/>
                <a:gd name="textAreaRight" fmla="*/ 9127080 w 9126720"/>
                <a:gd name="textAreaTop" fmla="*/ 0 h 5389560"/>
                <a:gd name="textAreaBottom" fmla="*/ 5389920 h 5389560"/>
              </a:gdLst>
              <a:ahLst/>
              <a:rect l="textAreaLeft" t="textAreaTop" r="textAreaRight" b="textAreaBottom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>
                <a:gd name="textAreaLeft" fmla="*/ 0 w 9126720"/>
                <a:gd name="textAreaRight" fmla="*/ 9127080 w 9126720"/>
                <a:gd name="textAreaTop" fmla="*/ 0 h 4454280"/>
                <a:gd name="textAreaBottom" fmla="*/ 4454640 h 4454280"/>
              </a:gdLst>
              <a:ahLst/>
              <a:rect l="textAreaLeft" t="textAreaTop" r="textAreaRight" b="textAreaBottom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086280"/>
                <a:gd name="textAreaBottom" fmla="*/ 3086640 h 3086280"/>
              </a:gdLst>
              <a:ahLst/>
              <a:rect l="textAreaLeft" t="textAreaTop" r="textAreaRight" b="textAreaBottom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2551320"/>
                <a:gd name="textAreaBottom" fmla="*/ 2551680 h 2551320"/>
              </a:gdLst>
              <a:ahLst/>
              <a:rect l="textAreaLeft" t="textAreaTop" r="textAreaRight" b="textAreaBottom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4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33A5-583C-4CC1-AD9D-BCF19D5EB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Arial"/>
              </a:rPr>
              <a:t>文学类文本阅读</a:t>
            </a:r>
            <a:endParaRPr b="1" lang="en-US" sz="75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771280" y="3357720"/>
            <a:ext cx="4970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散文阅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635280" y="5013360"/>
            <a:ext cx="4970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2398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16000" y="189000"/>
            <a:ext cx="874872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它是人们在原有的感性形象的基础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创造出新形象的心理活动。想象有两种，人们在自己的头脑中再现曾体验过的事物的形象，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再造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；人们根据已有的形象和体验，设想出自己没有直接见过的形象，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创造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16000" y="2637000"/>
            <a:ext cx="874872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它是人们根据事物之间的某种联系，由某个事物或事理想到其他有关的事物或事理的活动。联想一般有下列几种形式：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关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一事物想到在空间或时间上相接近的另外事物的一种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似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根据事物的相似特点（或外形相似，或精神相似）而产生的一种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C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反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眼前的事物想到与之相反的事物的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因果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事物之间的因果关系而产生的联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611280" y="981000"/>
            <a:ext cx="80643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散文阅读指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散文的基本类型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叙事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以小见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小事琐事凡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事见深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材于真人真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靠虚构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多个片断剪影表达主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用单一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哲理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人人心中所有，人人笔下所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抒写人生生活感悟　②小处着笔　③点到为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写景咏物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意蕴丰富，含意深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景抒情托物言志　②情景交融　③细腻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抒情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直抒胸臆，朴实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文化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文化意象，文化韵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①文化视角　②人文情怀　③思想意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散文读写基本规律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blipFill rotWithShape="0">
            <a:blip r:embed="rId2"/>
            <a:stretch/>
          </a:blipFill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543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散文写作的基本类型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⑴缘情（志、理）择景（物、事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⑵借景（物、事）抒情（志、理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543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散文阅读的基本要领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⑴写景（状物、叙事）是手段、是依凭，抒情（言志、析理）才是目的、是归宿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⑵对景、事、物的理解要归结至情、志、理的层面上分析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技巧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熔情、理、事于一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6459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叙述某一事件时，融进自己内心的感动、感想、感情，熔情、理、事于一炉，从而加强文章的感染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9280" y="2852640"/>
            <a:ext cx="8642520" cy="345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在这些日子里，在志愿军就要跟他们分手的日子，深深的离情却牵着他们的心。他们可以承担一个浩大的战争，可以承担重建家园的种种艰辛，可是却承担不了如此沉重的离情。志愿军也是这样。他们在远离祖国的八年中，时时想着祖国，念着祖国，可是当他们一旦要离开这结下生死之谊的人民，却是无限地依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987640" y="6210360"/>
            <a:ext cx="5977080" cy="647640"/>
          </a:xfrm>
          <a:prstGeom prst="wedgeRectCallout">
            <a:avLst>
              <a:gd name="adj1" fmla="val -33106"/>
              <a:gd name="adj2" fmla="val -11102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像议论，又像叙述，更似抒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713800" cy="46800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　在这有限的时刻里，战士们还多方寻思着，为当地的父老们尽一点力。他们思虑着：哪些溪涧在山洪到来时不好通过，就架起一座座石桥和板桥；哪些人家离河太远，就在散居的村舍挖下一口口水井；哪些水井靠近大路，又在水井上加了井盖。他们还挨家挨户去看，看谁家的房子漏雨，就苫上新草；谁家的灶台裂了缝，用泥灰把它抹好。</a:t>
            </a:r>
            <a:r>
              <a:rPr b="1" lang="en-US" sz="3000" spc="-1" strike="noStrike">
                <a:solidFill>
                  <a:srgbClr val="003399"/>
                </a:solidFill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这些在敌人猛烈的炮火中滚、爬、拚搏，无所畏惧的战士，对朝鲜人民是多么体贴入微！怪不得朝鲜人民称颂他们</a:t>
            </a:r>
            <a:r>
              <a:rPr b="1" lang="zh-CN" sz="3000" spc="-1" strike="noStrike">
                <a:solidFill>
                  <a:srgbClr val="003399"/>
                </a:solidFill>
                <a:latin typeface="楷体"/>
                <a:ea typeface="楷体"/>
              </a:rPr>
              <a:t>“</a:t>
            </a: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这些中国孩子的心，简直是金子一般的心，银子一般的心，水晶一般的晶莹玲珑的心！</a:t>
            </a:r>
            <a:r>
              <a:rPr b="1" lang="zh-CN" sz="3000" spc="-1" strike="noStrike">
                <a:solidFill>
                  <a:srgbClr val="003399"/>
                </a:solidFill>
                <a:latin typeface="楷体"/>
                <a:ea typeface="楷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3132000" y="5950080"/>
            <a:ext cx="5616720" cy="576000"/>
          </a:xfrm>
          <a:prstGeom prst="wedgeRectCallout">
            <a:avLst>
              <a:gd name="adj1" fmla="val 2402"/>
              <a:gd name="adj2" fmla="val -200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有叙述，有抒情，更有议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836640"/>
            <a:ext cx="8713800" cy="561672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小结：熔情、理、事于一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叙事、描写、抒情、议论熔铸在一起的表达技巧，关键在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抓好叙事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抓住那最能反映生活本质和内心深情的举止行为。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事件选得典型、感人，情缘事而发，议由感而生，文章就会显得自然而真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⑵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要使情、理、事融和在一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抒情、议论之笔来叙事，收到笔笔含情，即事见理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技巧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融情于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看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他戴着黑布小帽，穿着黑布大马褂，深青布棉袍，蹒跚地走到铁道边，慢慢探身下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尚不大难。可是他穿过铁道，要爬上那边月台，就不容易了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他用两手攀着上面，两脚再向上缩；他肥胖的身子向左微倾，显出努力的样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这时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我看见他的背影，我的泪很快地流下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我赶紧拭干了泪，怕他看见，也怕别人看见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再向外看时，他已抱了朱红的桔子往回走了。过铁道时，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先将桔子散放在地上，自己慢慢爬下，再抱着桔子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到这边时，我赶紧去搀他。他和我走到车上，将桔子一股脑儿放在我的皮大衣上。于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扑扑衣上的泥土，心里很轻松似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过一会说，“我走了；到那边来信！”我望着他走出去。他走了几步，回过头看见我，说：“进去吧，里边没人。”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等他的背影混入来来往往的人里，再找不着了，我便进来坐下，我的眼泪又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55640" y="2852640"/>
            <a:ext cx="7704000" cy="2376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小结：融情于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把浓郁的情感融于事件的叙述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⑵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在传情处下重笔，写细节，使情感有依附，让人可触可感，产生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特点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形神俱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形”，就是描述对象的具体特征，即形象；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神”，就是作者通过联想、寄寓等精神活动，移注到描述对象之中去的某种思想感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8000" y="3068640"/>
            <a:ext cx="8964720" cy="288144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　井冈山五百里林海里，最使人难忘的是茅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　从远处看，一片郁郁苍苍，重重叠叠，望不到头。到近处看，有的峻峭挺拔，好似当年山头的岗哨；有的密密麻麻，好似埋伏在深坳里的一支奇兵；有的看来出世还不久，却也亭亭玉立，别有一番神采。（袁鹰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楷体"/>
              </a:rPr>
              <a:t>《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青山翠竹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楷体"/>
              </a:rPr>
              <a:t>》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30320" y="5373720"/>
            <a:ext cx="8964360" cy="1484280"/>
          </a:xfrm>
          <a:prstGeom prst="wedgeRectCallout">
            <a:avLst>
              <a:gd name="adj1" fmla="val -6384"/>
              <a:gd name="adj2" fmla="val -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形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 的刻画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动地勾勒出苍山竹海的蓊郁气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神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的寄寓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井冈山人民战斗风貌的剪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效果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笔笔写“竹”而又笔笔见“人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1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785080" cy="367164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　毛主席下山去了，红军北上抗日去了，井冈山的人，井冈山的茅竹，同样地坚贞不屈。血雨腥风里，茅竹青了又黄，黄了又青，不向残暴低头，不向敌人弯腰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竹叶烧了，还有竹枝；竹枝断了，还有竹鞭；竹鞭砍了，还有深埋在地下的竹根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野火烧不尽，春风吹又生。一到春天，漫山遍野，向大地显露着无限生机的，依然是那一望无际的青青翠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324000" y="4724280"/>
            <a:ext cx="8496000" cy="1944720"/>
          </a:xfrm>
          <a:prstGeom prst="wedgeRectCallout">
            <a:avLst>
              <a:gd name="adj1" fmla="val 3009"/>
              <a:gd name="adj2" fmla="val -71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触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竹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情，既回顾了当年血雨腥风中的艰苦斗争情景，又使抽象的斗争历史，通过千枝万叶、错节盘根的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青翠竹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而变得有血有肉，可感可触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文章构件的一般作用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blipFill rotWithShape="0">
            <a:blip r:embed="rId2"/>
            <a:stretch/>
          </a:blipFill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题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　①写作对象；②文章体裁；③其它重要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开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开篇点题；⑵总领全文；⑶引出下文；⑷烘托渲染</a:t>
            </a: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主体部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过渡段：承上启下（过渡）作用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段落总括句：总结上文；引出下文；表明观点态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结尾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卒章显志（点明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的中心），画龙点睛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总结全文，深化（强调、升华）中心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⑶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首尾呼应（照应开头，呼应题目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43923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　你看，你看，这不是又一批新砍的茅竹滑下山来了么？这些青翠的竹子，沿着细长的滑道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雾，呼啸而来。它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了溪水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入大河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进赣江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上火车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上迢迢的征途。去吧，去吧，多少工地，多少工厂矿山，多少高楼大厦，多少城市和农村，都在殷切地等待着你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井冈山的翠竹啊！快快地去吧，带去井冈山人的心愿，带去井冈山人的干劲，也带去井冈山人的风格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250920" y="4726080"/>
            <a:ext cx="8642160" cy="2016000"/>
          </a:xfrm>
          <a:prstGeom prst="wedgeRectCallout">
            <a:avLst>
              <a:gd name="adj1" fmla="val -5069"/>
              <a:gd name="adj2" fmla="val -71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一连串的动词，写活了竹子的形象，也表现了竹子急于投身社会主义建设的革命激情！没有真情融注，对竹子描写就可能变成客观死板的风景画；离开了各具神态的竹的形象，感情的抒发，就会因失去依托而成为无病呻吟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79280" y="4724280"/>
            <a:ext cx="8785440" cy="2089440"/>
          </a:xfrm>
          <a:prstGeom prst="wedgeRectCallout">
            <a:avLst>
              <a:gd name="adj1" fmla="val -20004"/>
              <a:gd name="adj2" fmla="val -49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小结：形神俱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①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摹形要善于使用修辞手法，刻画丰满的形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②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在形象描摹中要融注激情，使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摹形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和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传神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有机结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765000"/>
            <a:ext cx="80643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解题指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1484280"/>
            <a:ext cx="820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读全文，圈点勾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审读题干，明确要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圈定范围，筛取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综合分析，整合重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根据赋分，分点答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好草稿，简洁通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一、主观题基本解题思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2637000"/>
            <a:ext cx="1368360" cy="163044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924360" y="105264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审清题目要求，根据语境，定位筛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924360" y="252396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根据题目要求把筛选的信息剥离整理，重组优化。区分主次，权衡轻重，或紧缩摘引，或添加补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924360" y="485460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根据题目要求，用自己的话把前面所作的分析或摘要组织成答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050920" y="1125360"/>
            <a:ext cx="122580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审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124000" y="2995560"/>
            <a:ext cx="1152720" cy="10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摘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2124000" y="5013360"/>
            <a:ext cx="1152720" cy="10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综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表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2484360" y="4222800"/>
            <a:ext cx="432000" cy="718920"/>
          </a:xfrm>
          <a:prstGeom prst="downArrow">
            <a:avLst>
              <a:gd name="adj1" fmla="val 50000"/>
              <a:gd name="adj2" fmla="val 41604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484360" y="227664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3348000" y="134136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3362400" y="32846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34800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1258920" y="3139920"/>
            <a:ext cx="790560" cy="720720"/>
          </a:xfrm>
          <a:custGeom>
            <a:avLst/>
            <a:gdLst>
              <a:gd name="textAreaLeft" fmla="*/ 123480 w 790560"/>
              <a:gd name="textAreaRight" fmla="*/ 691920 w 7905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blipFill rotWithShape="0">
            <a:blip r:embed="rId2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二、主观题解题过程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752480" y="228600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692280"/>
            <a:ext cx="9144000" cy="94716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俞伯牙遇到钟子期这个知音，为什么会“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万分地兴奋和感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90720" y="243828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43000" y="1905120"/>
            <a:ext cx="601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170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知音故事）说的是春秋时期的俞伯牙，他在停泊的小舟中专心致志地鼓琴，樵夫钟子期竟会听得出神入化。当他将仰慕着高山的情思注入音符时，钟子期立即慷慨激昂地吟咏着：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巍巍乎若泰山！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他挥舞手指弹出浩荡迸涌的水声时，钟子期又像是站在滚滚的江河之滨，禁不住心旷神怡地叫喊起来：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汤汤乎若江河！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这变幻无穷和神秘莫测的琴声，怎么能感应得如此丝毫不差，竟犹如从自己心弦上盘旋着飞翔出来的？如此神奇地领悟和熟稔伯牙弹奏出来的袅袅情思，真像是变成了他的化身一般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怎么能不让伯牙万分兴奋感激？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此当钟子期死去之后，他就再也没有心思触摸琴弦了。知音难觅，怪不得唐代的诗人孟浩然，要反复地感叹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恨无知音赏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音世所稀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867280" y="4292640"/>
            <a:ext cx="3097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79280" y="4749840"/>
            <a:ext cx="8785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08000" y="5183280"/>
            <a:ext cx="889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34920" y="5589720"/>
            <a:ext cx="7632720" cy="25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六、解题过程示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0" y="115920"/>
            <a:ext cx="914400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一步：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黑体"/>
              </a:rPr>
              <a:t>审题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，找出与题干相关的内容，进行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黑体"/>
              </a:rPr>
              <a:t>筛选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752480" y="228600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990720" y="243828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第二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出的内容，进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摘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50920" y="1260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这变幻无穷和神秘莫测的琴声，怎么能感应得如此丝毫不差，竟犹如从自己心弦上盘旋着飞翔出来的？如此神奇地领悟和熟稔。　伯牙弹奏出来的袅袅情思，真像是变成了他的化身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1187280" y="1816200"/>
            <a:ext cx="47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3635280" y="2781360"/>
            <a:ext cx="316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7380360" y="1816200"/>
            <a:ext cx="1079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395280" y="2276640"/>
            <a:ext cx="273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95280" y="3284640"/>
            <a:ext cx="367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179280" y="4667400"/>
            <a:ext cx="86425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三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综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摘要的信息，用自己的话组织转换成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79280" y="5813280"/>
            <a:ext cx="8713800" cy="55080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答案：因为俞伯牙的琴声变幻无穷和神秘莫测，钟子期却能够准确感应他的琴声，领悟他的情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539640" y="620640"/>
            <a:ext cx="7920000" cy="719280"/>
          </a:xfrm>
          <a:prstGeom prst="wedgeRectCallout">
            <a:avLst>
              <a:gd name="adj1" fmla="val -5203"/>
              <a:gd name="adj2" fmla="val 67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（俞伯牙的）琴声变幻无穷和神秘莫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250920" y="3429000"/>
            <a:ext cx="8642160" cy="1152360"/>
          </a:xfrm>
          <a:prstGeom prst="wedgeRectCallout">
            <a:avLst>
              <a:gd name="adj1" fmla="val -2240"/>
              <a:gd name="adj2" fmla="val -91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（钟子期）能丝毫不差地感应他的琴声，神奇地领悟他弹奏出来的情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7308720" y="2349360"/>
            <a:ext cx="0" cy="43200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7451640" y="2349360"/>
            <a:ext cx="0" cy="43200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．愈伯牙因失去知音而不再鼓琴的故事已成为千古佳话，但作者为什么还要“唐突地劝慰他”？根据文意，简要回答。</a:t>
            </a:r>
            <a:endParaRPr b="1" lang="en-US" sz="2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476360" y="765000"/>
            <a:ext cx="7667640" cy="9471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么想唐突地劝慰他，依旧要不断地奏出震撼人们灵魂的声音，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这样美丽动人的乐曲，难道就不会熏陶出第二个、第三个乃至更多的知音？而如果不再去弹奏这迷人的弦索，哪里还能引出心心相印的知音呢？知音总是越多越好啊！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何况伯牙学习鼓琴的道路实在是太艰辛了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这样花费千辛万苦学得的技艺，轻易放弃了是多么严重的损失，艺术的追求必须不懈地坚持下去，不能动摇和沉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2340000" y="2133720"/>
            <a:ext cx="640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5580000" y="3789360"/>
            <a:ext cx="30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619280" y="468144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547640" y="4645080"/>
            <a:ext cx="7596360" cy="1245600"/>
          </a:xfrm>
          <a:prstGeom prst="rect">
            <a:avLst/>
          </a:prstGeom>
          <a:noFill/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知音越多越好，俞伯牙不能因为失去钟子期而不去寻找更多的新知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千辛万苦学得的技艺不应轻易放弃，艺术的追求必须不懈地坚持下去。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1604880" y="4292640"/>
            <a:ext cx="5689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1619280" y="256536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93600" y="1413000"/>
            <a:ext cx="1008000" cy="93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审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筛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08000" y="3429000"/>
            <a:ext cx="100800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分析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摘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108000" y="5661000"/>
            <a:ext cx="100800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综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表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395280" y="2421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1116000" y="1628640"/>
            <a:ext cx="360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95280" y="4581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1116000" y="60213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 flipV="1">
            <a:off x="1042920" y="3573000"/>
            <a:ext cx="576360" cy="289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1619280" y="335772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6934320" y="292428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7740720" y="42926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0000"/>
                </a:solidFill>
                <a:latin typeface="黑体"/>
                <a:ea typeface="黑体"/>
              </a:rPr>
              <a:t>高考散文阅读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99"/>
                </a:solidFill>
                <a:latin typeface="黑体"/>
                <a:ea typeface="黑体"/>
              </a:rPr>
              <a:t>常见题型解题思路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一、熟悉文体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13744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第一类：记叙性散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这类散文以叙述和抒情为主要表达手段，叙述多是日常生活较为平淡的人事。主旨即对所写人事寄寓的感情，或由此得到的感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典型写作思路：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简叙写作缘由→多角度多层次写人记事→中间穿插一些细节描写→结尾抒发情感，由实到虚，反映世态，总结感悟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第二类：状物性散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这类散文以描写和议论抒情为主要表达手段，描写多是景、物的某一突出特征，议论抒情多是在景、物的突出特征上进行人生道理的隐喻。主旨即物人相通处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典型写作思路：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引出写作对象→咏物状景，时空拓展→中间常穿插其他景、物对比反衬→再由自然之物作拟人化延伸议论→结尾抒情言志，升华主旨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称选用的效果作用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一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身临其境的口吻叙述，显得真实，可以增强文章的可信度、真实感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二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对话的口吻叙述，可起到拟人化的作用，拉近与抒情对象的距离，显得亲切自然，便于交流感情，用于抒情能增强感染力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三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客观旁述的口吻叙述，可使文章张驰自由，便于多角度描述事物，表达感情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7138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第三类：议论性散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哲理散文。这类散文以议论为主要表达方式，但议论不是凭空而生，往往在文章的开头交代议论的由头，或事，或物，然后逐层递进式议论。主旨在物（事）与理相通处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典型写作思路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：对现实的事、物有触动（触发点）→类似事情相近或相反的联想议论（联系点）→点出道理（感悟点）→结合现实议论升华（升华点）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二、储备基本知识</a:t>
            </a:r>
            <a:br>
              <a:rPr sz="3400"/>
            </a:br>
            <a:r>
              <a:rPr b="0" lang="en-US" sz="34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0" lang="zh-CN" sz="3400" spc="-1" strike="noStrike">
                <a:solidFill>
                  <a:srgbClr val="ff3300"/>
                </a:solidFill>
                <a:latin typeface="宋体"/>
              </a:rPr>
              <a:t>表达方式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叙述的技巧：（按高考考查频率排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插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给中心事件作必要的铺垫，使情节更加完整，内容更加丰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倒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设置悬念，激发读者兴趣，取得先声夺人的表达效果。（还没考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描写的技巧：（按高考考查频率排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景物、环境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突出环境特点，烘托人物，渲染氛围，烘托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侧面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烘托）：以特征相似或相反的另一事物作正衬或反衬，能突出主体事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正面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渲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浓墨重彩的描绘能感染读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细节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使人物形象丰满，增强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叙述人称的技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叙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亲切自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能自由地表达思想感情，便于心理描写，给读者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真实生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二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强文章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抒情性和亲切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便于感情交流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三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比较直接地展现丰富多彩的生活，不受时间和空间限制，反映现实比较灵活自由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以往考查频繁，现在几乎不考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议论技巧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开头或结尾往往是文章的主旨；在中间常起过渡、引出主旨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抒情技巧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接抒情、间接抒情。在开头能定文章基调；在结尾能升华主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表现手法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衬托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突现正面或反面事物，表达强烈感情，深化中心。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铺垫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为主要人物出场或主要事件发生，进行的环境、情绪、气氛等描写的造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对比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在两种互相对立事物的比较中突出主体，凸显正面，使形象鲜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象征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把抽象的事理表现为具体的可感知的形象，还可使要表达的意思含蓄、深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金桥简行楷"/>
              </a:rPr>
              <a:t>反复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突出思想，强调感情，分清层次，加强节奏感，增强旋律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以下几个以前几乎没考过，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09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年高考全部出现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托物言志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可通过对具体事物的描绘，深刻生动地表现深层含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抑扬结合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为褒先贬，为损先扬，形成鲜明对照和强烈反差，收到特殊效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虚实结合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可以抓住重点，突出事物的本质特征，从而凸显事物、景物的特点，或人物的性格，更集中地揭示主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以小见大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即从平凡细微的事情中反映重大的主题，可突出中心，有强烈的震撼力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修辞技巧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604360" cy="51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化平淡为生动，化深奥为浅显，化抽象为具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色彩显明，描写形象，表意丰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排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能强烈表达思想感情。议论，增加语势，增强说服力；抒情，可淋漓尽致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夸张：烘托气氛，增强感染力；创造气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问：强调语气，语气强烈，强化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复：多次强调，给人以深刻的印象，感染力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设问：自问自答，提出问题，引发读者的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偶：有音乐感；表意凝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布局谋篇技巧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99"/>
                </a:solidFill>
                <a:latin typeface="Arial"/>
              </a:rPr>
              <a:t>承上启下→总领全文→引起下文→过渡自然→前后呼应→伏笔照应→制造悬念→照应开头→总结上文→卒章明志→详略主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开头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总领全文；②引出下文或引出话题；③为下文作铺垫或与下文构成对比；④营造氛围，奠定感情基调；⑤制造悬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中间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起承上启下的过渡作用；②前后呼应；③为下文作铺垫、引起下文；④照应上文，转换话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结尾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升华感情；②深化主题；③总结上文；④卒章显志，点明主题；⑤呼应开头，使文章结构首尾圆合；⑥言已尽而意无穷，使文章委婉含蓄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675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康海报体W12(P)"/>
              </a:rPr>
              <a:t>重要句子在文中的作用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首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领全文、提纲挈领、引出下文，为后文做铺垫、埋下伏笔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尾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结全文，深化主题，照应上文，前后呼应，言有尽而意无穷，回味深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转承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上启下，过渡，承接上文，引出下文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中心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明中心、揭示主旨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点睛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明全文中心，统领全文；句子含义深刻，耐人寻味，读后能给人以启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情感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抒发强烈内在情感，直抒胸臆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矛盾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字面上看自相矛盾，但作者却寄寓了深刻的用意。揭示深刻内涵，表达深刻见解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三、快速读懂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有效方法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理顺思路，提取勾连，浓缩成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思路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：强化散文的思路梳理，是散文阅读化难为易、准确解题的前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一步：化整为零，标画圈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以自然段落为单位，标画圈点领起句段、过渡句段，标志事件阶段过程的时间词，标志段落之间语意因果、转折、并列的关联词，标志层次的总分词语，段落间的指代词，段落中心句，表达主旨的议论抒情句段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5690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二步：化零为整，合并提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合并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对总分段落、前后因果段落、前后并列段落合并归纳，形成几个层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提取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以层次为单位，提取主体内容。一般截取原文语句加以组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三步：添加勾连，浓缩成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把标画圈点和提取的文字进行前后勾连，适当添加关联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达方式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叙述顺序、描写方法、抒情类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现手法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铺垫、伏笔、烘托、渲染、衬托、    对比、象征、想像、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布局谋篇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线索选择、顺序选用、过渡照应、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   伏笔铺垫、卒章显志、详略剪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语言辞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⑴描绘类：比喻、夸张、拟人、借代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生动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　　 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⑵结构类：对偶、排比、反复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强调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⑶语气类：反问、设问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增强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特别注意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散文的反衬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常见表现手法与技巧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20600"/>
            <a:ext cx="9144000" cy="180036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从文中看，乡土都给人们打下了哪些“童年的烙印”？（不超过</a:t>
            </a:r>
            <a:r>
              <a:rPr b="1" lang="en-US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28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个字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生旅途崎岖修远，起点站是童年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第一眼看见的世界，就是生我育我的乡土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他从母亲的怀抱，父亲的眼神，亲族的逗弄中开始体会爱。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乡土的一山一水，一草一木，都溶化为童年生活的血肉，不可分割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而且可能祖祖辈辈都植根在这片土地上，有一部悲欢离合的家史，在听祖母讲故事的同时，就种在小小的心坎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邻里乡亲，早晚在街头巷尾、桥上井边、田塍篱角相见，音容笑貌，闭眼塞耳也彼此了然，横竖呼唤着同一空气，濡染着同一的风习， 千丝万缕沾着边。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一个人为自己的一生定音定调定向定位，要经过千磨百折的摸索，前途充满未知数，但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童年的烙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，却像春蚕作茧，紧紧地包着自己，又像文身的花纹，一辈子附在身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乡土情结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第二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56000" y="1341360"/>
            <a:ext cx="1430280" cy="3475080"/>
            <a:chOff x="4356000" y="1341360"/>
            <a:chExt cx="1430280" cy="3475080"/>
          </a:xfrm>
        </p:grpSpPr>
        <p:sp>
          <p:nvSpPr>
            <p:cNvPr id="237" name=""/>
            <p:cNvSpPr/>
            <p:nvPr/>
          </p:nvSpPr>
          <p:spPr>
            <a:xfrm>
              <a:off x="4356000" y="1341360"/>
              <a:ext cx="0" cy="431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86280" y="4384440"/>
              <a:ext cx="0" cy="432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12760" y="326880"/>
            <a:ext cx="4895640" cy="714600"/>
          </a:xfrm>
          <a:prstGeom prst="wedgeRoundRectCallout">
            <a:avLst>
              <a:gd name="adj1" fmla="val 66990"/>
              <a:gd name="adj2" fmla="val 118888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父母亲族的爱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9520" y="1096920"/>
            <a:ext cx="4896000" cy="714240"/>
          </a:xfrm>
          <a:prstGeom prst="wedgeRoundRectCallout">
            <a:avLst>
              <a:gd name="adj1" fmla="val 83300"/>
              <a:gd name="adj2" fmla="val 69111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家乡的山水草木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1840" y="1838160"/>
            <a:ext cx="4895640" cy="714600"/>
          </a:xfrm>
          <a:prstGeom prst="wedgeRoundRectCallout">
            <a:avLst>
              <a:gd name="adj1" fmla="val -49222"/>
              <a:gd name="adj2" fmla="val 87999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悲欢离合的家史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" y="2567160"/>
            <a:ext cx="4896000" cy="714240"/>
          </a:xfrm>
          <a:prstGeom prst="wedgeRoundRectCallout">
            <a:avLst>
              <a:gd name="adj1" fmla="val -49351"/>
              <a:gd name="adj2" fmla="val 104000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邻里乡情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68360" y="5373720"/>
            <a:ext cx="1828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595440"/>
            <a:ext cx="9144000" cy="1595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作者在第三段中所描写的少年离别家乡的情况有哪几种？请概括说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窝银窝，不如家里的草窝。”  但人类是不安分的动物，多少人仗着年少气盛，横一横心，咬一咬牙，扬一扬手，向恋恋不舍的家乡告别，万里投荒，去寻找理想追求荣誉，开创事业，富有浪漫气息。  有的只是一首朦胧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了闯世界。  多数却完全是沉重的现实主义格调：许多稚弱的童男童女，为了维持最低限度的生存要求被父母含着眼泪打发出门，去串演各种悲剧。人一离开乡土，就成了失根的兰花，逐浪的浮萍，飞舞的秋蓬，因风四散的蒲公英，但乡土的梦，却永远追随着他们。浪荡乾坤的结果，多数是少年子弟江湖老，黄金、美人、虚名、实惠，都成了竹篮打水一场空。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5229360"/>
            <a:ext cx="8231400" cy="1603080"/>
          </a:xfrm>
          <a:prstGeom prst="wedgeRoundRectCallout">
            <a:avLst>
              <a:gd name="adj1" fmla="val 33643"/>
              <a:gd name="adj2" fmla="val -83861"/>
              <a:gd name="adj3" fmla="val 16667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①</a:t>
            </a:r>
            <a:r>
              <a:rPr b="0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不少人富有浪漫气息，为追求理想开创事业去闯世界。</a:t>
            </a:r>
            <a:r>
              <a:rPr b="1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②</a:t>
            </a:r>
            <a:r>
              <a:rPr b="0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多数人是沉重的现实主义格调，为维持最低的生活被打发出家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97760" y="430704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44360" y="2554200"/>
            <a:ext cx="8964720" cy="1295280"/>
            <a:chOff x="144360" y="2554200"/>
            <a:chExt cx="8964720" cy="1295280"/>
          </a:xfrm>
        </p:grpSpPr>
        <p:sp>
          <p:nvSpPr>
            <p:cNvPr id="248" name=""/>
            <p:cNvSpPr/>
            <p:nvPr/>
          </p:nvSpPr>
          <p:spPr>
            <a:xfrm>
              <a:off x="1331640" y="2554200"/>
              <a:ext cx="777744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360" y="2986200"/>
              <a:ext cx="896472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360" y="3417840"/>
              <a:ext cx="896472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360" y="3849480"/>
              <a:ext cx="298764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686480" y="10764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452606"/>
              <a:gd name="adj4" fmla="val -169273"/>
            </a:avLst>
          </a:prstGeom>
          <a:solidFill>
            <a:srgbClr val="cecece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177"/>
                </a:solidFill>
                <a:latin typeface="Times New Roman"/>
                <a:ea typeface="黑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57320" y="3848040"/>
            <a:ext cx="8964360" cy="863640"/>
            <a:chOff x="157320" y="3848040"/>
            <a:chExt cx="8964360" cy="863640"/>
          </a:xfrm>
        </p:grpSpPr>
        <p:sp>
          <p:nvSpPr>
            <p:cNvPr id="254" name=""/>
            <p:cNvSpPr/>
            <p:nvPr/>
          </p:nvSpPr>
          <p:spPr>
            <a:xfrm>
              <a:off x="3504960" y="3848040"/>
              <a:ext cx="554472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7320" y="4280040"/>
              <a:ext cx="896436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7320" y="4711680"/>
              <a:ext cx="665928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8082000" y="107784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589842"/>
              <a:gd name="adj4" fmla="val -139412"/>
            </a:avLst>
          </a:prstGeom>
          <a:solidFill>
            <a:srgbClr val="cecece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177"/>
                </a:solidFill>
                <a:latin typeface="Times New Roman"/>
                <a:ea typeface="黑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3880" y="3021120"/>
            <a:ext cx="762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4920" y="3017880"/>
            <a:ext cx="8974080" cy="793800"/>
            <a:chOff x="34920" y="3017880"/>
            <a:chExt cx="8974080" cy="793800"/>
          </a:xfrm>
        </p:grpSpPr>
        <p:grpSp>
          <p:nvGrpSpPr>
            <p:cNvPr id="260" name=""/>
            <p:cNvGrpSpPr/>
            <p:nvPr/>
          </p:nvGrpSpPr>
          <p:grpSpPr>
            <a:xfrm>
              <a:off x="4356000" y="3017880"/>
              <a:ext cx="4653000" cy="398520"/>
              <a:chOff x="4356000" y="3017880"/>
              <a:chExt cx="4653000" cy="398520"/>
            </a:xfrm>
          </p:grpSpPr>
          <p:sp>
            <p:nvSpPr>
              <p:cNvPr id="261" name=""/>
              <p:cNvSpPr/>
              <p:nvPr/>
            </p:nvSpPr>
            <p:spPr>
              <a:xfrm>
                <a:off x="4356000" y="3035160"/>
                <a:ext cx="1447920" cy="38124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639280" y="3017880"/>
                <a:ext cx="369720" cy="3808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4920" y="3430440"/>
              <a:ext cx="758880" cy="381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447920" y="2133720"/>
            <a:ext cx="7172280" cy="1725480"/>
            <a:chOff x="1447920" y="2133720"/>
            <a:chExt cx="7172280" cy="1725480"/>
          </a:xfrm>
        </p:grpSpPr>
        <p:sp>
          <p:nvSpPr>
            <p:cNvPr id="265" name=""/>
            <p:cNvSpPr/>
            <p:nvPr/>
          </p:nvSpPr>
          <p:spPr>
            <a:xfrm>
              <a:off x="3978360" y="3478320"/>
              <a:ext cx="76176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7920" y="2133720"/>
              <a:ext cx="11430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72280" y="3471840"/>
              <a:ext cx="144792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402000" y="1662120"/>
            <a:ext cx="3073320" cy="2220840"/>
            <a:chOff x="3402000" y="1662120"/>
            <a:chExt cx="3073320" cy="2220840"/>
          </a:xfrm>
        </p:grpSpPr>
        <p:sp>
          <p:nvSpPr>
            <p:cNvPr id="269" name=""/>
            <p:cNvSpPr/>
            <p:nvPr/>
          </p:nvSpPr>
          <p:spPr>
            <a:xfrm>
              <a:off x="6004080" y="1662120"/>
              <a:ext cx="47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51520" y="2921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02000" y="3362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散文考察的目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作者情感的准确把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者情感的载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泻主要情感的重点文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重点文段的把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对关键句子的鉴赏体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散文考察的方法方式都是围绕着相关的句子展开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察句子的形式大概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09480" y="2484360"/>
            <a:ext cx="792504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品味一句话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现力（表达特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分析一句话在文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体会一句话的丰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ff"/>
                </a:solidFill>
                <a:latin typeface="Arial"/>
                <a:ea typeface="方正舒体"/>
              </a:rPr>
              <a:t>明确</a:t>
            </a:r>
            <a:r>
              <a:rPr b="0" lang="en-US" sz="5400" spc="-1" strike="noStrike">
                <a:solidFill>
                  <a:srgbClr val="cc00ff"/>
                </a:solidFill>
                <a:latin typeface="Arial"/>
                <a:ea typeface="方正舒体"/>
              </a:rPr>
              <a:t>: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方正舒体"/>
              </a:rPr>
              <a:t>（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琥珀"/>
              </a:rPr>
              <a:t>一句话，三种问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方正舒体"/>
              </a:rPr>
              <a:t>）</a:t>
            </a:r>
            <a:endParaRPr b="1" lang="en-US" sz="5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7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2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勾画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重点词语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把准题干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重心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28240" y="19047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品味一句话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现力（表达特色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05228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“一路上都是鲜红的收割机，突突突，吼个不停，进了麦田，就如机船下了海，所过之处，留下的只是一地黄亮亮金灿灿的麦茬，散发着湿润的草香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句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描写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关中麦收情景，请分析它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达特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61920"/>
            <a:ext cx="8820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：从视觉、听觉、嗅觉多角度描写运用比喻、拟人的修辞方法，把色、声、香结合起来使收割场面更为生动形象；表现了麦天时节农民的丰收、忙碌、喜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2107800"/>
            <a:ext cx="871380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品味精彩语句的表现力（句子的表达特色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手法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析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表达效果（情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谈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“看到如此众多的小生命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小花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坚忍不拔而又蓬蓬勃勃地活在这雪地里，我的眼睛被染得灿烂起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表达技巧</a:t>
            </a:r>
            <a:endParaRPr b="1" lang="en-US" sz="32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运用拟人手法，用鲜活生动的语言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手法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出了小生命顽强的生命力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分析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出了我见到这些小生命时的惊喜与感动之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情感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1" action="ppaction://hlinksldjump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743200" y="304920"/>
            <a:ext cx="3168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表达技巧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74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修辞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3886200"/>
            <a:ext cx="42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表现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表达方式（记叙、描写、抒情、议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468360" y="1050840"/>
            <a:ext cx="842472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悬念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引起读者对故事发展和人物命运急切期待心理的一种艺术手段。先不把谜底揭开，引出下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382840"/>
            <a:ext cx="84582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照应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即后文对前文写过的内容作补充或加深；前文对将要出现的人物或事件作暗示。首尾呼应使结构更严密，中心更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68360" y="4254480"/>
            <a:ext cx="845964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伏笔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 u="sng">
                <a:solidFill>
                  <a:srgbClr val="0c0904"/>
                </a:solidFill>
                <a:uFillTx/>
                <a:latin typeface="楷体_GB2312"/>
                <a:ea typeface="楷体_GB2312"/>
              </a:rPr>
              <a:t>文章里前段为后段埋伏的线索；前段为后段所作的提示或暗示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在文章的前面将下文要出现的人物或事件预先作出暗示，然后在相宜之处作呼应，使故事情节的发展合理，使读者感到巧妙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079640" y="15228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布局谋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、抒情方式（手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3284640"/>
            <a:ext cx="8388360" cy="2043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借景抒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：寓情于景、情景交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以乐景衬哀情、以哀景衬乐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借物抒情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借物喻人、托物言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1413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＊直接抒情（直抒胸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＊间接抒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2049480" y="548280"/>
            <a:ext cx="84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写景的顺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18446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描写景物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结合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、描写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590920"/>
            <a:ext cx="70866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动静结合  虚实结合   正侧结合   点面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67280" y="549360"/>
            <a:ext cx="48625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如由远到近、由高到低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119700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多角度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1268280"/>
            <a:ext cx="5219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视觉、听觉、嗅觉、触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200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人物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1055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细节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38862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外貌描写  动作描写  语言描写              心理描写、神态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838080"/>
            <a:ext cx="86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比喻、比拟、借代、夸张、对偶、排比、反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8195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比兴、象征、对比、衬托、渲染、映衬烘托、联想、想象、用典、欲扬先抑、以小见大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、修辞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228600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、表现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421000"/>
            <a:ext cx="69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40384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叙述的技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9040" y="506088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顺序、倒叙、插叙、补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6"/>
          <p:cNvSpPr/>
          <p:nvPr/>
        </p:nvSpPr>
        <p:spPr>
          <a:xfrm>
            <a:off x="457200" y="1295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568"/>
                </a:solidFill>
                <a:latin typeface="Times New Roman"/>
                <a:ea typeface="华文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Cambria"/>
                <a:ea typeface="华文楷体"/>
              </a:rPr>
              <a:t>提问方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体味表达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362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某句话中某个词换成另一个行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【</a:t>
            </a:r>
            <a:r>
              <a:rPr b="0" lang="zh-CN" sz="4400" spc="-1" strike="noStrike">
                <a:solidFill>
                  <a:srgbClr val="9900cc"/>
                </a:solidFill>
                <a:latin typeface="隶书"/>
              </a:rPr>
              <a:t>操作规则</a:t>
            </a: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】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比较的方法来辨析它们之间的区别。具体说，即“六比较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范围的大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词义的轻重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搭配习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构成成分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词性功能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感情色彩与语体色彩。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【</a:t>
            </a:r>
            <a:r>
              <a:rPr b="0" lang="zh-CN" sz="4400" spc="-1" strike="noStrike">
                <a:solidFill>
                  <a:srgbClr val="9900cc"/>
                </a:solidFill>
                <a:latin typeface="隶书"/>
              </a:rPr>
              <a:t>操作规则</a:t>
            </a: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】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543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隶书"/>
                <a:ea typeface="隶书"/>
              </a:rPr>
              <a:t>答题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动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不行。因为该词准确生动具体地写出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形容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不行。因为该词生动形象地描写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副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几乎，大都，非常、只有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不行。因为该词准确地说明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情况（表程度，表限制，表时间，表范围等），换了后就变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与事实不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8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3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4920" y="83808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答题模式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不行。因为该词生动具体（形象、准确）地写出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对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效果，换了后就变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不好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：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不行，因为该词比另一词的感情更强烈（或该词比另一词更切合对象的性格特征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3428640"/>
            <a:ext cx="8642520" cy="1143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568"/>
                </a:solidFill>
                <a:latin typeface="Arial"/>
              </a:rPr>
              <a:t>　问：“好一个调皮的孩子”，为什么不说成“真是可爱的孩子”？</a:t>
            </a:r>
            <a:r>
              <a:rPr b="1" lang="zh-CN" sz="36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4724280"/>
            <a:ext cx="91440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：因为“好一个”比“真是”感情更强烈，“调皮”比“可爱”更切合爱女的性格特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Cambria"/>
                <a:ea typeface="华文楷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答题示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间林密，泉隐其中，有时，泉水在林木疏朗处闪过亮亮的一泓，再向前寻，已不可得。那半含半露、欲近故远的娇态，使我想起在家散步时，常常绕我膝下的爱女。每见我伸手欲揽其近前，她必远远地跑开，仰起笑脸逗我；待我佯作冷淡而不顾，她却又悄悄跑近，偎我腰间。好一个调皮的孩子！（节选自谢大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鼎湖山听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3399ff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3399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2133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题模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0" y="0"/>
            <a:ext cx="82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、  提问方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舒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某两个或三个词的顺序能否调换？为什么？</a:t>
            </a:r>
            <a:r>
              <a:rPr b="0" lang="zh-CN" sz="40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895480"/>
            <a:ext cx="91440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不能。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与人们认识事物的规律（由浅入深、由表入里、由现象到本质）不一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该词与上文是一一对应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这些词是递进关系，环环相扣，表达了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方正舒体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3276720"/>
            <a:ext cx="85345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568"/>
                </a:solidFill>
                <a:latin typeface="Arial"/>
              </a:rPr>
              <a:t>问：文中的“告诫”“教训”“意味深长”三个词的顺序能否调换？为什么？ </a:t>
            </a:r>
            <a:endParaRPr b="1" lang="en-US" sz="36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4724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不能。因为文中这三个词语是递进关系，表达了父亲对儿子的关爱之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0" y="154080"/>
            <a:ext cx="914400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记住：想占便宜的人，往往占不到便宜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指着碗里的荷包蛋告诫儿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记住，想占便宜的人，可能要吃亏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指着蛋教训儿子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不想占便宜的人，生活也不会让他吃亏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意味深长的对儿子说。（节选自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荷包蛋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5153-A530-49F1-A38D-3F6D4FD01A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DB1A-37BF-43E2-BD70-FF50A8AE3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24000" y="1268280"/>
            <a:ext cx="8820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雨中的伏笔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第二幕中，鲁侍萍一看到房屋就很熟悉，为后来她与周朴园的真实关系埋下了伏笔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第四幕中，开场不久，周朴园对仆人说藤萝架那边漏电的电线修理了没有？回答说是今天下雨不好修理，明天电灯匠再来修。还说周萍的狗碰着那根漏电的电线就被电死了。这就为四凤和周冲触电身亡埋下了伏笔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周萍要去矿上，周朴园给了他一把枪防身，为后面周萍饮弹自杀埋下了伏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分析一句话在文中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1295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广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在开头花了不少笔墨描写雪，这样写有哪些作用呢？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51160"/>
            <a:ext cx="914400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：文章开头写雪，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突出了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雪美丽与丑陋的两重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内容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而为下文写泥泞（从写热爱雪到热爱泥泞）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作铺垫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结构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50920" y="2413080"/>
            <a:ext cx="871380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分析某句（段）话在文中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内容（本身）作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下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问方式：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某句（段）话在文中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69200" y="38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Arial"/>
                <a:ea typeface="楷体_GB2312"/>
              </a:rPr>
              <a:t>承上启下；呼应前文、照应后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1268280"/>
            <a:ext cx="828036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首：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末：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1773360"/>
            <a:ext cx="81374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开篇点题、总领全文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渲染气氛，营造氛围，烘托情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设置悬念，为下文作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5157720"/>
            <a:ext cx="936144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点明中心、升华主题；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缩全文（总结全文）、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照应开头，结构严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6094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舒体"/>
              </a:rPr>
              <a:t>结构作用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舒体"/>
              </a:rPr>
              <a:t>（专用术语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6"/>
          <p:cNvSpPr/>
          <p:nvPr/>
        </p:nvSpPr>
        <p:spPr>
          <a:xfrm>
            <a:off x="22860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答题示例：我怕我父亲，他打我是真打。看着他瞪圆了眼，一步一步逼近，还不敢躲，绷紧了肌肉等着，于是一巴掌扇过来，于是脑袋嗡的一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（节选自韩羽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子之间的怯意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520" y="2437920"/>
            <a:ext cx="86108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问：请简析第一自然段（即上文）在作品中的作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28600" y="3581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答：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为下文写父亲对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我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的爱作反衬；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为文末写父亲对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我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的怯意作铺垫；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照应了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父子之间的怯意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这个题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159588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56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4568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何理解文章标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或：为什么要以此为题或以此为题有什么作用？</a:t>
            </a:r>
            <a:r>
              <a:rPr b="1" lang="zh-CN" sz="3600" spc="-1" strike="noStrike">
                <a:solidFill>
                  <a:srgbClr val="004568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54160" y="1163880"/>
            <a:ext cx="88930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标题的意义和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作为“文眼”有揭示文章中心或主题的作用；②有的标题从结构上看有文章线索的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对文中的人物和主题有象征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有比喻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有虚实或双关两层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或鉴赏标题的解题思路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是要分析词语，二是要注意修辞，三是要注意虚实，四是要联系全文内容和结构，五是要结合文章主旨和背景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5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5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5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28600" y="-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568"/>
                </a:solidFill>
                <a:latin typeface="黑体"/>
                <a:ea typeface="黑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98000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天的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国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题：本文的题目是“春天的梦”，文中又多处将“春天”与“梦”联系在一起，请说说作者为什么要这样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答案示例：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作者这样写表达出两层意思：寒冬中，春天是一个梦，她给人温暖和希望；艰难时，社会的变革、人间的真情是充满春天气息的梦，她更能给人温暖和希望。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作者将二者联系在一起，巧妙而有效地凸现了本文期盼春天、渴望变革和呼唤真情的主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能抓住“春天的梦“的比喻义（春天如梦，给人温暖，给人希望），注意其虚实意义（ 一是实指自然界的春天，一是其比喻社会的、人间的“春天” ），再结合文章的主旨（寒冬中对春的渴望），就能准确答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2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7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21932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体会一句话的丰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含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4000" y="2046600"/>
            <a:ext cx="864072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哲理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含义深刻，耐人寻味，读后能给人以启迪，有时有画龙点睛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观点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即明显地表达出作者的喜怒哀乐和对事物的褒贬抑扬，则要把握住作者感情的突破口，有时还要结合文章的主旨来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3560" y="243360"/>
            <a:ext cx="350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常见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e9091e"/>
                </a:solidFill>
                <a:latin typeface="Arial"/>
                <a:ea typeface="黑体"/>
              </a:rPr>
              <a:t>铺垫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是在主要人物出场，或主要事件发生，或高潮到来之前，所作的环境、情感、气势等的描写，借以造成“呼之欲出”、“先声夺人”、“山雨欲来风满楼”的艺术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刘鹗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老残游记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中为了写白妞王小玉的精妙绝唱，在开头的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段里写了戏院的盛况、琴师、黑妞及品评人对黑妞与白妞的比较，这些都可以看做是为下文的主要描写对象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---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白妞的一种文学铺垫，一种烘托手法的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式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根据句式变换的特点，这样的句子往往有强调意味，强调的点就在位置改变的那一部分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辞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结合作者所使用的修辞手法来判断作者要表达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矛盾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貌似矛盾，实际上却寄寓了作者深刻的用意。这样的句子往往含有两方面的意思，但却侧重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含蓄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要通过句子的字面意义来思考它没有明说出来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28600" y="1875600"/>
            <a:ext cx="8713800" cy="283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会一句话的丰富含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抓关键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解句子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整合答案（结合主旨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52280" y="1437480"/>
            <a:ext cx="84582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赏析句子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抓关键性词语、句式特点、修辞手法、内容和情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方面欣赏其妙处或表达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8600" y="2406240"/>
            <a:ext cx="85345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厚厚一本日历是整整一年的日子。每扯下一页，它新的一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亮而开阔的一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笑嘻嘻地等着我去填满。我喜欢日历每一页后面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未知，喜欢它隐含着一种希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乃是人生中最富魅力的字眼儿。生命的定义就是拥有明天。它不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过于遥远与空洞。它就守候在门外。走出了今天便进入了全新的明天。明天会是怎样呢？当然，多半还要看你自己的。你快乐它就是快乐的一天，你无聊它就是无聊的一天，你匆忙它就是匆忙的一天；如果你静下心来就会发现，你不能改变昨天，但你可以决定明天。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Arial"/>
              </a:rPr>
              <a:t>有时看起来你很被动，你被生活所选择，其实你也在选择生活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不是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-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920" y="790200"/>
            <a:ext cx="8076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福建卷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“有时看起来你很被动，你被生活所选择，其实你也在选择生活” 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这句话在文中的意思是什么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用自己的话表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514600"/>
            <a:ext cx="77724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你可能无法选择自己的生活境遇，但你完全可以选择对生活的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64692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造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津卷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请赏析“心的边疆，可以造得很大很大，像延展性最好的金箔，铺设整个宇宙，把日月包涵”这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733920"/>
            <a:ext cx="891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修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角度看，这句话用了比喻和夸张；从内容上看，“金箔”强调色彩，“整个宇宙”强调范围阔大；从效果来看，生动形象，颇具感染力；从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情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度看，是赞许。整合以上信息，可作如下赏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56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4568"/>
                </a:solidFill>
                <a:latin typeface="Arial"/>
              </a:rPr>
              <a:t>答案示例：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用比喻和夸张的手法，写出了“心”的光辉与阔大，生动形象，颇具感染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63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指出文中某个句子，然后问为什么这样说或这样说的原因（根据、依据、理由等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2882880"/>
            <a:ext cx="81532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题技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“句子”类题目与理解句子的含义题不同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这类题目，一般都能够在原文中找到答题的依据，但其答题依据不在句子本身，而在其上下文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答时先分析“句子”的性质，观点句还是结论句（主要有这两种）。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观点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理由在后；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结论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理由在前。其次分析该句子所涉及（或管辖）的范围，确定信息的来源。然后在有效区内捕捉、筛选信息并对信息进行整合。一般不要直接抄写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341064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月三十日的下午，有位朋友约我到挂甲屯吴家花园看海棠，“且喜天气晴明”——现在回想起来，那天是九十春光中惟一的春天——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海棠花又是我所深爱的，就欣然地答应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坡恨海棠无香，我却以为若是香得不妙，宁可无香。我的院里栽了几棵丁香和珍珠梅，夏天还有玉簪，秋天还有菊花，栽后都很后悔。因为这些花香，都使我头痛，不能折来养在屋里。所以有香的花中，我只爱兰花、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8360" y="759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日的春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作者说“海棠花又是我所深爱的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请简要概括作者深爱海棠花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406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、香豆花和玫瑰，无香的花中，海棠要算我最喜欢的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棠是浅浅的红，红得“乐而不淫”，淡淡的白，白得“哀而不伤”，又有满树的绿叶掩映着，秾纤适中，像一个天真、健美、欢悦的少女，同是造物者最得意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答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作者以为“若是香得不妙，宁可无香”，海棠虽然无香，但她浅红淡白，绿叶掩映，秾纤适中，充满生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0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254160"/>
            <a:ext cx="883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文中引用某些文字或诗词有何作用或为什么要引用这些文字或诗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438280"/>
            <a:ext cx="9144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可证明观点，使说理更具有说服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充实论据，丰富内容，深化文章主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增添文章意趣、文采和文化底蕴，增强文章感染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点明题意，文题相应，铺垫对比，结构严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诗文相间，生动活泼，文采斐然，使语言更雅趣或更具文化底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过，掌握了这些作用后，还要能够根据具体的情况灵活运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1143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题技巧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】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引用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1015920"/>
            <a:ext cx="8208720" cy="1982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(5)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烘托</a:t>
            </a: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指有意避开正面描写，而从侧面刻画渲染衬托，以使所要表现的人、物、事鲜明突出，收到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烘云托月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的艺术效果。如汉乐府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陌上桑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中的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行者见罗敷，下担捋髭须。少年见罗敷，脱帽著绡头。耕者忘其犁，锄者忘其锄。来归相怨怒，但坐观罗敷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即是用夸张俏皮的陪衬烘托手法，从侧面了表现少女罗敷的美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衬托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用相似或相反的事物陪衬，烘托出主体事物或所要表达的思想感情。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用相似的作陪衬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正衬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，用相反的作陪衬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反衬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11280" y="152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现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8600" y="226800"/>
            <a:ext cx="85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台上的遗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庆卷）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：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文章第五段是否可以不引用张潮的话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2818800"/>
            <a:ext cx="849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种高楼大厦的新神话拔地升天，也正在把我们的天空挤压和分割得狭窄零碎，正在使四季在隔热玻璃外变得暧昧不清，正在使田野和鸟语变得十分稀罕和遥远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代张潮说“因雪想高土，因花想美人，因酒想侠客，因月想好友，因山水而想得意诗文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此清新和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趣，似乎连同产生它的旧式宅院，已经永远被高楼大厦埋葬在地基下面了。全球的高楼居民和大厦房客们，相当多已习惯于一边吃快餐食品，一边因雪想堵车，因花想开业，因酒想公关，因月想星球大战，因山水想开发区批文。当然，在某一天，我们也可以步入阳台，在铁笼般的防盗网里，或者在汽车疾驰的沙沙声里，一如既往地观花或听蝉，月下吹箫或霜中饮酒，但那毕竟有点像勉勉强强的代用品，有点像二胡拉贝多芬，或者是在泳池里远航，少了一点真趣。这不能不使人遗憾。这遗憾常常是历史进步后寂寞的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SzPct val="1371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案示例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①不引用会使文章失去语言的雅趣；②不引用会使文章失去铺垫和仿拟对象，减弱了古今对照的效果；③不引用会减少“遗憾”的丰富内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何理解文中加点的词语的含义或作者为什么要用这个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133720"/>
            <a:ext cx="914400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1</a:t>
            </a: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方正舒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透过词语的表面义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体味其深刻的内涵：比喻义，象征义，反语义，双关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理解代词的词义就在上句或下句寻找释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系词语的具体语境，结合作者观点、文章主题，从所在的句、段、上下文中去找对应的阐释。</a:t>
            </a: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12193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【答题技巧】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品味一句话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现力（表达特色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手法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析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达效果（情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析一句话在文中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内容（本身）作用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构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上下文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体会一句话的丰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抓关键词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解句子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整合答案（结合主旨）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中宋"/>
              </a:rPr>
              <a:t>课堂小结（</a:t>
            </a:r>
            <a:r>
              <a:rPr b="0" lang="zh-CN" sz="4400" spc="-1" strike="noStrike" u="sng">
                <a:solidFill>
                  <a:srgbClr val="660066"/>
                </a:solidFill>
                <a:uFillTx/>
                <a:latin typeface="Arial"/>
                <a:ea typeface="华文中宋"/>
              </a:rPr>
              <a:t>要点意识</a:t>
            </a: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中宋"/>
              </a:rPr>
              <a:t>）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-360" y="225000"/>
            <a:ext cx="9828360" cy="64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附录：部分重要作家散文风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鲁迅</a:t>
            </a:r>
            <a:r>
              <a:rPr b="1" lang="zh-CN" sz="2800" spc="-1" strike="noStrike" u="sng">
                <a:solidFill>
                  <a:srgbClr val="0c0904"/>
                </a:solidFill>
                <a:uFillTx/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观察冷峻，讽刺辛辣，批判严峻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   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巴金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真挚朴实，富有激情，寓深刻于平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季羡林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本色天然，朴实无华，小中见大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冰心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清婉明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秦牧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知识丰富，观察细致，构思精巧，文采精丽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李乐薇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写景优美，诗情画意，超凡脱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林清玄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恬淡自然，蕴涵哲理；醇厚浪漫，宽容博爱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贾平凹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清淡古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毕淑敏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比喻形象，文笔流畅，情感真实，富含哲理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史铁生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深沉冷峻，沧桑内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余秋雨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语言通俗，散文小说化；篇幅宏大，取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广泛，写法自由，文情并茂，充满睿智与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3300"/>
                </a:solidFill>
                <a:latin typeface="黑体"/>
              </a:rPr>
              <a:t>特别提醒</a:t>
            </a:r>
            <a:endParaRPr b="1" lang="en-US" sz="55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咬文嚼字审读题干，圈出关键词，明确题干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题要树立要点意识，看赋分定要点，用序数标明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优先考虑利用原文的关键词句组织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案要有关键词意识，写出切中问题的关键词或短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案内容较多时，建议先打简要草稿，答案尽量简洁，书写保证整洁易辨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8920" y="3824280"/>
            <a:ext cx="83898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象征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借助某一具体事物的形象，以表现某种抽象的概念、思想或感情。其特征是利用象征物与被象征物之间的某种类似，使被象征物的某一内容得到含蓄而形象的表现。例如巴金的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灯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用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灯光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来象征光明及人们对光明的向往与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8560" y="225360"/>
            <a:ext cx="8389800" cy="3492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渲染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是用各种手段对环境、场面、人物、事件等作多方面的浓墨重彩的描写，以突出气氛、刻画人物、表现主题。如鲁迅的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药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中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微风早已停息了；枯草支支直立，有如铜丝。一丝发抖的声音，在空气中越颤越细，细到没有，周围便都是死一般静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这段环境描写，就渲染了一种凄凉和忧郁的气氛，更增强了不是年轻人为年老的死者祭奠，而是白发老人为年轻的死者上坟的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9:58:38Z</dcterms:created>
  <dc:creator>吴铭钊</dc:creator>
  <dc:description/>
  <dc:language>en-US</dc:language>
  <cp:lastModifiedBy>Administrators</cp:lastModifiedBy>
  <dcterms:modified xsi:type="dcterms:W3CDTF">2012-03-16T04:57:19Z</dcterms:modified>
  <cp:revision>48</cp:revision>
  <dc:subject/>
  <dc:title>幻灯片 1</dc:title>
</cp:coreProperties>
</file>