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36.gif" ContentType="image/gif"/>
  <Override PartName="/ppt/media/image24.gif" ContentType="image/gif"/>
  <Override PartName="/ppt/media/image23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7.gif" ContentType="image/gif"/>
  <Override PartName="/ppt/media/image16.jpeg" ContentType="image/jpeg"/>
  <Override PartName="/ppt/media/image39.gif" ContentType="image/gif"/>
  <Override PartName="/ppt/media/image8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12.gif" ContentType="image/gif"/>
  <Override PartName="/ppt/media/image30.jpeg" ContentType="image/jpeg"/>
  <Override PartName="/ppt/media/image32.gif" ContentType="image/gif"/>
  <Override PartName="/ppt/media/image5.jpeg" ContentType="image/jpeg"/>
  <Override PartName="/ppt/media/image26.jpeg" ContentType="image/jpeg"/>
  <Override PartName="/ppt/media/image34.jpeg" ContentType="image/jpeg"/>
  <Override PartName="/ppt/media/image38.wmf" ContentType="image/x-wmf"/>
  <Override PartName="/ppt/media/image37.gif" ContentType="image/gif"/>
  <Override PartName="/ppt/media/image7.jpeg" ContentType="image/jpeg"/>
  <Override PartName="/ppt/media/image35.gif" ContentType="image/gif"/>
  <Override PartName="/ppt/media/image11.jpeg" ContentType="image/jpeg"/>
  <Override PartName="/ppt/media/image9.jpeg" ContentType="image/jpeg"/>
  <Override PartName="/ppt/media/image31.jpeg" ContentType="image/jpeg"/>
  <Override PartName="/ppt/media/image15.png" ContentType="image/png"/>
  <Override PartName="/ppt/media/image22.gif" ContentType="image/gif"/>
  <Override PartName="/ppt/media/image2.png" ContentType="image/png"/>
  <Override PartName="/ppt/media/image25.jpeg" ContentType="image/jpeg"/>
  <Override PartName="/ppt/media/image41.png" ContentType="image/png"/>
  <Override PartName="/ppt/media/image33.jpeg" ContentType="image/jpeg"/>
  <Override PartName="/ppt/media/image4.gif" ContentType="image/gif"/>
  <Override PartName="/ppt/media/image1.jpeg" ContentType="image/jpeg"/>
  <Override PartName="/ppt/media/image28.jpeg" ContentType="image/jpeg"/>
  <Override PartName="/ppt/media/image27.gif" ContentType="image/gif"/>
  <Override PartName="/ppt/media/image40.gif" ContentType="image/gi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46A-5A98-4813-8B5B-C6CBEF24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62A-DA78-4E06-81C8-B9E88701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E9F-ADDC-44B2-B0A7-D709D894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148-9260-4530-A6FC-B83509F8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302-111E-4648-AC59-F072C5D1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FDD-3A9C-4F47-A7E9-23589330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858-D86B-45B5-82B3-79E0291F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089-C81D-40E9-8073-19E9D218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FF9-AF36-4412-9113-0446A606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3D28-C441-45AA-9724-42CCF749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17F-C807-46AE-B596-33B29E40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F7B-B68D-4D6D-8867-D1AD293B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889B-5294-49EA-A760-F0D2516C2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143.gif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CF%E9%C1%D6&#617;&#892;&#428;&amp;in=26746&amp;cl=2&amp;lm=-1&amp;pn=1&amp;rn=1&amp;di=51910514535&amp;ln=2000&amp;fr=ala0&amp;fmq=&amp;ic=&amp;s=&amp;se=&amp;sme=0&amp;tab=&amp;width=&amp;height=&amp;face=&amp;is=&amp;istype=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A8&amp;in=15062&amp;cl=2&amp;cm=1&amp;sc=0&amp;lm=-1&amp;pn=749&amp;rn=1&amp;di=753809652&amp;ln=2000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A8&amp;in=15062&amp;cl=2&amp;cm=1&amp;sc=0&amp;lm=-1&amp;pn=749&amp;rn=1&amp;di=753809652&amp;ln=2000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A8&amp;in=15062&amp;cl=2&amp;cm=1&amp;sc=0&amp;lm=-1&amp;pn=749&amp;rn=1&amp;di=753809652&amp;ln=2000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3.3lian.com/2006/013/08/20051105162836928.gif" TargetMode="Externa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105.gif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2.gif" TargetMode="Externa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3.3lian.com/2006/013/08/20051105154908471.gif" TargetMode="Externa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148.gif" TargetMode="Externa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66.gif" TargetMode="Externa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66.gif" TargetMode="Externa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2.3lian.com/img2009/04/16/2004821594445.gif" TargetMode="Externa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BA%A3%D7%D3&#683;&#1121;%B7%E2%C3%E6&amp;in=30714&amp;cl=2&amp;lm=-1&amp;pn=6&amp;rn=1&amp;di=40337749590&amp;ln=1954&amp;fr=ala0&amp;fmq=&amp;ic=&amp;s=&amp;se=&amp;sme=0&amp;tab=&amp;width=&amp;height=&amp;face=&amp;is=&amp;istype=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&amp;tn=baiduimagedetail&amp;word=%BA%A3%D7%D3&#683;&#1121;%B7%E2%C3%E6&amp;in=30714&amp;cl=2&amp;lm=-1&amp;pn=6&amp;rn=1&amp;di=40337749590&amp;ln=1954&amp;fr=ala0&amp;fmq=&amp;ic=&amp;s=&amp;se=&amp;sme=0&amp;tab=&amp;width=&amp;height=&amp;face=&amp;is=&amp;istype=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BA%A3%D7%D3&#683;&#1121;%B7%E2%C3%E6&amp;in=30606&amp;cl=2&amp;lm=-1&amp;pn=19&amp;rn=1&amp;di=52579699920&amp;ln=1954&amp;fr=ala0&amp;fmq=&amp;ic=&amp;s=&amp;se=&amp;sme=0&amp;tab=&amp;width=&amp;height=&amp;face=&amp;is=&amp;istype=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.baidu.com/i?ct=503316480&amp;z=&amp;tn=baiduimagedetail&amp;word=%BA%A3%D7%D3&#683;&#1121;%B7%E2%C3%E6&amp;in=30606&amp;cl=2&amp;lm=-1&amp;pn=19&amp;rn=1&amp;di=52579699920&amp;ln=1954&amp;fr=ala0&amp;fmq=&amp;ic=&amp;s=&amp;se=&amp;sme=0&amp;tab=&amp;width=&amp;height=&amp;face=&amp;is=&amp;istype=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2/img15/gif/196.gif" TargetMode="External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D3%E0%B9%E2%D6%D0%D5%D5&#428;&amp;in=19275&amp;cl=2&amp;lm=-1&amp;pn=18&amp;rn=1&amp;di=25985319903&amp;ln=2000&amp;fr=ala0&amp;fmq=&amp;ic=&amp;s=&amp;se=&amp;sme=0&amp;tab=&amp;width=&amp;height=&amp;face=&amp;is=&amp;istype=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image.baidu.com/i?ct=503316480&amp;z=&amp;tn=baiduimagedetail&amp;word=%C0%EE%B0%D7&#892;&#428;&amp;in=12648&amp;cl=2&amp;lm=-1&amp;pn=0&amp;rn=1&amp;di=51269178963&amp;ln=2000&amp;fr=ala0&amp;fmq=&amp;ic=&amp;s=&amp;se=&amp;sme=0&amp;tab=&amp;width=&amp;height=&amp;face=&amp;is=&amp;istype=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2.3lian.com/img2009/04/16/2004822428164.gif" TargetMode="External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3lian.com/gif/DetailView.htm?Detail=http://img4.3lian.com/sucai2/img2/zhi/6.gif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2011052107241755_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16200" y="343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97000"/>
            <a:ext cx="9072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华文彩云"/>
                <a:ea typeface="华文彩云"/>
              </a:rPr>
              <a:t>         </a:t>
            </a:r>
            <a:r>
              <a:rPr b="0" lang="en-US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一个人在年轻的时候如果不去写诗，他便错过了人生中最美好的时光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376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-324360" y="188640"/>
            <a:ext cx="964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921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文学研究会：新文学运动中最早的文学社团成立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第一个新诗社团──中国新诗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并于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922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创办了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第一个新诗专刊《诗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。奉行的原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反对把文学作为消遣品﹐也反对把文学作为个人发泄牢骚的工具﹐主张文学为人生。” 从“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为人生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出发﹐他们主张“文学应该反映社会的现象﹐表现并且讨论一些有关人生一般的问题”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以现实人生问题为题材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因此被称为“人生派”或“为人生”的文学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华文隶书"/>
              </a:rPr>
              <a:t>繁星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华文隶书"/>
              </a:rPr>
              <a:t>冰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方正舒体"/>
                <a:ea typeface="方正舒体"/>
              </a:rPr>
              <a:t>五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　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　</a:t>
            </a: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成功的花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人们只惊慕她现时的明艳</a:t>
            </a: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!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然而当初她的芽儿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浸透了奋斗的泪泉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洒遍了牺牲的血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21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月，创造社。早期浪漫主义：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郭沫若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等人成立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创造社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，前期的创造社具有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唯美抒情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倾向，后有冯乃超等参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u=1401842714,320491298&amp;fm=15&amp;gp=0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02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3860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476280"/>
            <a:ext cx="6192720" cy="65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华文隶书"/>
              </a:rPr>
              <a:t>天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华文隶书"/>
              </a:rPr>
              <a:t>郭沫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是一条天狗呀！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把月来吞了，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把日来吞了，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把一切的星球来吞了，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把全宇宙来吞了。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我 便是我了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u=1401842714,320491298&amp;fm=15&amp;gp=0" descr=""/>
          <p:cNvPicPr/>
          <p:nvPr/>
        </p:nvPicPr>
        <p:blipFill>
          <a:blip r:embed="rId1"/>
          <a:stretch/>
        </p:blipFill>
        <p:spPr>
          <a:xfrm>
            <a:off x="5867280" y="620640"/>
            <a:ext cx="2376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55640" y="1341360"/>
            <a:ext cx="6912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月的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日的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一切星球的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光线的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是全宇宙的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Energy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的总量！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3716280"/>
            <a:ext cx="928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43916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0"/>
            <a:ext cx="52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飞奔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狂叫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燃烧。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如烈火一样地燃烧！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如大海一样地狂叫！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如电气一样地飞跑！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飞跑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飞跑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飞跑，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3640" y="620640"/>
            <a:ext cx="34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404640"/>
            <a:ext cx="442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剥我的皮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食我的肉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吸我的血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啮我的心肝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在我神经上飞跑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在我脊髓上飞跑，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我在我脑筋上飞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92360" y="1844640"/>
            <a:ext cx="53276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我便是我呀！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我的我要爆了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！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天狗》是郭沫若的第一部诗集《女神》中的名篇，最初发表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日上海《时事新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学灯》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19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，五四运动给中国社会带来了崭新的气象、勃勃的生机。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倡导科学与民主，争取独立与自由，张扬个性意识，追求个性解放，要求改造旧的社会、建设新社会，成为时代的强音。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92160" y="333360"/>
            <a:ext cx="52405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凤凰涅盘》 节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茫茫的宇宙，冷酷如铁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茫茫的宇宙，黑暗如漆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茫茫的宇宙，腥秽如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692280"/>
            <a:ext cx="6121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　 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　　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宇宙呀，宇宙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我要努力地把你诅咒：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脓血污秽著的屠场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悲哀充塞著的囚牢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群鬼叫号著的坟墓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群魔跳梁著的地狱呀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你到底为甚麽存在？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u=3203198638,4193668682&amp;fm=0&amp;gp=0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223200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湖畔诗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：应修人、汪静之、潘漠华、冯雪峰四人在杭州结成诗社，形成了历史上的湖畔诗派。写出的以反封建、清新活泼、真朴自然为基调的爱情诗。他们的诗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赞颂自然，歌咏恋爱，清新、美丽、自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200732112831580" descr=""/>
          <p:cNvPicPr/>
          <p:nvPr/>
        </p:nvPicPr>
        <p:blipFill>
          <a:blip r:embed="rId1"/>
          <a:stretch/>
        </p:blipFill>
        <p:spPr>
          <a:xfrm>
            <a:off x="2627280" y="3933720"/>
            <a:ext cx="6264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200609162055435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71480" y="314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2708280"/>
            <a:ext cx="928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华文琥珀"/>
              </a:rPr>
              <a:t>中国现当代诗歌发展脉络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华文琥珀"/>
              </a:rPr>
              <a:t>及写作入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隶书"/>
                <a:ea typeface="华文隶书"/>
              </a:rPr>
              <a:t>妹妹你是水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华文隶书"/>
                <a:ea typeface="华文隶书"/>
              </a:rPr>
              <a:t>        </a:t>
            </a:r>
            <a:r>
              <a:rPr b="1" lang="en-US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应修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xin_200802021545625255578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38480" cy="2160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56000" y="-360"/>
            <a:ext cx="4464000" cy="61261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妹妹你是水——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你是温泉里的水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底心儿他尽是爱游泳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想捞回来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烫得我手心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妹妹你是水——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你是荷塘里的水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借荷叶做船儿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借荷梗做篙儿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妹妹我要到荷花深处来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645000"/>
            <a:ext cx="493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妹妹你是水——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你是清溪里的水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无愁地镇日流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率真地长是笑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自然地引我忘了归路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新格律诗派——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新月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：徐志摩、闻一多、梁实秋、陈源等成立新月社，提倡现代格律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主张诗歌的色彩美和意境美，讲究文辞修饰，追求炼字炼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彩云"/>
              </a:rPr>
              <a:t>  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华文彩云"/>
              </a:rPr>
              <a:t>音乐美、绘画美、建筑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华文彩云"/>
              </a:rPr>
              <a:t>                            ——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华文彩云"/>
              </a:rPr>
              <a:t>闻一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14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797360"/>
            <a:ext cx="1449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495680" cy="5650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死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这是一沟绝望的死水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清风吹不起半点漪沦。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不如多仍些破铜烂铁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爽性泼你的剩菜残羹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也许铜的要绿成翡翠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铁罐上绣出几瓣桃花。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再让油腻织一层罗绮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霉菌给他蒸出些云霞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95280" y="260280"/>
            <a:ext cx="5148360" cy="58658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让死水酵成一沟绿酒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飘满了珍珠似的白沫；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小珠们笑声变成大珠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又被偷酒的花蚊咬破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那么一沟绝望的死水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也就跨得上几分鲜明。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青蛙耐不住寂寞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又算死水叫出了歌声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这是一沟绝望的死水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这里断不是美的所在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不如让给丑恶来开垦，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看他造出个什么世界。 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        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 闻一多        一九二五年四月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20060925113835177" descr=""/>
          <p:cNvPicPr/>
          <p:nvPr/>
        </p:nvPicPr>
        <p:blipFill>
          <a:blip r:embed="rId1"/>
          <a:stretch/>
        </p:blipFill>
        <p:spPr>
          <a:xfrm>
            <a:off x="0" y="5084640"/>
            <a:ext cx="19796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早期象征诗派：受法国象征主义的影响，以为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李金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代表的中国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早期象征诗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出现。象征主义诗潮兴起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代的法国。其主张：“诗不是为了说明，诗是值得表现的”，表现的题材领域是生、死、病、残、梦、幻、爱、欲，追求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风格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是“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幽深、晦涩和含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即“从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意象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的联结、企图完成诗的使命”。代表作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《弃妇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弃妇（节选）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李金发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长发披遍我两眼之前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遂隔断了一切羞恶之疾视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与鲜血之急流，枯骨之沉睡。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黑夜与蚊虫联步徐来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越此短墙之角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狂呼在我清白之耳后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如荒野狂风怒号：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战栗了无数游牧。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u=2127853226,3094842176&amp;fm=0&amp;gp=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65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30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252720" y="1125360"/>
            <a:ext cx="9396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5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现代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：由新月派和早期象征诗派演变而来，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孙作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首次提出现代派概念，代表诗人有戴望舒、卞之琳等。现代派一方面追求“纯诗”的艺术观，坚持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表现自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以个体生命和个人情感为中心，另一方面在内容上往往表现出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悲观的虚无思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在表现形式上，不追求严格的格律，诗的韵律靠诗情的抑扬顿挫来表达，多用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象征、暗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构成诗的意境。代表作：《雨巷》《我用我残损的手掌》（戴望舒）、《预言》（何其芳）、《断章》（卞之琳）、《乡愁》（李广田）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85202003519225420_550副本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826920" y="333360"/>
            <a:ext cx="5113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隶书"/>
              </a:rPr>
              <a:t>“</a:t>
            </a: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隶书"/>
              </a:rPr>
              <a:t>雨巷诗人”戴望舒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755520"/>
            <a:ext cx="8424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前</a:t>
            </a:r>
            <a:r>
              <a:rPr b="1" lang="en-US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望舒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先驱兮，后</a:t>
            </a:r>
            <a:r>
              <a:rPr b="1" lang="en-US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飞廉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奔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                     ——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屈原《离骚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26828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雨巷》最初发表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928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年《小说月报》上，引起很大反响，叶圣陶称《雨巷》“替新诗的音节开了一个新纪元”，戴望舒也因此诗获得“雨巷诗人”的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0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年代“现代派”诗人群体的领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6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汉园三诗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：卞之琳、何其芳、李广田三人出版合集《汉园集》，因此被称为“汉园三诗人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u=1375786474,1502135402&amp;fm=0&amp;gp=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4797360"/>
            <a:ext cx="13683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7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月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七月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：《七月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主编胡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希望》等杂志及丛书上出现诗人群，代表诗人有艾青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他们的作品中，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政治抒情诗和描写社会现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的作品占有较大比重，多着重对重压之下的生命、死亡与背叛等主题的思考。代表作：《为祖国而歌》（胡风）、《我爱这土地》（艾青）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u=1375786474,1502135402&amp;fm=0&amp;gp=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4797360"/>
            <a:ext cx="13683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一、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848360" cy="302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诗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是与小说、散文、戏剧并列着的一种文体，它以高度凝练的语言、形象地表达作者丰富的思想感情，集中地反映社会生活，具有一定的节奏和韵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0014" descr="问号gif动画0014.gif"/>
          <p:cNvPicPr/>
          <p:nvPr/>
        </p:nvPicPr>
        <p:blipFill>
          <a:blip r:embed="rId1"/>
          <a:stretch/>
        </p:blipFill>
        <p:spPr>
          <a:xfrm>
            <a:off x="468360" y="5516640"/>
            <a:ext cx="1368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华文新魏"/>
              </a:rPr>
              <a:t>我爱这土地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华文新魏"/>
              </a:rPr>
              <a:t>艾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4537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假如我是一只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我也应该用嘶哑的喉咙歌唱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这被暴风雨所打击着的土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这永远汹涌着我们的悲愤的河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这无止息地吹刮着的激怒的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和那来自林间的无比温柔的黎明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━━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然后我死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连羽毛也腐烂在土地里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为什么我的眼里常含泪水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因为我对这土地爱得深沉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u=1375786474,1502135402&amp;fm=0&amp;gp=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869000"/>
            <a:ext cx="136836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晋察冀诗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因地区而得名。战争时期，中国区产党在山西、察哈尔、河北、热河、辽宁五省交界地区建立晋察冀根据地。以战地社和铁流社为中心，形成了晋察冀诗派。在共产党领导下，鲜明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时代气息、大众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的品格；独特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地域文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和风采；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悲壮、崇高、粗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005110516283692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5300640"/>
            <a:ext cx="15238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九叶诗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 四十年代的现代诗派。这个流派主要成员有九位（辛笛、陈敬容、唐祈、唐是、穆旦、杜运燮、袁可嘉、郑敏、杭约赫），他们以《诗创造》和《中国新诗》为中心形成一个以现代主义为特色的诗派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“中国新诗派”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8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江苏人民出版社出版了这九位诗人的选集《九叶集》，此后，人们便称他们为“九叶诗派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民歌叙事体诗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四十年代，解放区出现了一批民歌体长篇叙事诗。有李季的《王贵与李香香》、阮章竞《漳河水》和《圈套》、张志民的《王九诉苦》、《死不着》和《野女儿》、田间的《赶车传》、李冰的《赵巧儿》等。这些诗篇的出现，表现了延安整风后形成的文艺为工农兵服务的文学思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0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5805360"/>
            <a:ext cx="129708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、新中国成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260280"/>
            <a:ext cx="12240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十七年（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949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966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的文学创作中，新生活的颂歌占了绝大多数的比重。新中国的成立，新的生活的开始，使诗人们意气风发，兴会无前。郭沫若的《新华颂》，何其芳的《我们最伟大的节日》、石方禹的《和平的最强音》、艾青的《我想念祖国》、朱子奇《我漫步在天安们广场上》、王莘的《歌唱祖国》等，都有是建国初期的优秀诗篇，其中激荡着澎湃的诗情，表达了对祖国的无限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20051105154908471" descr="点击查看原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17398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358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中期以后，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新生活的颂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沿着两个方向发展：一是以郭小川的致青年公民、贺敬之的《放声歌唱》为代为代表的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政治抒情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；一是以李季的《玉门诗抄》、李瑛的《花的原野》、邵燕祥的《到远方去》、公刘的《在北方》、张永枚的《骑马挂枪走天下》贺敬之的《桂林山水歌》等为代表的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生活抒情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这些诗篇多侧面地歌颂了社会主义革命和建设的光辉业绩，描绘出日新月异的神州风采和生活风貌，抒发了诗人对祖国和新生活的一片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4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157720"/>
            <a:ext cx="10080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到了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黑体"/>
              </a:rPr>
              <a:t>五十年代至六十年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，中国出现了以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黑体"/>
              </a:rPr>
              <a:t>抒情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为主，以艾青、郭小川、何其芳、田间、阮章竞、贺敬之等元老诗人为主，他们的诗歌特点：注重诗的节奏和语言的流畅，给人以明快、自然，气势磅礴，并结合古典诗词的韵律，让人读来朗朗上口，同时，以精神力量深透在诗中的字里行间。如艾青的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黑体"/>
              </a:rPr>
              <a:t>《大堰河——我的保姆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，贺敬之的《三门峡——梳妆台》，郭小川的《甘蔗林——青纱帐》、《团泊洼的秋天》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66" descr="文件:66.gif  &lt;br&gt;  尺寸:64 × 48  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877000"/>
            <a:ext cx="122544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仿宋_GB2312"/>
              </a:rPr>
              <a:t>      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新现代主义诗群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也称为现代派诗群，源自于纪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5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所创办的《现代诗》诗歌季刊。现代派诗人也可能说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代“现代派”的延续，所以也称为新现代主义。《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现代诗》季刊的创办也被认为是台湾现代诗歌的起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。代表诗人：纪弦、杨唤、林泠、郑愁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66" descr="文件:66.gif  &lt;br&gt;  尺寸:64 × 48  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157720"/>
            <a:ext cx="1225440" cy="746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华文隶书"/>
              </a:rPr>
              <a:t>错误</a:t>
            </a:r>
            <a:br>
              <a:rPr sz="4000"/>
            </a:b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华文新魏"/>
              </a:rPr>
              <a:t>郑愁予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打江南走过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那等在季节里的容颜如莲花开落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东风不来，三月的柳絮不飞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你的心如小小寂寞的城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恰若青石的街道向晚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跫音不响，三月的春帷不揭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你的心是小小的窗扉紧掩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达达的马蹄是美丽的错误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不是归人，是个过客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9_4114_6a2c2feb4caf5f1" descr=""/>
          <p:cNvPicPr/>
          <p:nvPr/>
        </p:nvPicPr>
        <p:blipFill>
          <a:blip r:embed="rId1"/>
          <a:stretch/>
        </p:blipFill>
        <p:spPr>
          <a:xfrm>
            <a:off x="5364000" y="2708280"/>
            <a:ext cx="3780000" cy="3922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292720" y="6381720"/>
            <a:ext cx="3851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964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、六七十年代至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第三代诗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的创作起步于六七十年代，进入八十年代便蔚为大观，他们的生活体验与切身感受，不同于第一、第二代诗人，他们强调审美主体的能动作用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强调主观性、自我性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带有强烈的心理色彩，把用感性浸泡过的形象，组合成新鲜的意象，由此产生出浓郁的诗意及鲜明的时代色调。食指、舒婷等都是这一代影响较大的诗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一、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04000" cy="22320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现、当代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诗歌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1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五四新文化运动以来的白话诗（新诗）和旧体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0014" descr="问号gif动画0014.gif"/>
          <p:cNvPicPr/>
          <p:nvPr/>
        </p:nvPicPr>
        <p:blipFill>
          <a:blip r:embed="rId1"/>
          <a:stretch/>
        </p:blipFill>
        <p:spPr>
          <a:xfrm>
            <a:off x="7308720" y="5229360"/>
            <a:ext cx="13687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文革”后，诗歌命运出现了转机，也可以说是出现了一个质变的飞跃，以舒婷、北岛、顾城、江河、傅天琳、杨炼等青年诗人为代表，开创了中国现代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“朦胧诗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主要以意象来捕捉感觉和意境，运用了意识流、蒙太奇、印象派、超现实唯美主义等艺术手法，抛开了传统的诗歌语言体系的羁绊，带着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迷惘、伤感、宣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的情调，诗歌中的主题不直抒。主要代表作有：舒婷的《致橡树》、《双桅船》，北岛的《回答》、《一切》，顾城的《不要在那里踱步》、《一代人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0014" descr="问号gif动画0014.gif"/>
          <p:cNvPicPr/>
          <p:nvPr/>
        </p:nvPicPr>
        <p:blipFill>
          <a:blip r:embed="rId1"/>
          <a:stretch/>
        </p:blipFill>
        <p:spPr>
          <a:xfrm>
            <a:off x="6659640" y="5805360"/>
            <a:ext cx="13683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朦胧诗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初出现的诗派，其代表人物有北岛、舒婷、顾城、江河、海子、杨炼等。“朦胧诗”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精神内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的三个层面：一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揭露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黑暗和社会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批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二是在黑暗中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寻找光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反思与探求意识以及浓厚的英雄主义色彩，三是在人道主义基础上建立起来的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对“人”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特别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关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“朦胧诗”改写了以往诗歌单纯描摹“现实”与图解政策的传统模式，把诗歌作为探求人生的重要方式，在哲学意义上达到了前所未有的高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    </a:t>
            </a:r>
            <a:r>
              <a:rPr b="1" lang="en-US" sz="4000" spc="-1" strike="noStrike">
                <a:solidFill>
                  <a:srgbClr val="008000"/>
                </a:solidFill>
                <a:latin typeface="华文新魏"/>
                <a:ea typeface="华文新魏"/>
              </a:rPr>
              <a:t>远和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                    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顾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             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一会看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一会看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我觉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      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你看我时很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        </a:t>
            </a:r>
            <a:r>
              <a:rPr b="1" lang="en-US" sz="4000" spc="-1" strike="noStrike">
                <a:solidFill>
                  <a:srgbClr val="333399"/>
                </a:solidFill>
                <a:latin typeface="方正舒体"/>
                <a:ea typeface="方正舒体"/>
              </a:rPr>
              <a:t>你看云时很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200482159444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0"/>
            <a:ext cx="60483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面朝大海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,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春暖花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海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从明天起，做一个幸福的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喂马，劈柴，周游世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从明天起，关心粮食和蔬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有一所房子，面朝大海，春暖花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u=393349666,177253945&amp;fm=15&amp;gp=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189000"/>
            <a:ext cx="1731960" cy="2448000"/>
          </a:xfrm>
          <a:prstGeom prst="rect">
            <a:avLst/>
          </a:prstGeom>
          <a:ln w="0">
            <a:noFill/>
          </a:ln>
        </p:spPr>
      </p:pic>
      <p:pic>
        <p:nvPicPr>
          <p:cNvPr id="150" name="u=393349666,177253945&amp;fm=15&amp;gp=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4581360"/>
            <a:ext cx="1224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从明天起，和每一个亲人通信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告诉他们我的幸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那幸福的闪电告诉我的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将告诉每一个人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给每一条河每一座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取一个温暖的名字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陌生人，我也为你祝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愿你有一个灿烂的前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愿你有情人终成眷属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愿你在尘世获得幸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我只愿面朝大海，春暖花开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89.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u=1710317969,2231255713&amp;fm=15&amp;gp=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197000"/>
            <a:ext cx="2594160" cy="3024000"/>
          </a:xfrm>
          <a:prstGeom prst="rect">
            <a:avLst/>
          </a:prstGeom>
          <a:ln w="0">
            <a:noFill/>
          </a:ln>
        </p:spPr>
      </p:pic>
      <p:pic>
        <p:nvPicPr>
          <p:cNvPr id="153" name="u=1710317969,2231255713&amp;fm=15&amp;gp=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5373720"/>
            <a:ext cx="10890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252720" y="404280"/>
            <a:ext cx="93963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到了八十年代后期，至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九十年代初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诗歌开始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分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中国诗歌又出现了一次革命，从“朦胧诗”到“后朦胧诗”和“后期朦胧派”，又从“朦胧派新生代”诗分流出许多流派，如：学院派、反学院派、意象派、象征派、探索派、先锋派、现代派、古典派、后现代诗、新古典主义等等，众多流派中似乎都是昙花一现。总之，“后新时期”的诗歌，大多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受西方文艺思潮和人文意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的移植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影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在发展中变异、淘汰、重建、再创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19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80536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黑体"/>
              </a:rPr>
              <a:t>三、三位当代诗人的和他们的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6419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余光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28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出生于南京。当代台湾诗人与散文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8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进入厦门大学外文系时开始发表新诗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月到达台湾入台大外文系，毕业后进入军界。退役后进修硕士学位，并从事编辑与教学工作。诗集《舟子的悲歌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52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《白玉苦瓜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74),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散文集《左手的缪思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63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等各十余部，另外还有评论集《掌上雨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67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古朴、典雅、瑰丽的风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u=2828860636,404084153&amp;fm=9&amp;gp=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1844640"/>
            <a:ext cx="20746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琥珀"/>
                <a:ea typeface="华文琥珀"/>
              </a:rPr>
              <a:t>寻李白 </a:t>
            </a:r>
            <a:br>
              <a:rPr sz="3600"/>
            </a:b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——痛饮狂歌空度日 ，飞扬跋扈为谁雄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余光中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那一双傲慢的靴子至今还落在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高力士羞愤的手里，人却不见了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把满地的难民和伤兵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把胡马和羌笛交践的节奏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留给杜二去细细的苦吟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自从那年贺知章眼花了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认你做谪仙，便更加佯狂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用一只中了魔咒的小酒壶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把自己藏起来，连太太也寻不到你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BJ_033" descr=""/>
          <p:cNvPicPr/>
          <p:nvPr/>
        </p:nvPicPr>
        <p:blipFill>
          <a:blip r:embed="rId1"/>
          <a:stretch/>
        </p:blipFill>
        <p:spPr>
          <a:xfrm>
            <a:off x="6156360" y="5805360"/>
            <a:ext cx="1944720" cy="1052640"/>
          </a:xfrm>
          <a:prstGeom prst="rect">
            <a:avLst/>
          </a:prstGeom>
          <a:ln w="0">
            <a:noFill/>
          </a:ln>
        </p:spPr>
      </p:pic>
      <p:pic>
        <p:nvPicPr>
          <p:cNvPr id="165" name="u=3864402916,507594264&amp;fm=3&amp;gp=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252360" y="0"/>
            <a:ext cx="1844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怨长安城小而壶中天长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在所有的诗里你都预言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会突然水遁，或许就在明天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只扁舟破浪，乱发当风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树敌如林，世人皆欲杀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肝硬化怎杀得死你？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酒放豪肠，七分酿成了月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余下的三分啸成剑气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口一吐就半个盛唐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从一元到天宝，从洛阳到咸阳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冠盖满途车骑的嚣闹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不及千年后你的一首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水晶绝句轻叩我额头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当地一弹挑起的回音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BJ_033" descr=""/>
          <p:cNvPicPr/>
          <p:nvPr/>
        </p:nvPicPr>
        <p:blipFill>
          <a:blip r:embed="rId1"/>
          <a:stretch/>
        </p:blipFill>
        <p:spPr>
          <a:xfrm>
            <a:off x="6156360" y="5589720"/>
            <a:ext cx="27367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一、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136000" cy="2232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新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是指“五四运动”前后，新文化运动提倡并兴起的一种新诗体，其中用白话写的大致押韵、形式自由的诗叫做自由体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0014" descr="问号gif动画0014.gif"/>
          <p:cNvPicPr/>
          <p:nvPr/>
        </p:nvPicPr>
        <p:blipFill>
          <a:blip r:embed="rId1"/>
          <a:stretch/>
        </p:blipFill>
        <p:spPr>
          <a:xfrm>
            <a:off x="395280" y="4869000"/>
            <a:ext cx="1368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一贬世上已经够落魄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再放夜郎母乃太难堪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至今成谜是你的籍贯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陇西或山东，青莲乡或碎叶城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不如归去归哪个故乡？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凡你醉处，你说过，皆非他乡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失踪，是天才唯一的下场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身后事，究竟你遁向何处？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狼啼不住，杜二也苦劝你不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一回头四窗下竟已白头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七仙，五友，都救不了你了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匡山给雾锁了，无路可入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仍炉火示纯青，就半粒丹砂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怎追蹑葛洪袖里的流霞？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BJ_033" descr=""/>
          <p:cNvPicPr/>
          <p:nvPr/>
        </p:nvPicPr>
        <p:blipFill>
          <a:blip r:embed="rId1"/>
          <a:stretch/>
        </p:blipFill>
        <p:spPr>
          <a:xfrm>
            <a:off x="6156360" y="4913280"/>
            <a:ext cx="2736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476280"/>
            <a:ext cx="93963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樽中月影，或许那才你故乡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常得你一生痴痴地仰望？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而无论出门向西哭，向东哭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长安却早已陷落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二十四万里的归程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也不必惊动大鹏了，也无须招鹤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只消把酒杯向半空一扔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便旋成一只霍霍的飞碟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诡缘的闪光愈转愈快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接你回传说里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u=177223445,109481130&amp;fm=15&amp;gp=0" descr=""/>
          <p:cNvPicPr/>
          <p:nvPr/>
        </p:nvPicPr>
        <p:blipFill>
          <a:blip r:embed="rId1"/>
          <a:stretch/>
        </p:blipFill>
        <p:spPr>
          <a:xfrm>
            <a:off x="4427640" y="4292640"/>
            <a:ext cx="180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5472360" cy="5865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6600"/>
                </a:solidFill>
                <a:latin typeface="华文彩云"/>
                <a:ea typeface="华文彩云"/>
              </a:rPr>
              <a:t>一棵开花的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             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--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席幕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何让你遇见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我最美丽的时刻  为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已在佛前  求了五百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它让我们结一段尘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佛于是把我化作一棵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在你必经的路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阳光下慎重地开满了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朵朵都是我前世的盼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3280" y="907920"/>
            <a:ext cx="4500720" cy="5578560"/>
          </a:xfrm>
          <a:prstGeom prst="rect">
            <a:avLst/>
          </a:prstGeom>
          <a:noFill/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你走进  请你细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颤抖地叶是我等待地热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当你终于无视地走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你身后落了一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朋友啊   那不是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我凋零的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华文琥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华文琥珀"/>
                <a:ea typeface="华文琥珀"/>
              </a:rPr>
              <a:t>婉约缠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200482242816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0"/>
            <a:ext cx="53640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热爱生命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汪国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208160"/>
            <a:ext cx="4038480" cy="5649840"/>
          </a:xfrm>
          <a:prstGeom prst="rect">
            <a:avLst/>
          </a:prstGeom>
          <a:noFill/>
          <a:ln w="76320">
            <a:solidFill>
              <a:srgbClr val="008000"/>
            </a:solidFill>
            <a:prstDash val="lg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不去想是否能够成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既然选择了远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便只顾风雨兼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不去想能否赢得爱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既然钟情于玫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就勇敢地吐露真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780341gh2_101" descr=""/>
          <p:cNvPicPr/>
          <p:nvPr/>
        </p:nvPicPr>
        <p:blipFill>
          <a:blip r:embed="rId1"/>
          <a:stretch/>
        </p:blipFill>
        <p:spPr>
          <a:xfrm>
            <a:off x="7164360" y="5229360"/>
            <a:ext cx="1506600" cy="1368360"/>
          </a:xfrm>
          <a:prstGeom prst="rect">
            <a:avLst/>
          </a:prstGeom>
          <a:ln w="0">
            <a:noFill/>
          </a:ln>
        </p:spPr>
      </p:pic>
      <p:pic>
        <p:nvPicPr>
          <p:cNvPr id="182" name="u=2327127157,2334210476&amp;fm=15&amp;gp=0" descr=""/>
          <p:cNvPicPr/>
          <p:nvPr/>
        </p:nvPicPr>
        <p:blipFill>
          <a:blip r:embed="rId2"/>
          <a:stretch/>
        </p:blipFill>
        <p:spPr>
          <a:xfrm>
            <a:off x="324000" y="0"/>
            <a:ext cx="1368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4038840" cy="4525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不去想身后会不会袭来寒风冷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既然目标是地平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留给世界的只能是背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不去想未来是平坦还是泥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只要热爱生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一切，都在意料之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华文隶书"/>
                <a:ea typeface="华文隶书"/>
              </a:rPr>
              <a:t>感情真诚，颇具励志性和感染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780341gh2_101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14745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黑体"/>
              </a:rPr>
              <a:t>四、诗歌的特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主旨表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、抒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              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断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你站在桥上看风景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 看风景的人在楼上看你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明月装饰了你的窗子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 你装饰了别人的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71" descr="文件:71.gif  &lt;br&gt;  尺寸:105 × 87  "/>
          <p:cNvPicPr/>
          <p:nvPr/>
        </p:nvPicPr>
        <p:blipFill>
          <a:blip r:embed="rId1"/>
          <a:stretch/>
        </p:blipFill>
        <p:spPr>
          <a:xfrm>
            <a:off x="539640" y="515772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、形象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）意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小时候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是一枚小小的邮票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在这头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母亲在那头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长大后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是一张窄窄的船票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在这头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新娘在那头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后来呵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是一方矮矮的坟墓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在外头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母亲呵在里头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而现在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乡愁是一湾浅浅的海峡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我在这头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333399"/>
                </a:solidFill>
                <a:latin typeface="华文楷体"/>
                <a:ea typeface="华文楷体"/>
              </a:rPr>
              <a:t>祖国在那头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a24" descr="文件:a24.gif  &lt;br&gt;  尺寸:72 × 68  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443640" y="692280"/>
            <a:ext cx="6858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1557360"/>
            <a:ext cx="82076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华文彩云"/>
                <a:ea typeface="华文彩云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华文彩云"/>
                <a:ea typeface="华文彩云"/>
              </a:rPr>
              <a:t>                           </a:t>
            </a:r>
            <a:r>
              <a:rPr b="1" lang="en-US" sz="4400" spc="-1" strike="noStrike">
                <a:solidFill>
                  <a:srgbClr val="a50021"/>
                </a:solidFill>
                <a:latin typeface="华文隶书"/>
                <a:ea typeface="华文隶书"/>
              </a:rPr>
              <a:t>意象：融入了诗人主观情感（“意”）的形象、物象（“象”），可以是人，也可是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华文彩云"/>
                <a:ea typeface="华文彩云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20051105162836928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2305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）意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意境：通过意象或意象组合表现出来“画面”和氛围（情调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看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万山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红遍，层林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尽染；漫江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碧透，百舸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争流。鹰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击长空，鱼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翔浅底，万类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霜天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/</a:t>
            </a:r>
            <a:r>
              <a:rPr b="1" lang="en-US" sz="3600" spc="-1" strike="noStrike">
                <a:solidFill>
                  <a:srgbClr val="a50021"/>
                </a:solidFill>
                <a:latin typeface="华文楷体"/>
                <a:ea typeface="华文楷体"/>
              </a:rPr>
              <a:t>竞自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a28" descr="文件:a28.gif  &lt;br&gt;  尺寸:55 × 55  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948360" y="5157720"/>
            <a:ext cx="5241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诗歌语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、精炼性：浓缩性、跳跃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en-US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一代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                          </a:t>
            </a:r>
            <a:r>
              <a:rPr b="1" lang="en-US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顾城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黑夜给了我黑色的眼睛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我却用它寻找光明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0"/>
          <a:ext cx="248436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48436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二、中国现当代诗歌流派及发展简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产生的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、外在的社会历史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、内在的文艺发展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、音乐性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语速变化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      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节奏鲜明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  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韵律和谐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0011" descr="问号gif动画0011.gif"/>
          <p:cNvPicPr/>
          <p:nvPr/>
        </p:nvPicPr>
        <p:blipFill>
          <a:blip r:embed="rId1"/>
          <a:stretch/>
        </p:blipFill>
        <p:spPr>
          <a:xfrm>
            <a:off x="6372360" y="5157720"/>
            <a:ext cx="86364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2004822428164" descr=""/>
          <p:cNvPicPr/>
          <p:nvPr/>
        </p:nvPicPr>
        <p:blipFill>
          <a:blip r:embed="rId1"/>
          <a:stretch/>
        </p:blipFill>
        <p:spPr>
          <a:xfrm>
            <a:off x="6227640" y="96840"/>
            <a:ext cx="2916360" cy="1946160"/>
          </a:xfrm>
          <a:prstGeom prst="rect">
            <a:avLst/>
          </a:prstGeom>
          <a:ln w="0">
            <a:noFill/>
          </a:ln>
        </p:spPr>
      </p:pic>
      <p:pic>
        <p:nvPicPr>
          <p:cNvPr id="203" name="a7" descr=""/>
          <p:cNvPicPr/>
          <p:nvPr/>
        </p:nvPicPr>
        <p:blipFill>
          <a:blip r:embed="rId2"/>
          <a:stretch/>
        </p:blipFill>
        <p:spPr>
          <a:xfrm>
            <a:off x="250920" y="551664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79280" y="90792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黑体"/>
                <a:ea typeface="黑体"/>
              </a:rPr>
              <a:t>五、诗歌特点简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感情真挚浓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语言凝练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想象丰富精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黑体"/>
              </a:rPr>
              <a:t>（三）联想想象精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彩云"/>
                <a:ea typeface="华文彩云"/>
              </a:rPr>
              <a:t>女儿悲，嫁个男人是乌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彩云"/>
                <a:ea typeface="华文彩云"/>
              </a:rPr>
              <a:t>女儿愁，绣房钻出个大马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彩云"/>
                <a:ea typeface="华文彩云"/>
              </a:rPr>
              <a:t>                                   ——</a:t>
            </a:r>
            <a:r>
              <a:rPr b="1" lang="en-US" sz="4000" spc="-1" strike="noStrike">
                <a:solidFill>
                  <a:srgbClr val="333399"/>
                </a:solidFill>
                <a:latin typeface="华文彩云"/>
                <a:ea typeface="华文彩云"/>
              </a:rPr>
              <a:t>薛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黑体"/>
              </a:rPr>
              <a:t>六、学写白话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、内容上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善于联想、想象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、思想上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要写出动人的情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3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、格式上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分行，注意押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BJ_033" descr=""/>
          <p:cNvPicPr/>
          <p:nvPr/>
        </p:nvPicPr>
        <p:blipFill>
          <a:blip r:embed="rId1"/>
          <a:stretch/>
        </p:blipFill>
        <p:spPr>
          <a:xfrm>
            <a:off x="6156360" y="4913280"/>
            <a:ext cx="2736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3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39640" y="1341360"/>
            <a:ext cx="7850160" cy="70344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一首白话短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260280"/>
            <a:ext cx="2448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琥珀"/>
              </a:rPr>
              <a:t>假期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世纪初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1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《新青年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刊出胡适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《白话诗八首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现代诗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诞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次年再次刊出胡适、刘半农、沈尹默的白话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胡适的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《尝试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出版，中国文学史上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首次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出现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个人新诗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此后更多的诗人开始白话诗的创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胡适" descr=""/>
          <p:cNvPicPr/>
          <p:nvPr/>
        </p:nvPicPr>
        <p:blipFill>
          <a:blip r:embed="rId1"/>
          <a:stretch/>
        </p:blipFill>
        <p:spPr>
          <a:xfrm>
            <a:off x="7093080" y="0"/>
            <a:ext cx="1439640" cy="1655640"/>
          </a:xfrm>
          <a:prstGeom prst="rect">
            <a:avLst/>
          </a:prstGeom>
          <a:ln w="0">
            <a:noFill/>
          </a:ln>
        </p:spPr>
      </p:pic>
      <p:pic>
        <p:nvPicPr>
          <p:cNvPr id="64" name="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157720"/>
            <a:ext cx="9684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huu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宋体"/>
                <a:ea typeface="仿宋_GB2312"/>
              </a:rPr>
              <a:t>蝴蝶</a:t>
            </a:r>
            <a:br>
              <a:rPr sz="4800"/>
            </a:br>
            <a:r>
              <a:rPr b="1" lang="en-US" sz="3200" spc="-1" strike="noStrike">
                <a:solidFill>
                  <a:srgbClr val="99cc00"/>
                </a:solidFill>
                <a:latin typeface="宋体"/>
                <a:ea typeface="仿宋_GB2312"/>
              </a:rPr>
              <a:t>胡适</a:t>
            </a: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仿宋_GB2312"/>
              </a:rPr>
              <a:t>   </a:t>
            </a:r>
            <a:r>
              <a:rPr b="1" lang="en-US" sz="3600" spc="-1" strike="noStrike">
                <a:solidFill>
                  <a:srgbClr val="00ff00"/>
                </a:solidFill>
                <a:latin typeface="华文隶书"/>
                <a:ea typeface="华文隶书"/>
              </a:rPr>
              <a:t>两个黄蝴蝶，双双飞上天。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华文隶书"/>
                <a:ea typeface="华文隶书"/>
              </a:rPr>
              <a:t>不知为什么，一个忽飞还。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华文隶书"/>
                <a:ea typeface="华文隶书"/>
              </a:rPr>
              <a:t>剩下那一个，孤单怪可怜。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华文隶书"/>
                <a:ea typeface="华文隶书"/>
              </a:rPr>
              <a:t>也无心上天，天上太孤单</a:t>
            </a:r>
            <a:r>
              <a:rPr b="1" lang="en-US" sz="4000" spc="-1" strike="noStrike">
                <a:solidFill>
                  <a:srgbClr val="00ff00"/>
                </a:solidFill>
                <a:latin typeface="华文隶书"/>
                <a:ea typeface="华文隶书"/>
              </a:rPr>
              <a:t>。</a:t>
            </a:r>
            <a:r>
              <a:rPr b="0" lang="en-US" sz="4000" spc="-1" strike="noStrike">
                <a:solidFill>
                  <a:srgbClr val="ff6600"/>
                </a:solidFill>
                <a:latin typeface="华文隶书"/>
                <a:ea typeface="华文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7280" y="189000"/>
            <a:ext cx="3240000" cy="5760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方正舒体"/>
              </a:rPr>
              <a:t>新诗的不足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仿宋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848720" cy="5329440"/>
          </a:xfrm>
          <a:prstGeom prst="rect">
            <a:avLst/>
          </a:prstGeom>
          <a:noFill/>
          <a:ln w="12600">
            <a:solidFill>
              <a:srgbClr val="a50021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000066"/>
                </a:solidFill>
                <a:latin typeface="华文楷体"/>
                <a:ea typeface="华文楷体"/>
              </a:rPr>
              <a:t>“</a:t>
            </a:r>
            <a:r>
              <a:rPr b="1" lang="en-US" sz="3200" spc="-1" strike="noStrike">
                <a:solidFill>
                  <a:srgbClr val="000066"/>
                </a:solidFill>
                <a:latin typeface="华文楷体"/>
                <a:ea typeface="华文楷体"/>
              </a:rPr>
              <a:t>新诗运动最早的几年，大家注重的是‘白话’，不是‘诗’，大家努力的是如何摆脱旧诗的藩篱，不是如何建社新诗的根基。”——梁实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语言极不讲究，词汇极端贫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缺乏诗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情感太薄弱，想象太肤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14:48:29Z</dcterms:created>
  <dc:creator>老汤</dc:creator>
  <dc:description/>
  <dc:language>en-US</dc:language>
  <cp:lastModifiedBy>zmj</cp:lastModifiedBy>
  <dcterms:modified xsi:type="dcterms:W3CDTF">2011-08-09T02:37:33Z</dcterms:modified>
  <cp:revision>32</cp:revision>
  <dc:subject/>
  <dc:title>现当代诗歌发展脉络及写作入门</dc:title>
</cp:coreProperties>
</file>