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13.png" ContentType="image/png"/>
  <Override PartName="/ppt/media/image7.jpeg" ContentType="image/jpeg"/>
  <Override PartName="/ppt/media/image9.jpeg" ContentType="image/jpeg"/>
  <Override PartName="/ppt/media/image3.jpeg" ContentType="image/jpeg"/>
  <Override PartName="/ppt/media/image12.gif" ContentType="image/gif"/>
  <Override PartName="/ppt/media/image14.png" ContentType="image/png"/>
  <Override PartName="/ppt/media/image11.gif" ContentType="image/gif"/>
  <Override PartName="/ppt/media/image26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chimes.wav" ContentType="audio/x-wav"/>
  <Override PartName="/ppt/media/image16.png" ContentType="image/png"/>
  <Override PartName="/ppt/media/image15.jpeg" ContentType="image/jpeg"/>
  <Override PartName="/ppt/media/image17.png" ContentType="image/png"/>
  <Override PartName="/ppt/media/image6.jpeg" ContentType="image/jpeg"/>
  <Override PartName="/ppt/media/type.wav" ContentType="audio/x-wav"/>
  <Override PartName="/ppt/media/image18.jpeg" ContentType="image/jpeg"/>
  <Override PartName="/ppt/media/camera.wav" ContentType="audio/x-wav"/>
  <Override PartName="/ppt/media/image24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bomb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F8CE-51CF-4AD4-B292-A72222A2551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答第四题，引出第五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答第四题，引出第五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814D-871C-4707-B5F8-0EC2726C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816C-50C0-43D3-93B4-7BA708E0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4471-8F7C-4C00-A828-707293BD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0ED-7AA3-4B6D-AA14-C86723CC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FE3-68FB-412F-A178-87BADEA7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B3D8-085B-4806-85BC-7083E62B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A13-31C2-48B8-A3E5-5662199B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4282-319E-47FC-ADF1-FF0489DE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704A-6F32-44A4-9311-5583287E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5ECA-9292-42DF-9898-C8514E01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11C7-26C4-481E-915B-713B49BF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1DFF-D5BE-4E4C-9A69-1DD117D7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1300-9A40-419A-A1E2-68BE363D60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3280" y="23184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685800"/>
            <a:ext cx="25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Arial"/>
                <a:ea typeface="华文行楷"/>
              </a:rPr>
              <a:t>导入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04812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世界上，有许多爱包围着我们，有些爱是细致的，有些爱是厚重的；有些爱和风细雨，有些爱轰轰烈烈。父爱、母爱、夫妻之间的爱、子女的爱、亲人的爱……爱，已经成了中华文学史上永恒的主题。今天我们就来学习一篇朱自清的《背影》，让我们来真切的体会一下浓浓的父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34160" y="2565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6002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个不懂得享受爱的人，他的良知是苍白的；一个不懂得回报爱的人，他的情感是自私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阅读训练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103" name=""/>
            <p:cNvGrpSpPr/>
            <p:nvPr/>
          </p:nvGrpSpPr>
          <p:grpSpPr>
            <a:xfrm>
              <a:off x="290520" y="869760"/>
              <a:ext cx="711360" cy="474480"/>
              <a:chOff x="290520" y="869760"/>
              <a:chExt cx="711360" cy="474480"/>
            </a:xfrm>
          </p:grpSpPr>
          <p:sp>
            <p:nvSpPr>
              <p:cNvPr id="104" name=""/>
              <p:cNvSpPr/>
              <p:nvPr/>
            </p:nvSpPr>
            <p:spPr>
              <a:xfrm>
                <a:off x="290520" y="86976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73560" y="869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414360" y="1292040"/>
              <a:ext cx="737640" cy="474480"/>
              <a:chOff x="414360" y="1292040"/>
              <a:chExt cx="737640" cy="474480"/>
            </a:xfrm>
          </p:grpSpPr>
          <p:sp>
            <p:nvSpPr>
              <p:cNvPr id="107" name=""/>
              <p:cNvSpPr/>
              <p:nvPr/>
            </p:nvSpPr>
            <p:spPr>
              <a:xfrm>
                <a:off x="414360" y="129204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83000" y="1292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16080" y="1583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68580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82880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e5f1a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b74e07"/>
                </a:solidFill>
                <a:latin typeface="Times New Roman"/>
                <a:ea typeface="黑体"/>
              </a:rPr>
              <a:t>阅读课文：用下列符号进行圈点批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895480"/>
            <a:ext cx="84582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划分文章部分、层次分别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双竖线、单竖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能理解的词语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横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认为用得好的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方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键语句（或写得好的语句）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波浪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疑问的地方，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括号和问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ball010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20760" cy="263520"/>
          </a:xfrm>
          <a:prstGeom prst="rect">
            <a:avLst/>
          </a:prstGeom>
          <a:ln w="0">
            <a:noFill/>
          </a:ln>
        </p:spPr>
      </p:pic>
      <p:pic>
        <p:nvPicPr>
          <p:cNvPr id="116" name="ball010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320760" cy="263520"/>
          </a:xfrm>
          <a:prstGeom prst="rect">
            <a:avLst/>
          </a:prstGeom>
          <a:ln w="0">
            <a:noFill/>
          </a:ln>
        </p:spPr>
      </p:pic>
      <p:pic>
        <p:nvPicPr>
          <p:cNvPr id="117" name="ball010" descr=""/>
          <p:cNvPicPr/>
          <p:nvPr/>
        </p:nvPicPr>
        <p:blipFill>
          <a:blip r:embed="rId3"/>
          <a:stretch/>
        </p:blipFill>
        <p:spPr>
          <a:xfrm>
            <a:off x="609480" y="4038480"/>
            <a:ext cx="320760" cy="263520"/>
          </a:xfrm>
          <a:prstGeom prst="rect">
            <a:avLst/>
          </a:prstGeom>
          <a:ln w="0">
            <a:noFill/>
          </a:ln>
        </p:spPr>
      </p:pic>
      <p:pic>
        <p:nvPicPr>
          <p:cNvPr id="118" name="ball010" descr=""/>
          <p:cNvPicPr/>
          <p:nvPr/>
        </p:nvPicPr>
        <p:blipFill>
          <a:blip r:embed="rId4"/>
          <a:stretch/>
        </p:blipFill>
        <p:spPr>
          <a:xfrm>
            <a:off x="609480" y="4572000"/>
            <a:ext cx="320760" cy="263520"/>
          </a:xfrm>
          <a:prstGeom prst="rect">
            <a:avLst/>
          </a:prstGeom>
          <a:ln w="0">
            <a:noFill/>
          </a:ln>
        </p:spPr>
      </p:pic>
      <p:pic>
        <p:nvPicPr>
          <p:cNvPr id="119" name="beike" descr=""/>
          <p:cNvPicPr/>
          <p:nvPr/>
        </p:nvPicPr>
        <p:blipFill>
          <a:blip r:embed="rId5"/>
          <a:stretch/>
        </p:blipFill>
        <p:spPr>
          <a:xfrm>
            <a:off x="7162920" y="4800600"/>
            <a:ext cx="1523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14680" y="26028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ahoma"/>
              </a:rPr>
              <a:t>整体感知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590920"/>
            <a:ext cx="7391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本文写的主要事件是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父子浦口送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71560" y="859680"/>
            <a:ext cx="816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阅 读 准 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51440" y="1966320"/>
            <a:ext cx="667800" cy="43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父 亲 的 语 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4280" y="1966320"/>
            <a:ext cx="667800" cy="43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父 亲 的 动 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80520" y="2012400"/>
            <a:ext cx="667800" cy="43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父 亲 的 背 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7040" y="2012400"/>
            <a:ext cx="667800" cy="43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儿 子 的 眼 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2286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  <a:ea typeface="隶书"/>
              </a:rPr>
              <a:t>思考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914400"/>
            <a:ext cx="7848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找出本文的文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文眼就是文章的字眼儿，读出了文眼，就读　　出了中心。文眼常常出现在开头或结尾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18400" y="2514600"/>
            <a:ext cx="7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我最不有忘记的是他的背影。</a:t>
            </a:r>
            <a:r>
              <a:rPr b="1" lang="zh-CN" sz="2800" spc="-1" strike="noStrike">
                <a:solidFill>
                  <a:srgbClr val="cccc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895480"/>
            <a:ext cx="80773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: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”与父亲最后一次相见于什么时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什么地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二年前的冬天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徐州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: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”与父亲见面的背景如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410080"/>
            <a:ext cx="723924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祖母死了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父亲的差使也交卸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zh-CN" sz="3200" spc="-1" strike="noStrike">
                <a:solidFill>
                  <a:srgbClr val="cccc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祸不单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家境惨淡</a:t>
            </a:r>
            <a:r>
              <a:rPr b="1" lang="zh-CN" sz="3200" spc="-1" strike="noStrike">
                <a:solidFill>
                  <a:srgbClr val="cccc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219320"/>
            <a:ext cx="6019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、文中一共几次写到了父亲的背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135" name=""/>
            <p:cNvGrpSpPr/>
            <p:nvPr/>
          </p:nvGrpSpPr>
          <p:grpSpPr>
            <a:xfrm>
              <a:off x="425520" y="565200"/>
              <a:ext cx="711360" cy="474840"/>
              <a:chOff x="425520" y="565200"/>
              <a:chExt cx="711360" cy="474840"/>
            </a:xfrm>
          </p:grpSpPr>
          <p:sp>
            <p:nvSpPr>
              <p:cNvPr id="136" name=""/>
              <p:cNvSpPr/>
              <p:nvPr/>
            </p:nvSpPr>
            <p:spPr>
              <a:xfrm>
                <a:off x="425520" y="565200"/>
                <a:ext cx="437400" cy="474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08560" y="5652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549360" y="987480"/>
              <a:ext cx="737640" cy="474840"/>
              <a:chOff x="549360" y="987480"/>
              <a:chExt cx="737640" cy="474840"/>
            </a:xfrm>
          </p:grpSpPr>
          <p:sp>
            <p:nvSpPr>
              <p:cNvPr id="139" name=""/>
              <p:cNvSpPr/>
              <p:nvPr/>
            </p:nvSpPr>
            <p:spPr>
              <a:xfrm>
                <a:off x="549360" y="98748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918000" y="9874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51080" y="12794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219320" y="2286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  <a:ea typeface="隶书"/>
              </a:rPr>
              <a:t>思考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2057400" cy="5943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354760" y="341784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&lt;2&gt;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刻画背影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望父买橘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4760" y="425592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&lt;3&gt;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惜别背影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父子分手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54760" y="509436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&lt;4&gt;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再现背影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别后怀念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07240" y="256536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&lt;1&gt;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惦记背影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思念父亲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73160" y="0"/>
            <a:ext cx="503712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55640" y="21337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153" name=""/>
            <p:cNvGrpSpPr/>
            <p:nvPr/>
          </p:nvGrpSpPr>
          <p:grpSpPr>
            <a:xfrm>
              <a:off x="425520" y="565200"/>
              <a:ext cx="711360" cy="474840"/>
              <a:chOff x="425520" y="565200"/>
              <a:chExt cx="711360" cy="474840"/>
            </a:xfrm>
          </p:grpSpPr>
          <p:sp>
            <p:nvSpPr>
              <p:cNvPr id="154" name=""/>
              <p:cNvSpPr/>
              <p:nvPr/>
            </p:nvSpPr>
            <p:spPr>
              <a:xfrm>
                <a:off x="425520" y="565200"/>
                <a:ext cx="437400" cy="474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08560" y="5652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549360" y="987480"/>
              <a:ext cx="737640" cy="474840"/>
              <a:chOff x="549360" y="987480"/>
              <a:chExt cx="737640" cy="474840"/>
            </a:xfrm>
          </p:grpSpPr>
          <p:sp>
            <p:nvSpPr>
              <p:cNvPr id="157" name=""/>
              <p:cNvSpPr/>
              <p:nvPr/>
            </p:nvSpPr>
            <p:spPr>
              <a:xfrm>
                <a:off x="549360" y="98748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8000" y="9874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51080" y="12794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981000" y="159912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、儿子总共流了几次泪，为什么流泪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51160" y="25621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悲哀之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见父亲，睹家境，想祖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82800" y="329256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感动之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望父买橘，父子离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92160" y="40068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感伤之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背影远去，依依惜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92160" y="47401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伤心之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再现背影，泪光莹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2286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  <a:ea typeface="隶书"/>
              </a:rPr>
              <a:t>思考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867280" y="1523880"/>
            <a:ext cx="3130560" cy="5334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2120" y="152280"/>
            <a:ext cx="2743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171" name=""/>
            <p:cNvGrpSpPr/>
            <p:nvPr/>
          </p:nvGrpSpPr>
          <p:grpSpPr>
            <a:xfrm>
              <a:off x="290520" y="869760"/>
              <a:ext cx="711360" cy="474480"/>
              <a:chOff x="290520" y="869760"/>
              <a:chExt cx="711360" cy="474480"/>
            </a:xfrm>
          </p:grpSpPr>
          <p:sp>
            <p:nvSpPr>
              <p:cNvPr id="172" name=""/>
              <p:cNvSpPr/>
              <p:nvPr/>
            </p:nvSpPr>
            <p:spPr>
              <a:xfrm>
                <a:off x="290520" y="86976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73560" y="869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414360" y="1292040"/>
              <a:ext cx="737640" cy="474480"/>
              <a:chOff x="414360" y="1292040"/>
              <a:chExt cx="737640" cy="474480"/>
            </a:xfrm>
          </p:grpSpPr>
          <p:sp>
            <p:nvSpPr>
              <p:cNvPr id="175" name=""/>
              <p:cNvSpPr/>
              <p:nvPr/>
            </p:nvSpPr>
            <p:spPr>
              <a:xfrm>
                <a:off x="414360" y="129204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83000" y="1292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16080" y="1583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95280" y="1628640"/>
            <a:ext cx="7162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260000"/>
                </a:solidFill>
                <a:latin typeface="黑体"/>
                <a:ea typeface="黑体"/>
              </a:rPr>
              <a:t>贯穿全文的线索是什么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哪两个地方着重写父亲的背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以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背影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为线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a:</a:t>
            </a: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父亲买橘子爬月台的时候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b:</a:t>
            </a: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父亲送子时，下车往回走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混入人群的时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5445000"/>
            <a:ext cx="60195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阅读“买橘子”一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019920" y="1197000"/>
            <a:ext cx="3124080" cy="4896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0920" y="0"/>
            <a:ext cx="55432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琥珀简体"/>
              </a:rPr>
              <a:t>这段动词准确精当，请根据课文填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我看见他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着黑布小帽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着黑布大马褂，深青布棉袍，蹒跚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铁道边，慢慢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　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身下去，尚不大难。可是他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铁道，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那边月台，就不容易了。他用两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着上面，两脚再向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　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他肥胖的身子向左微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　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显出努力的样子，这时我看见他的背影，我的泪很快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　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来了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43280" y="11253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6286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08360" y="21337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11280" y="256536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48000" y="3068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42920" y="357336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3640" y="400536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84360" y="450864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501336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16360" y="60213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66680" y="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0" y="533520"/>
            <a:ext cx="9009000" cy="1052280"/>
            <a:chOff x="0" y="533520"/>
            <a:chExt cx="9009000" cy="1052280"/>
          </a:xfrm>
        </p:grpSpPr>
        <p:grpSp>
          <p:nvGrpSpPr>
            <p:cNvPr id="196" name=""/>
            <p:cNvGrpSpPr/>
            <p:nvPr/>
          </p:nvGrpSpPr>
          <p:grpSpPr>
            <a:xfrm>
              <a:off x="290520" y="641160"/>
              <a:ext cx="711360" cy="474480"/>
              <a:chOff x="290520" y="641160"/>
              <a:chExt cx="711360" cy="474480"/>
            </a:xfrm>
          </p:grpSpPr>
          <p:sp>
            <p:nvSpPr>
              <p:cNvPr id="197" name=""/>
              <p:cNvSpPr/>
              <p:nvPr/>
            </p:nvSpPr>
            <p:spPr>
              <a:xfrm>
                <a:off x="290520" y="64116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3560" y="641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414360" y="1063440"/>
              <a:ext cx="737640" cy="474480"/>
              <a:chOff x="414360" y="1063440"/>
              <a:chExt cx="737640" cy="474480"/>
            </a:xfrm>
          </p:grpSpPr>
          <p:sp>
            <p:nvSpPr>
              <p:cNvPr id="200" name=""/>
              <p:cNvSpPr/>
              <p:nvPr/>
            </p:nvSpPr>
            <p:spPr>
              <a:xfrm>
                <a:off x="414360" y="106344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83000" y="1063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0" y="990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5040" y="5335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316080" y="1354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304920" y="838080"/>
            <a:ext cx="83818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请找出父亲送儿子上车的过程说的四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话，并体会它所含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&lt;1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不要紧，他们去不好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&lt;2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我买几个橘子去。你就在此地，不要走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&lt;3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我走了，到那边来信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&lt;4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进去吧，里边没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380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这四句话都很简短，意思也很平常。这样简短平常的话是否缺乏感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4967280"/>
            <a:ext cx="8424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260000"/>
                </a:solidFill>
                <a:latin typeface="楷体_GB2312"/>
                <a:ea typeface="楷体_GB2312"/>
              </a:rPr>
              <a:t>不是，朴素的言语中往往含有深挚的爱；平淡的话语里往往有不平静的心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6e73"/>
                </a:solidFill>
                <a:latin typeface="方正琥珀简体"/>
                <a:ea typeface="黑体"/>
              </a:rPr>
              <a:t>送你一句名言：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黑体"/>
              </a:rPr>
              <a:t>真理是朴素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60320" y="754200"/>
            <a:ext cx="777240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这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句朴实而简洁的话包含着父亲怎样的深情？请具体说明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4200" y="2492280"/>
            <a:ext cx="806580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要紧，他们去不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父亲当时急于谋事，在生存的巨大压力之下，忧心如焚，但是儿子在他心目中高于一切，惟恐儿子路上有什么闪失，所以最后决定还是由自己亲自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5616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7600" y="1413000"/>
            <a:ext cx="7898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罗中立《父亲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9810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宋体"/>
                <a:ea typeface="黑体"/>
              </a:rPr>
              <a:t>②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  <a:ea typeface="黑体"/>
              </a:rPr>
              <a:t>我买几个橘子去。你就在此地，不要走动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2355840"/>
            <a:ext cx="8381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黑体"/>
              </a:rPr>
              <a:t>—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—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父亲已经把儿子送上车，已经关照得无微不至，儿子也劝父亲可以走了，而父亲还觉得没有尽够心意，看见站上有卖橘子的，便要去给儿子买橘子。过铁道不容易，自己受点累，能让儿子受用，他是心甘情愿的。他还生怕儿子跟着出来，忘了行李。父亲的关怀真是无微不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走了，到那边来信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219320"/>
            <a:ext cx="80629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663300"/>
                </a:solidFill>
                <a:latin typeface="黑体"/>
                <a:ea typeface="黑体"/>
              </a:rPr>
              <a:t>惦念路途平安，要等到儿子回到北京来信报平安，才能放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2590920"/>
            <a:ext cx="8229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宋体"/>
                <a:ea typeface="黑体"/>
              </a:rPr>
              <a:t>④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  <a:ea typeface="黑体"/>
              </a:rPr>
              <a:t>进去吧，里边没人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3352680"/>
            <a:ext cx="825336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走了几步就回头，可见心里还是惦记着儿子，依依不舍。又想到儿子所带的行李，叫儿子小心，什么都为儿子着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6e73"/>
                </a:solidFill>
                <a:latin typeface="方正琥珀简体"/>
                <a:ea typeface="黑体"/>
              </a:rPr>
              <a:t>提示：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黑体"/>
              </a:rPr>
              <a:t>写作，要善于用朴素的语言写出深挚的感情；选材，也要善于选择那些平常而又饱含深情的素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77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6e73"/>
                </a:solidFill>
                <a:latin typeface="Verdana"/>
                <a:ea typeface="黑体"/>
              </a:rPr>
              <a:t>     </a:t>
            </a:r>
            <a:r>
              <a:rPr b="1" lang="zh-CN" sz="4000" spc="-1" strike="noStrike">
                <a:solidFill>
                  <a:srgbClr val="2f6e73"/>
                </a:solidFill>
                <a:latin typeface="Verdana"/>
                <a:ea typeface="黑体"/>
              </a:rPr>
              <a:t>有一句话，值得你铭记一生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70080" y="2050920"/>
            <a:ext cx="659448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世界上最大的是海洋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比海洋更大的是天空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比天空更大的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是父母对儿女的恩情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16000" y="3429000"/>
            <a:ext cx="4319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Verdana"/>
                <a:ea typeface="黑体"/>
              </a:rPr>
              <a:t>阅读前三</a:t>
            </a:r>
            <a:br>
              <a:rPr sz="4400"/>
            </a:br>
            <a:r>
              <a:rPr b="1" lang="zh-CN" sz="4400" spc="-1" strike="noStrike">
                <a:solidFill>
                  <a:srgbClr val="9933ff"/>
                </a:solidFill>
                <a:latin typeface="Verdana"/>
                <a:ea typeface="黑体"/>
              </a:rPr>
              <a:t>自然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1916280"/>
            <a:ext cx="3505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6e73"/>
                </a:solidFill>
                <a:latin typeface="Verdana"/>
                <a:ea typeface="黑体"/>
              </a:rPr>
              <a:t>3</a:t>
            </a:r>
            <a:r>
              <a:rPr b="1" lang="zh-CN" sz="4000" spc="-1" strike="noStrike">
                <a:solidFill>
                  <a:srgbClr val="2f6e73"/>
                </a:solidFill>
                <a:latin typeface="Verdana"/>
                <a:ea typeface="黑体"/>
              </a:rPr>
              <a:t>、第一次“背影”起什么作用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257800" y="457200"/>
            <a:ext cx="3130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457200"/>
            <a:ext cx="8064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3333cc"/>
                </a:solidFill>
                <a:latin typeface="Verdana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260000"/>
                </a:solidFill>
                <a:latin typeface="Verdana"/>
                <a:ea typeface="黑体"/>
              </a:rPr>
              <a:t>我与父亲不相见已二年余了，我最不能忘记的是他的背影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这一句起什么作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2209680"/>
            <a:ext cx="1752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归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3352680"/>
            <a:ext cx="736128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Verdana"/>
                <a:ea typeface="楷体_GB2312"/>
              </a:rPr>
              <a:t>交代“背影”的</a:t>
            </a:r>
            <a:r>
              <a:rPr b="1" lang="zh-CN" sz="3600" spc="-1" strike="noStrike">
                <a:solidFill>
                  <a:srgbClr val="ff6600"/>
                </a:solidFill>
                <a:latin typeface="Verdana"/>
                <a:ea typeface="楷体_GB2312"/>
              </a:rPr>
              <a:t>背景</a:t>
            </a:r>
            <a:r>
              <a:rPr b="1" lang="zh-CN" sz="3600" spc="-1" strike="noStrike">
                <a:solidFill>
                  <a:srgbClr val="663300"/>
                </a:solidFill>
                <a:latin typeface="Verdana"/>
                <a:ea typeface="楷体_GB2312"/>
              </a:rPr>
              <a:t>（即家境的悲凉），烘托父亲的爱子之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6e73"/>
                </a:solidFill>
                <a:latin typeface="Verdana"/>
                <a:ea typeface="华文彩云"/>
              </a:rPr>
              <a:t>提示：</a:t>
            </a:r>
            <a:r>
              <a:rPr b="1" lang="zh-CN" sz="3600" spc="-1" strike="noStrike">
                <a:solidFill>
                  <a:srgbClr val="663300"/>
                </a:solidFill>
                <a:latin typeface="Verdana"/>
                <a:ea typeface="楷体_GB2312"/>
              </a:rPr>
              <a:t>写背景，往往有烘托作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0880" y="45720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Verdana"/>
                <a:ea typeface="方正琥珀简体"/>
              </a:rPr>
              <a:t>阅读最后一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013440" y="685800"/>
            <a:ext cx="3130560" cy="53341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52280" y="1371600"/>
            <a:ext cx="6026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、课文结尾写父亲的背影，是在“晶莹的泪光中”，这是为什么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200400"/>
            <a:ext cx="60897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3300"/>
                </a:solidFill>
                <a:latin typeface="Verdana"/>
                <a:ea typeface="楷体_GB2312"/>
              </a:rPr>
              <a:t>父亲信上说到了“大去之期”，说明他的身体和心境都到了日薄西山的地步，想到父亲对自己的许多好处，想到父亲的背影，作者不禁泪如泉涌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013440" y="685800"/>
            <a:ext cx="3130560" cy="53341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0" y="380880"/>
            <a:ext cx="7702560" cy="27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0000"/>
                </a:solidFill>
                <a:latin typeface="Verdana"/>
              </a:rPr>
              <a:t>我读到此处，在晶莹的泪光中，又看见那肥胖的、青布棉袍黑布马褂的背影。唉！我不知何时能与他相见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课文最后又写到父亲的背影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有什么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3429000"/>
            <a:ext cx="55706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Verdana"/>
                <a:ea typeface="楷体_GB2312"/>
              </a:rPr>
              <a:t>这个“背影”寄托着作者对父亲的深沉的思念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Verdana"/>
                <a:ea typeface="楷体_GB2312"/>
              </a:rPr>
              <a:t>写思念，是为了烘托父亲的爱子之情，深化文章主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233" name=""/>
            <p:cNvGrpSpPr/>
            <p:nvPr/>
          </p:nvGrpSpPr>
          <p:grpSpPr>
            <a:xfrm>
              <a:off x="290520" y="869760"/>
              <a:ext cx="711360" cy="474480"/>
              <a:chOff x="290520" y="869760"/>
              <a:chExt cx="711360" cy="474480"/>
            </a:xfrm>
          </p:grpSpPr>
          <p:sp>
            <p:nvSpPr>
              <p:cNvPr id="234" name=""/>
              <p:cNvSpPr/>
              <p:nvPr/>
            </p:nvSpPr>
            <p:spPr>
              <a:xfrm>
                <a:off x="290520" y="86976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73560" y="869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414360" y="1292040"/>
              <a:ext cx="737640" cy="474480"/>
              <a:chOff x="414360" y="1292040"/>
              <a:chExt cx="737640" cy="474480"/>
            </a:xfrm>
          </p:grpSpPr>
          <p:sp>
            <p:nvSpPr>
              <p:cNvPr id="237" name=""/>
              <p:cNvSpPr/>
              <p:nvPr/>
            </p:nvSpPr>
            <p:spPr>
              <a:xfrm>
                <a:off x="414360" y="129204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3000" y="1292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16080" y="1583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57200" y="213372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简要概括课文的中心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课文通过对父亲背影的描写，于叙事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表现了父亲疼爱儿子，儿子怜爱父亲，父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情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123" descr=""/>
          <p:cNvPicPr/>
          <p:nvPr/>
        </p:nvPicPr>
        <p:blipFill>
          <a:blip r:embed="rId1"/>
          <a:stretch/>
        </p:blipFill>
        <p:spPr>
          <a:xfrm>
            <a:off x="7391520" y="533412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057400" y="4495680"/>
            <a:ext cx="4443480" cy="20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父子情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6504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3300"/>
                </a:solidFill>
                <a:latin typeface="Times New Roman"/>
                <a:ea typeface="华文行楷"/>
              </a:rPr>
              <a:t>背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一、（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）   思念父亲 点出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文鼎中特广告体"/>
              </a:rPr>
              <a:t>背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二、（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2-6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）回忆往事 描绘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文鼎中特广告体"/>
              </a:rPr>
              <a:t>背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三、（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）   思念父亲 怀念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文鼎中特广告体"/>
              </a:rPr>
              <a:t>背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22480" y="2492280"/>
            <a:ext cx="1399320" cy="13683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Verdana"/>
              </a:rPr>
              <a:t>线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36000" y="206064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80360" y="3141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308720" y="3284280"/>
            <a:ext cx="7192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1743120"/>
            <a:ext cx="503280" cy="2905200"/>
          </a:xfrm>
          <a:custGeom>
            <a:avLst/>
            <a:gdLst>
              <a:gd name="textAreaLeft" fmla="*/ 321480 w 503280"/>
              <a:gd name="textAreaRight" fmla="*/ 503640 w 503280"/>
              <a:gd name="textAreaTop" fmla="*/ 75600 h 2905200"/>
              <a:gd name="textAreaBottom" fmla="*/ 2829600 h 290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0400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04000" y="342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背 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1752480"/>
            <a:ext cx="6477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开篇设疑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惦记背影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（思念父亲）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0" y="3886200"/>
            <a:ext cx="228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663300"/>
                </a:solidFill>
                <a:latin typeface="宋体"/>
              </a:rPr>
              <a:t>6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solidFill>
                <a:srgbClr val="663300"/>
              </a:solidFill>
              <a:latin typeface="宋体"/>
              <a:ea typeface="宋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600200" y="3429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回忆往事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60" name=""/>
          <p:cNvSpPr/>
          <p:nvPr/>
        </p:nvSpPr>
        <p:spPr>
          <a:xfrm>
            <a:off x="1523880" y="2752560"/>
            <a:ext cx="648648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悲凉气氛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（别时家境）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2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铺垫背影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（细心关照）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4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刻画背影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（望父买橘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惜别背影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（父子分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51181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别后思念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再现背影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（别后怀念）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1676520"/>
            <a:ext cx="1218960" cy="3809880"/>
          </a:xfrm>
          <a:prstGeom prst="upDownArrow">
            <a:avLst>
              <a:gd name="adj1" fmla="val 50000"/>
              <a:gd name="adj2" fmla="val 62221"/>
            </a:avLst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 rot="5400000">
            <a:off x="-723960" y="3467160"/>
            <a:ext cx="335304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ccccff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父子情深</a:t>
            </a:r>
            <a:endParaRPr b="1" lang="en-US" sz="2000" spc="1" strike="noStrike">
              <a:ln w="9360">
                <a:solidFill>
                  <a:srgbClr val="ccccff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 spd="slow">
    <p:blinds dir="horz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104960" y="2819520"/>
            <a:ext cx="1826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Verdana"/>
                <a:ea typeface="汉仪秀英体简"/>
              </a:rPr>
              <a:t>  </a:t>
            </a:r>
            <a:r>
              <a:rPr b="0" lang="zh-CN" sz="5400" spc="-1" strike="noStrike">
                <a:solidFill>
                  <a:srgbClr val="ff0000"/>
                </a:solidFill>
                <a:latin typeface="Verdana"/>
                <a:ea typeface="汉仪秀英体简"/>
              </a:rPr>
              <a:t>叙事</a:t>
            </a:r>
            <a:r>
              <a:rPr b="0" lang="zh-CN" sz="5400" spc="-1" strike="noStrike">
                <a:solidFill>
                  <a:srgbClr val="ff3300"/>
                </a:solidFill>
                <a:latin typeface="Verdana"/>
                <a:ea typeface="汉仪秀英体简"/>
              </a:rPr>
              <a:t>散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1096920"/>
            <a:ext cx="81630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父 亲 的 语 言、动 作 与 服 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06864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父 亲 的 语 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651640" y="3789360"/>
            <a:ext cx="27748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作的缓慢、吃力、笨拙。（表达作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9880" y="1905120"/>
            <a:ext cx="1752840" cy="609480"/>
          </a:xfrm>
          <a:custGeom>
            <a:avLst/>
            <a:gdLst>
              <a:gd name="textAreaLeft" fmla="*/ 273600 w 1752840"/>
              <a:gd name="textAreaRight" fmla="*/ 1533960 w 175284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3733920"/>
            <a:ext cx="2971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父 亲 的 动 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（讨论：有哪些代表性动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3733920"/>
            <a:ext cx="1752480" cy="60948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98108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父亲的质朴、含蓄、内敛、深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5516640"/>
            <a:ext cx="1774800" cy="649080"/>
          </a:xfrm>
          <a:custGeom>
            <a:avLst/>
            <a:gdLst>
              <a:gd name="textAreaLeft" fmla="*/ 277200 w 1774800"/>
              <a:gd name="textAreaRight" fmla="*/ 1553040 w 1774800"/>
              <a:gd name="textAreaTop" fmla="*/ 162360 h 649080"/>
              <a:gd name="textAreaBottom" fmla="*/ 487080 h 64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96000" y="5562720"/>
            <a:ext cx="3201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中宋"/>
              </a:rPr>
              <a:t>与“我”的对比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5562720"/>
            <a:ext cx="320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中宋"/>
              </a:rPr>
              <a:t>父 亲 的 服 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0"/>
            <a:ext cx="353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归纳小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95280" y="1268280"/>
            <a:ext cx="1295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见面背景</a:t>
            </a:r>
            <a:endParaRPr b="0" lang="en-US" sz="2800" spc="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8360" y="2924280"/>
            <a:ext cx="1295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四次流泪</a:t>
            </a:r>
            <a:endParaRPr b="0" lang="en-US" sz="2800" spc="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16360" y="1125360"/>
            <a:ext cx="24782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b2b2b2"/>
                </a:solidFill>
                <a:latin typeface="黑体"/>
              </a:rPr>
              <a:t>(</a:t>
            </a:r>
            <a:r>
              <a:rPr b="0" lang="zh-CN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b2b2b2"/>
                </a:solidFill>
                <a:latin typeface="黑体"/>
              </a:rPr>
              <a:t>祸不单行</a:t>
            </a: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b2b2b2"/>
                </a:solidFill>
                <a:latin typeface="黑体"/>
              </a:rPr>
              <a:t>,</a:t>
            </a:r>
            <a:r>
              <a:rPr b="0" lang="zh-CN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b2b2b2"/>
                </a:solidFill>
                <a:latin typeface="黑体"/>
              </a:rPr>
              <a:t>家境惨淡）</a:t>
            </a:r>
            <a:endParaRPr b="0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b2b2b2"/>
              </a:solidFill>
              <a:latin typeface="黑体"/>
              <a:ea typeface="黑体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9640" y="5013360"/>
            <a:ext cx="129564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四个背影</a:t>
            </a:r>
            <a:endParaRPr b="0" lang="en-US" sz="2800" spc="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477120" y="45720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059280" y="4292640"/>
            <a:ext cx="494964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惦记背影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华文新魏"/>
              </a:rPr>
              <a:t>（思念父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刻画背影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华文新魏"/>
              </a:rPr>
              <a:t>（望父买橘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惜别背影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华文新魏"/>
              </a:rPr>
              <a:t>（父子分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再现背影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华文新魏"/>
              </a:rPr>
              <a:t>（别后怀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8120" y="1916280"/>
            <a:ext cx="60958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华文新魏"/>
                <a:ea typeface="华文新魏"/>
              </a:rPr>
              <a:t>悲哀之泪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见父亲 睹家境 想祖母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华文新魏"/>
                <a:ea typeface="华文新魏"/>
              </a:rPr>
              <a:t>感动之泪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望父亲买橘 父子离别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华文新魏"/>
                <a:ea typeface="华文新魏"/>
              </a:rPr>
              <a:t>感伤之泪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背影远去依依惜别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华文新魏"/>
                <a:ea typeface="华文新魏"/>
              </a:rPr>
              <a:t>伤心之泪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现背影 泪光莹莹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87640" y="907920"/>
            <a:ext cx="205740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祖母死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父亲失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135000" y="333360"/>
            <a:ext cx="9009000" cy="1052640"/>
            <a:chOff x="135000" y="333360"/>
            <a:chExt cx="9009000" cy="1052640"/>
          </a:xfrm>
        </p:grpSpPr>
        <p:grpSp>
          <p:nvGrpSpPr>
            <p:cNvPr id="284" name=""/>
            <p:cNvGrpSpPr/>
            <p:nvPr/>
          </p:nvGrpSpPr>
          <p:grpSpPr>
            <a:xfrm>
              <a:off x="425520" y="441360"/>
              <a:ext cx="711360" cy="474840"/>
              <a:chOff x="425520" y="441360"/>
              <a:chExt cx="711360" cy="474840"/>
            </a:xfrm>
          </p:grpSpPr>
          <p:sp>
            <p:nvSpPr>
              <p:cNvPr id="285" name=""/>
              <p:cNvSpPr/>
              <p:nvPr/>
            </p:nvSpPr>
            <p:spPr>
              <a:xfrm>
                <a:off x="425520" y="441360"/>
                <a:ext cx="437400" cy="474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08560" y="44136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549360" y="863640"/>
              <a:ext cx="737640" cy="474840"/>
              <a:chOff x="549360" y="863640"/>
              <a:chExt cx="737640" cy="474840"/>
            </a:xfrm>
          </p:grpSpPr>
          <p:sp>
            <p:nvSpPr>
              <p:cNvPr id="288" name=""/>
              <p:cNvSpPr/>
              <p:nvPr/>
            </p:nvSpPr>
            <p:spPr>
              <a:xfrm>
                <a:off x="549360" y="86364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18000" y="86364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35000" y="7905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0040" y="33336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451080" y="11556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908000" y="33336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朱自清父亲读《背影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1268280"/>
            <a:ext cx="8497800" cy="1191240"/>
          </a:xfrm>
          <a:prstGeom prst="rect">
            <a:avLst/>
          </a:prstGeom>
          <a:solidFill>
            <a:srgbClr val="00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928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年，我家已搬至扬州东关街仁丰里一所简陋的屋子。秋日的一天，我接到了开明书店寄赠的《背影》散文集，我手捧书本，不敢怠慢，一口气奔上二楼父亲卧室，让他老人家先睹为快。父亲已行动不便，挪到窗前，依靠在小椅上，戴上了老花眼镜，一字一句诵读着儿子的文章《背影》，只见他的手不住地颤抖，昏黄的眼珠，好像猛然放射出光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485080" y="9158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Verdana"/>
              </a:rPr>
              <a:t>《背影》的艺术特色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55080" y="198792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民族化：</a:t>
            </a:r>
            <a:r>
              <a:rPr b="1" lang="zh-CN" sz="2400" spc="-1" strike="noStrike">
                <a:solidFill>
                  <a:srgbClr val="ccc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27160" y="2450520"/>
            <a:ext cx="329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《背影》的语言非常忠实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朴素</a:t>
            </a:r>
            <a:r>
              <a:rPr b="1" lang="zh-CN" sz="2400" spc="-1" strike="noStrike">
                <a:solidFill>
                  <a:srgbClr val="ccccff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又非常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典雅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文质。这种高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民族化的语言，和《背影》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所表现的民族的精神气质，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《背影》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文章的完美结构</a:t>
            </a:r>
            <a:r>
              <a:rPr b="1" lang="zh-CN" sz="2400" spc="-1" strike="noStrike">
                <a:solidFill>
                  <a:srgbClr val="ccccff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恰成和谐的统一。没有《背影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语言的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明丽典雅、古朴质实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，就没有《背影》的一切风采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93520" y="405036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简洁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10960" y="4506480"/>
            <a:ext cx="511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文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通体干净，没有多余的字眼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即使一个“的”字、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了”字，也是必须用才用。除了夹入了一些文言词语以外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没有华美的辞藻，生僻的词语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都是质朴自然的家常话，生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气息非常浓厚，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提炼得非常简洁。</a:t>
            </a:r>
            <a:r>
              <a:rPr b="1" lang="zh-CN" sz="2400" spc="-1" strike="noStrike">
                <a:solidFill>
                  <a:srgbClr val="cccc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485080" y="9158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Verdana"/>
              </a:rPr>
              <a:t>《背影》的艺术特色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33120" y="198792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朴实：</a:t>
            </a:r>
            <a:r>
              <a:rPr b="1" lang="zh-CN" sz="2400" spc="-1" strike="noStrike">
                <a:solidFill>
                  <a:srgbClr val="cccc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4000" y="2418840"/>
            <a:ext cx="106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《背影》全用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白描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记叙事实</a:t>
            </a:r>
            <a:r>
              <a:rPr b="1" lang="zh-CN" sz="2400" spc="-1" strike="noStrike">
                <a:solidFill>
                  <a:srgbClr val="ccccff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不作任何修饰、渲染。</a:t>
            </a:r>
            <a:r>
              <a:rPr b="1" lang="zh-CN" sz="2400" spc="-1" strike="noStrike">
                <a:solidFill>
                  <a:srgbClr val="ccc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通篇写父亲多么关心爱护儿子，儿子又是多么感激思念父亲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但像“关心”“爱护”“感激”这一类的抽象现成的字眼，文章中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一个也没有用，更没有什么华丽的词藻。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大朴正是大巧的表现。</a:t>
            </a:r>
            <a:r>
              <a:rPr b="0" lang="zh-CN" sz="2400" spc="-1" strike="noStrike">
                <a:solidFill>
                  <a:srgbClr val="ccc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93520" y="405036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感人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08440" y="4604400"/>
            <a:ext cx="548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语言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平实简洁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，却能传达出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无限深情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是文章语言又一特色。全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文字平平实实，但字里行间渗透着一种深切怀念之情，因而十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感人。话都是很平常的，没有什么特别，读者都有这种生活经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因此也容易引起联想，由此发现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人世间普遍平平常常而又最为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贵的美好感情，给人以性情的陶冶，增进人们对天下父母心的理解。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485080" y="9158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《背影》的艺术特色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56600" y="19879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白描手法：</a:t>
            </a:r>
            <a:r>
              <a:rPr b="1" lang="zh-CN" sz="2400" spc="-1" strike="noStrike">
                <a:solidFill>
                  <a:srgbClr val="cccc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2353320"/>
            <a:ext cx="106570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所谓白描，就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不设喻</a:t>
            </a:r>
            <a:r>
              <a:rPr b="1" lang="zh-CN" sz="2800" spc="-1" strike="noStrike">
                <a:solidFill>
                  <a:srgbClr val="ccccff"/>
                </a:solidFill>
                <a:latin typeface="Verdana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不加形容和修饰，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用质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的文字，把当时的情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如实地记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写出来，给读者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身临目击之感。换句话说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白描是用叙述的方法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行描写，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达到再现实景的艺术效果。</a:t>
            </a:r>
            <a:r>
              <a:rPr b="0" lang="zh-CN" sz="2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如文中“望父买橘”的场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057400" cy="48006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07880" y="220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ccccff"/>
                </a:solidFill>
                <a:latin typeface="Verdana"/>
                <a:ea typeface="华文彩云"/>
              </a:rPr>
              <a:t>背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38280" y="1295280"/>
            <a:ext cx="2971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火车就要开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我就要走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离别就要来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话怎么说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眼看天气秋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叶子在哭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转身是背影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你就进了往事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81480" y="1430280"/>
            <a:ext cx="38862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我知道这以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以后的以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可能再见不到你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只是那时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极不愿意承认这念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于是你转身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转身了以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那背影在这么多年以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还能够鲜活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在我的眼眶中微微颤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微微颤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47760" y="152280"/>
            <a:ext cx="13993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歌曲欣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8388360" y="2349360"/>
            <a:ext cx="449280" cy="449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592" dur="indefinite" restart="never" nodeType="tmRoot">
          <p:childTnLst>
            <p:seq>
              <p:cTn id="593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7" dur="270969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4360" y="1052640"/>
            <a:ext cx="806580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按课文内容填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3333cc"/>
                </a:solidFill>
                <a:uFillTx/>
                <a:latin typeface="Verdana"/>
                <a:ea typeface="隶书"/>
              </a:rPr>
              <a:t>　</a:t>
            </a:r>
            <a:r>
              <a:rPr b="1" lang="zh-CN" sz="4800" spc="-1" strike="noStrike" u="sng">
                <a:solidFill>
                  <a:srgbClr val="ff33cc"/>
                </a:solidFill>
                <a:uFillTx/>
                <a:latin typeface="Verdana"/>
                <a:ea typeface="隶书"/>
              </a:rPr>
              <a:t>　　　　　　　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03280" y="1341360"/>
            <a:ext cx="6717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2565360"/>
            <a:ext cx="82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《背影》一文选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作者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这篇文章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语言，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线索，反映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主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11640" y="249228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《朱自清散文全集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40000" y="3068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朱自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42920" y="3645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平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67280" y="3645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背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92360" y="4149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父子情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0" y="333360"/>
            <a:ext cx="91440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阅读第六段</a:t>
            </a:r>
            <a:r>
              <a:rPr b="1" lang="zh-CN" sz="3200" spc="-1" strike="noStrike">
                <a:solidFill>
                  <a:srgbClr val="800000"/>
                </a:solidFill>
                <a:latin typeface="Verdan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1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、文段对父亲“背影”的描写主从</a:t>
            </a:r>
            <a:r>
              <a:rPr b="0" lang="zh-CN" sz="3300" spc="-1" strike="noStrike" u="sng">
                <a:solidFill>
                  <a:srgbClr val="0000ff"/>
                </a:solidFill>
                <a:uFillTx/>
                <a:latin typeface="Verdana"/>
                <a:ea typeface="隶书"/>
              </a:rPr>
              <a:t>     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和</a:t>
            </a:r>
            <a:r>
              <a:rPr b="0" lang="zh-CN" sz="3300" spc="-1" strike="noStrike" u="sng">
                <a:solidFill>
                  <a:srgbClr val="0000ff"/>
                </a:solidFill>
                <a:uFillTx/>
                <a:latin typeface="Verdana"/>
                <a:ea typeface="隶书"/>
              </a:rPr>
              <a:t>      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两方面详细刻画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2 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、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“我的眼泪又来了”这里的“又”字照应了前一句“</a:t>
            </a:r>
            <a:r>
              <a:rPr b="0" lang="zh-CN" sz="3300" spc="-1" strike="noStrike" u="sng">
                <a:solidFill>
                  <a:srgbClr val="0000ff"/>
                </a:solidFill>
                <a:uFillTx/>
                <a:latin typeface="Verdana"/>
                <a:ea typeface="隶书"/>
              </a:rPr>
              <a:t>                                 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”，这泪水，前面的是</a:t>
            </a:r>
            <a:r>
              <a:rPr b="0" lang="zh-CN" sz="3300" spc="-1" strike="noStrike" u="sng">
                <a:solidFill>
                  <a:srgbClr val="0000ff"/>
                </a:solidFill>
                <a:uFillTx/>
                <a:latin typeface="Verdana"/>
                <a:ea typeface="隶书"/>
              </a:rPr>
              <a:t>      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之泪，后者是</a:t>
            </a:r>
            <a:r>
              <a:rPr b="0" lang="zh-CN" sz="3300" spc="-1" strike="noStrike" u="sng">
                <a:solidFill>
                  <a:srgbClr val="0000ff"/>
                </a:solidFill>
                <a:uFillTx/>
                <a:latin typeface="Verdana"/>
                <a:ea typeface="隶书"/>
              </a:rPr>
              <a:t>      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之泪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3 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、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“我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  <a:ea typeface="隶书"/>
              </a:rPr>
              <a:t>赶紧拭干了泪，怕他看见，也怕别人看见”两个“怕”字含义不同，前者是“怕”</a:t>
            </a:r>
            <a:r>
              <a:rPr b="0" lang="zh-CN" sz="3300" spc="-1" strike="noStrike" u="sng">
                <a:solidFill>
                  <a:srgbClr val="0000ff"/>
                </a:solidFill>
                <a:uFillTx/>
                <a:latin typeface="Verdana"/>
                <a:ea typeface="隶书"/>
              </a:rPr>
              <a:t>                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，后者是”怕”</a:t>
            </a:r>
            <a:r>
              <a:rPr b="0" lang="zh-CN" sz="3200" spc="-1" strike="noStrike">
                <a:solidFill>
                  <a:srgbClr val="3333cc"/>
                </a:solidFill>
                <a:latin typeface="Verdana"/>
                <a:ea typeface="隶书"/>
              </a:rPr>
              <a:t> 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Verdana"/>
                <a:ea typeface="隶书"/>
              </a:rPr>
              <a:t>                      </a:t>
            </a:r>
            <a:r>
              <a:rPr b="0" lang="zh-CN" sz="3200" spc="-1" strike="noStrike">
                <a:solidFill>
                  <a:srgbClr val="3333cc"/>
                </a:solidFill>
                <a:latin typeface="Verdana"/>
                <a:ea typeface="隶书"/>
              </a:rPr>
              <a:t>。　</a:t>
            </a:r>
            <a:r>
              <a:rPr b="0" lang="zh-CN" sz="3200" spc="-1" strike="noStrike">
                <a:solidFill>
                  <a:srgbClr val="3366ff"/>
                </a:solidFill>
                <a:latin typeface="Verdana"/>
                <a:ea typeface="隶书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84720" y="1052640"/>
            <a:ext cx="104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外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16720" y="1773360"/>
            <a:ext cx="86364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36000" y="1052640"/>
            <a:ext cx="104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动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00000" y="2852640"/>
            <a:ext cx="46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我的眼泪很快的流下来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00000" y="3357720"/>
            <a:ext cx="104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感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56000" y="3384720"/>
            <a:ext cx="111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离别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40000" y="5084640"/>
            <a:ext cx="31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别人见了难为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12000" y="4581360"/>
            <a:ext cx="273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父亲见了伤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50920" y="476280"/>
            <a:ext cx="8534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4 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、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 找出文中描写父亲买橘子的动作（至少五个）并分析其作用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989000"/>
            <a:ext cx="853452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答案：</a:t>
            </a:r>
            <a:r>
              <a:rPr b="0" lang="zh-CN" sz="3300" spc="-1" strike="noStrike">
                <a:solidFill>
                  <a:srgbClr val="ff00ff"/>
                </a:solidFill>
                <a:latin typeface="Verdana"/>
                <a:ea typeface="华文行楷"/>
              </a:rPr>
              <a:t>动作：走、探、穿、爬、攀、缩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00ff"/>
                </a:solidFill>
                <a:latin typeface="Verdana"/>
                <a:ea typeface="华文行楷"/>
              </a:rPr>
              <a:t>        </a:t>
            </a:r>
            <a:r>
              <a:rPr b="0" lang="zh-CN" sz="3300" spc="-1" strike="noStrike">
                <a:solidFill>
                  <a:srgbClr val="ff00ff"/>
                </a:solidFill>
                <a:latin typeface="Verdana"/>
                <a:ea typeface="华文行楷"/>
              </a:rPr>
              <a:t>作用：突出父亲行动的艰难，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00ff"/>
                </a:solidFill>
                <a:latin typeface="Verdana"/>
                <a:ea typeface="华文行楷"/>
              </a:rPr>
              <a:t>                 </a:t>
            </a:r>
            <a:r>
              <a:rPr b="0" lang="zh-CN" sz="3300" spc="-1" strike="noStrike">
                <a:solidFill>
                  <a:srgbClr val="ff00ff"/>
                </a:solidFill>
                <a:latin typeface="Verdana"/>
                <a:ea typeface="华文行楷"/>
              </a:rPr>
              <a:t>父亲的爱子之情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4653000"/>
            <a:ext cx="8534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5 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、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仿照父亲买橘子的句子写一段话。（至少用上五个动词）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240" y="151920"/>
            <a:ext cx="531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汉仪秀英体简"/>
                <a:ea typeface="汉仪秀英体简"/>
              </a:rPr>
              <a:t>作 者 简 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5977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现代散文家、诗人，学者，民主战士。字佩弦。江苏扬州人，原籍浙江绍兴。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曾在清华大学、西南联合大学任教。抗日战争结束后，积极支持反对国民党反动统治的学生运动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948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月因贫病在北平逝世，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年仅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50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岁的</a:t>
            </a: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毛泽东在《别了，司徒雷登》一文中称赞他：“朱自清一身重病，宁可饿死，不领美国的救济粮，” “表现了我们民族的英雄气概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著有散文诗集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《踪迹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散文集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《背影》、《欧游杂记》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等。他的散文以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语言洗练、文笔秀丽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著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65720" y="838080"/>
            <a:ext cx="2901960" cy="4942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945880" y="616572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09cc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409cc"/>
                </a:solidFill>
                <a:latin typeface="黑体"/>
                <a:ea typeface="黑体"/>
              </a:rPr>
              <a:t>背得美文三百篇     不愁笔下无佳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23184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133720" y="762120"/>
            <a:ext cx="4103640" cy="761760"/>
          </a:xfrm>
          <a:custGeom>
            <a:avLst/>
            <a:gdLst>
              <a:gd name="textAreaLeft" fmla="*/ 1026000 w 4103640"/>
              <a:gd name="textAreaRight" fmla="*/ 3078000 w 4103640"/>
              <a:gd name="textAreaTop" fmla="*/ 190440 h 761760"/>
              <a:gd name="textAreaBottom" fmla="*/ 739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教师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16002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本文的语言朴实无华，却能用简洁的文字产打出无限深情，其实最好的已经并且一直在我们身边，只是我们还没有留心体会。请大家用心观察生活中的简单之美，由此发现人世间最普遍的而又最为宝贵的美好感情，增进大家对天下父母心的理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00000" y="53006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影愈淡而情愈浓，人愈远而心愈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838080" y="17524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华文行楷"/>
              </a:rPr>
              <a:t>这篇文章有一种感人的力量，请问这种力量从何而来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2120" y="365760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入微的细节描写－－－外貌描写，动作描写，语言描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65840" y="53150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独特的角度－－－父亲的背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33720" y="762120"/>
            <a:ext cx="4103640" cy="761760"/>
          </a:xfrm>
          <a:custGeom>
            <a:avLst/>
            <a:gdLst>
              <a:gd name="textAreaLeft" fmla="*/ 1026000 w 4103640"/>
              <a:gd name="textAreaRight" fmla="*/ 3078000 w 4103640"/>
              <a:gd name="textAreaTop" fmla="*/ 190440 h 761760"/>
              <a:gd name="textAreaBottom" fmla="*/ 739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师生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990720" y="304920"/>
            <a:ext cx="4895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拓展延伸，感受深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46" name=""/>
          <p:cNvSpPr/>
          <p:nvPr/>
        </p:nvSpPr>
        <p:spPr>
          <a:xfrm>
            <a:off x="762120" y="18288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在你 的人生经历中，你的父母肯定也给予了你许许多多的关爱。想一想，其中的哪件事最令你感动，说出来与大家交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403848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青春年少，我们也曾对挚爱我们的父母任性过也有误解过他们的爱心，请以“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幼圆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我想对您说”为开头给你的亲人写一张字条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幼圆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rcRect l="28001" t="11332" r="29003" b="22003"/>
          <a:stretch/>
        </p:blipFill>
        <p:spPr>
          <a:xfrm>
            <a:off x="4800600" y="228600"/>
            <a:ext cx="4343400" cy="6477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073880" y="54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Palatino Linotype"/>
                <a:ea typeface="楷体_GB2312"/>
              </a:rPr>
              <a:t>课后作业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42040" y="1557360"/>
            <a:ext cx="435024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一、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反复朗读课文，体会课文抒发的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二、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你父母疼爱你的哪件事深深感动你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请将事件的经过写出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黑体"/>
              </a:rPr>
              <a:t>完成“敬老祝语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黑体"/>
              </a:rPr>
              <a:t>四、背诵第六自然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4880" y="1072080"/>
            <a:ext cx="530424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朱自清的高风亮节，赢得了人民的敬仰，赢得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毛泽东同志的高度评价。他在《别了，司徒雷登》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文中写到：“闻一多拍案而起，横眉怒对国民党的手枪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宁可倒下去，不愿屈服。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朱自清一身重病，宁可饿死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领美国的救济粮。</a:t>
            </a: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”“我们应当写闻一多颂，写朱自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颂，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他们表现了我们民族的英雄气概</a:t>
            </a: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3203640" cy="4437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124080" y="3048120"/>
            <a:ext cx="2700360" cy="3632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47242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朱自清与叶圣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2096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与夫人合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784840" y="1447920"/>
            <a:ext cx="3359160" cy="4127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356400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572000" cy="470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53400" y="457200"/>
            <a:ext cx="210888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《背影》，一篇娓娓道来的文字，何以在文坛不朽？正在于它是一记情感的重锤，重重地敲击在人的心灵共鸣点上。在这里，背影的一瞬化作了永恒，一个背影力敌万语千言的倾诉。背影，恰似一道情感的闪电，照彻千千万万颗赤子之心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57920" y="762120"/>
            <a:ext cx="16426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隶书"/>
              </a:rPr>
              <a:t>江泽民同志为纪念朱自清逝世四十周年题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404640"/>
            <a:ext cx="89154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正音练习：给加底线的词注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交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卸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xiè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  奔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丧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āng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 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橘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子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jú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晶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莹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yīng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腐（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yú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   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琐屑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suǒxiè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栅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栏（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zhà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 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差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使（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chāi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 照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看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行李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kān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踌躇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chóu chú )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蹒跚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 pánshān )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颓唐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tuí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举箸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zhù)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簌簌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sù sù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123" descr=""/>
          <p:cNvPicPr/>
          <p:nvPr/>
        </p:nvPicPr>
        <p:blipFill>
          <a:blip r:embed="rId1"/>
          <a:stretch/>
        </p:blipFill>
        <p:spPr>
          <a:xfrm>
            <a:off x="7162920" y="5410080"/>
            <a:ext cx="1120680" cy="94932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228600" y="4587840"/>
            <a:ext cx="8001000" cy="2269800"/>
            <a:chOff x="228600" y="4587840"/>
            <a:chExt cx="8001000" cy="2269800"/>
          </a:xfrm>
        </p:grpSpPr>
        <p:sp>
          <p:nvSpPr>
            <p:cNvPr id="77" name=""/>
            <p:cNvSpPr/>
            <p:nvPr/>
          </p:nvSpPr>
          <p:spPr>
            <a:xfrm>
              <a:off x="228600" y="4602240"/>
              <a:ext cx="1523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14600" y="4587840"/>
              <a:ext cx="1523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95680" y="4587840"/>
              <a:ext cx="16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29400" y="4587840"/>
              <a:ext cx="16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8600" y="6156000"/>
              <a:ext cx="1828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29400" y="6156000"/>
              <a:ext cx="1523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6156000"/>
              <a:ext cx="16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95680" y="6141600"/>
              <a:ext cx="16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28600" y="1828800"/>
            <a:ext cx="8534520" cy="3597120"/>
            <a:chOff x="228600" y="1828800"/>
            <a:chExt cx="8534520" cy="3597120"/>
          </a:xfrm>
        </p:grpSpPr>
        <p:sp>
          <p:nvSpPr>
            <p:cNvPr id="86" name=""/>
            <p:cNvSpPr/>
            <p:nvPr/>
          </p:nvSpPr>
          <p:spPr>
            <a:xfrm>
              <a:off x="1219320" y="182880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24080" y="1828800"/>
              <a:ext cx="12956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43400" y="1828800"/>
              <a:ext cx="2362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58000" y="182880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600" y="3352680"/>
              <a:ext cx="2362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43200" y="335268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48320" y="3352680"/>
              <a:ext cx="1676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67480" y="3429000"/>
              <a:ext cx="12956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920" y="472428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81280" y="4724280"/>
              <a:ext cx="6098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00600" y="4724280"/>
              <a:ext cx="7621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38880" y="4648320"/>
              <a:ext cx="12956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7160" y="231840"/>
            <a:ext cx="8910360" cy="6626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28800" y="380880"/>
            <a:ext cx="374796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Verdana"/>
                <a:ea typeface="华文新魏"/>
              </a:rPr>
              <a:t>写作背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1905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《背影》写于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月，当时作者在清华大学任教。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1917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年冬，作者祖母去世，父亲朱鸿钧原任徐州烟酒公卖局局长，被解职。文中的“祸不单行”正是指这两件事。作者当时在北大哲学系读书，得知祖母去世，从北京赶到徐州与父亲一道回扬州奔丧。丧事完毕，父亲到南京找工作，作者回北京念书，父子在浦口车站惜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10:04:41Z</dcterms:created>
  <dc:creator>253</dc:creator>
  <dc:description/>
  <dc:language>en-US</dc:language>
  <cp:lastModifiedBy>user</cp:lastModifiedBy>
  <dcterms:modified xsi:type="dcterms:W3CDTF">2010-12-18T02:59:08Z</dcterms:modified>
  <cp:revision>10</cp:revision>
  <dc:subject/>
  <dc:title>PowerPoint 演示文稿</dc:title>
</cp:coreProperties>
</file>